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BCB-CA46-4DF2-AB5C-EFF71E20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B92-9DAE-47CE-99DF-A1A4265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A96-55D7-473C-A993-997DFB1A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2F7-9D36-4491-B21C-AC15D848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F1A5-7D98-4541-961E-D7D154DC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E105F-5F14-4B21-84A2-D449E21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62F5D-7905-4149-900B-F16BACFB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5774D-DF66-4D46-8C6F-AD133838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D0F41-E8BA-4C12-8A81-19F3471E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77E8B-29E4-486A-BF87-15860E55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1CBA1-08DA-400D-BD58-B3E42C6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ABC-6F50-4AAF-88B0-DE9693FC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77FB2-74E8-457C-A0B0-50ECC2A7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BB32E-88C0-4B00-B275-B6CEE8E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D96BB-5077-4383-8B9B-D645D7DA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8088F-740D-465E-A1EB-75A5A4E5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45E61-7384-4130-BD8F-2285B959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13B6-5BA0-4110-BB46-9ED0F63A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83D2-97D0-442D-A2A7-B4272551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AD96-9470-4A0F-ACD8-F1D80336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935C-464B-433A-BB2D-CFF36C7E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0315-4F17-4185-A2AA-9AE0E667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067-5A2F-41EC-BBB7-D2368AF0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0C8E-33DD-452C-9E2D-29900F2A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A5A5-B8D6-4B1B-8908-D9B9DEE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4D2C-5237-4DE7-B63F-FA08B57D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30AE-39D8-4E10-930B-33FA360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8593-D8B8-4522-B814-AF81689D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E8F9-8D83-4D63-8D4F-920033D6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EF59-2714-4755-A0E5-1729E6CF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4CC-94D6-47BE-849D-A676374E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E38-2693-47FF-A9E1-CBEC174F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551-59E6-427F-88B5-84B5EDE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FCC-8F3E-4087-A2E4-F54001D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D61-7E26-4331-BD9E-0524223C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D5F-DE87-4F61-A335-ECC9ED46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DF44-6353-40EF-8E97-C28D5EF24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7BB1-76CC-414C-9CFA-73EF19EB4A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5B4C-7099-490E-80AA-DED25719D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15) + 1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8 + -5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6 -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2 - (-85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1197000"/>
            <a:ext cx="250560" cy="241200"/>
          </a:xfrm>
          <a:custGeom>
            <a:avLst/>
            <a:gdLst/>
            <a:ahLst/>
            <a:rect l="l" t="t" r="r" b="b"/>
            <a:pathLst>
              <a:path w="696" h="671">
                <a:moveTo>
                  <a:pt x="4316" y="3373"/>
                </a:moveTo>
                <a:cubicBezTo>
                  <a:pt x="4278" y="3386"/>
                  <a:pt x="4291" y="3403"/>
                  <a:pt x="4291" y="3448"/>
                </a:cubicBezTo>
                <a:cubicBezTo>
                  <a:pt x="4291" y="3630"/>
                  <a:pt x="4291" y="3812"/>
                  <a:pt x="4291" y="3994"/>
                </a:cubicBezTo>
              </a:path>
              <a:path w="696" h="671">
                <a:moveTo>
                  <a:pt x="4986" y="3324"/>
                </a:moveTo>
                <a:cubicBezTo>
                  <a:pt x="4889" y="3324"/>
                  <a:pt x="4773" y="3319"/>
                  <a:pt x="4713" y="3349"/>
                </a:cubicBezTo>
                <a:cubicBezTo>
                  <a:pt x="4668" y="3372"/>
                  <a:pt x="4663" y="3329"/>
                  <a:pt x="4663" y="3398"/>
                </a:cubicBezTo>
                <a:cubicBezTo>
                  <a:pt x="4663" y="3489"/>
                  <a:pt x="4663" y="3580"/>
                  <a:pt x="4663" y="3671"/>
                </a:cubicBezTo>
                <a:cubicBezTo>
                  <a:pt x="4709" y="3671"/>
                  <a:pt x="4727" y="3677"/>
                  <a:pt x="4762" y="3646"/>
                </a:cubicBezTo>
                <a:cubicBezTo>
                  <a:pt x="4810" y="3602"/>
                  <a:pt x="4819" y="3597"/>
                  <a:pt x="4887" y="3597"/>
                </a:cubicBezTo>
                <a:cubicBezTo>
                  <a:pt x="4915" y="3597"/>
                  <a:pt x="4974" y="3583"/>
                  <a:pt x="4986" y="3621"/>
                </a:cubicBezTo>
                <a:cubicBezTo>
                  <a:pt x="5003" y="3675"/>
                  <a:pt x="5006" y="3880"/>
                  <a:pt x="4961" y="3919"/>
                </a:cubicBezTo>
                <a:cubicBezTo>
                  <a:pt x="4932" y="3944"/>
                  <a:pt x="4882" y="3969"/>
                  <a:pt x="4837" y="3969"/>
                </a:cubicBezTo>
                <a:cubicBezTo>
                  <a:pt x="4789" y="3969"/>
                  <a:pt x="4752" y="3913"/>
                  <a:pt x="4738" y="3870"/>
                </a:cubicBezTo>
                <a:cubicBezTo>
                  <a:pt x="4726" y="3833"/>
                  <a:pt x="4713" y="3814"/>
                  <a:pt x="4713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87720" y="1411200"/>
            <a:ext cx="14256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6077" y="3944"/>
                </a:moveTo>
                <a:cubicBezTo>
                  <a:pt x="6147" y="3944"/>
                  <a:pt x="6193" y="3938"/>
                  <a:pt x="6251" y="3919"/>
                </a:cubicBezTo>
                <a:cubicBezTo>
                  <a:pt x="6310" y="3899"/>
                  <a:pt x="6411" y="3919"/>
                  <a:pt x="6474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27200" y="1197000"/>
            <a:ext cx="312840" cy="303120"/>
          </a:xfrm>
          <a:custGeom>
            <a:avLst/>
            <a:gdLst/>
            <a:ahLst/>
            <a:rect l="l" t="t" r="r" b="b"/>
            <a:pathLst>
              <a:path w="869" h="844">
                <a:moveTo>
                  <a:pt x="7020" y="3547"/>
                </a:moveTo>
                <a:cubicBezTo>
                  <a:pt x="7020" y="3653"/>
                  <a:pt x="7000" y="3774"/>
                  <a:pt x="7045" y="3870"/>
                </a:cubicBezTo>
                <a:cubicBezTo>
                  <a:pt x="7068" y="3920"/>
                  <a:pt x="7069" y="3941"/>
                  <a:pt x="7069" y="3994"/>
                </a:cubicBezTo>
                <a:cubicBezTo>
                  <a:pt x="7069" y="4018"/>
                  <a:pt x="7069" y="4027"/>
                  <a:pt x="7069" y="4043"/>
                </a:cubicBezTo>
              </a:path>
              <a:path w="869" h="844">
                <a:moveTo>
                  <a:pt x="7342" y="3547"/>
                </a:moveTo>
                <a:cubicBezTo>
                  <a:pt x="7361" y="3472"/>
                  <a:pt x="7367" y="3449"/>
                  <a:pt x="7441" y="3398"/>
                </a:cubicBezTo>
                <a:cubicBezTo>
                  <a:pt x="7499" y="3358"/>
                  <a:pt x="7545" y="3329"/>
                  <a:pt x="7615" y="3324"/>
                </a:cubicBezTo>
                <a:cubicBezTo>
                  <a:pt x="7656" y="3321"/>
                  <a:pt x="7698" y="3324"/>
                  <a:pt x="7739" y="3324"/>
                </a:cubicBezTo>
                <a:cubicBezTo>
                  <a:pt x="7739" y="3447"/>
                  <a:pt x="7757" y="3590"/>
                  <a:pt x="7714" y="3696"/>
                </a:cubicBezTo>
                <a:cubicBezTo>
                  <a:pt x="7690" y="3756"/>
                  <a:pt x="7640" y="3872"/>
                  <a:pt x="7590" y="3919"/>
                </a:cubicBezTo>
                <a:cubicBezTo>
                  <a:pt x="7562" y="3945"/>
                  <a:pt x="7505" y="3993"/>
                  <a:pt x="7491" y="4018"/>
                </a:cubicBezTo>
                <a:cubicBezTo>
                  <a:pt x="7478" y="4041"/>
                  <a:pt x="7453" y="4091"/>
                  <a:pt x="7441" y="4118"/>
                </a:cubicBezTo>
                <a:cubicBezTo>
                  <a:pt x="7425" y="4154"/>
                  <a:pt x="7435" y="4156"/>
                  <a:pt x="7392" y="4167"/>
                </a:cubicBezTo>
                <a:cubicBezTo>
                  <a:pt x="7480" y="4109"/>
                  <a:pt x="7561" y="4044"/>
                  <a:pt x="7665" y="4018"/>
                </a:cubicBezTo>
                <a:cubicBezTo>
                  <a:pt x="7730" y="4002"/>
                  <a:pt x="7820" y="4018"/>
                  <a:pt x="7888" y="40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97200" y="1384200"/>
            <a:ext cx="320760" cy="384120"/>
          </a:xfrm>
          <a:custGeom>
            <a:avLst/>
            <a:gdLst/>
            <a:ahLst/>
            <a:rect l="l" t="t" r="r" b="b"/>
            <a:pathLst>
              <a:path w="894" h="1067">
                <a:moveTo>
                  <a:pt x="10790" y="3894"/>
                </a:moveTo>
                <a:cubicBezTo>
                  <a:pt x="10790" y="3870"/>
                  <a:pt x="10790" y="3861"/>
                  <a:pt x="10790" y="3845"/>
                </a:cubicBezTo>
                <a:cubicBezTo>
                  <a:pt x="10872" y="3845"/>
                  <a:pt x="11023" y="3825"/>
                  <a:pt x="11063" y="3870"/>
                </a:cubicBezTo>
                <a:cubicBezTo>
                  <a:pt x="11109" y="3921"/>
                  <a:pt x="11112" y="3951"/>
                  <a:pt x="11112" y="4018"/>
                </a:cubicBezTo>
                <a:cubicBezTo>
                  <a:pt x="11112" y="4071"/>
                  <a:pt x="11122" y="4122"/>
                  <a:pt x="11088" y="4167"/>
                </a:cubicBezTo>
                <a:cubicBezTo>
                  <a:pt x="11022" y="4254"/>
                  <a:pt x="10968" y="4337"/>
                  <a:pt x="10889" y="4415"/>
                </a:cubicBezTo>
                <a:cubicBezTo>
                  <a:pt x="10864" y="4440"/>
                  <a:pt x="10856" y="4448"/>
                  <a:pt x="10840" y="4465"/>
                </a:cubicBezTo>
                <a:cubicBezTo>
                  <a:pt x="10854" y="4405"/>
                  <a:pt x="10878" y="4395"/>
                  <a:pt x="10939" y="4390"/>
                </a:cubicBezTo>
                <a:cubicBezTo>
                  <a:pt x="11008" y="4384"/>
                  <a:pt x="11076" y="4400"/>
                  <a:pt x="11112" y="4415"/>
                </a:cubicBezTo>
                <a:cubicBezTo>
                  <a:pt x="11153" y="4433"/>
                  <a:pt x="11157" y="4432"/>
                  <a:pt x="11162" y="4490"/>
                </a:cubicBezTo>
                <a:cubicBezTo>
                  <a:pt x="11170" y="4579"/>
                  <a:pt x="11197" y="4770"/>
                  <a:pt x="11137" y="4837"/>
                </a:cubicBezTo>
                <a:cubicBezTo>
                  <a:pt x="11094" y="4886"/>
                  <a:pt x="11077" y="4906"/>
                  <a:pt x="11013" y="4911"/>
                </a:cubicBezTo>
                <a:cubicBezTo>
                  <a:pt x="10972" y="4914"/>
                  <a:pt x="10861" y="4929"/>
                  <a:pt x="10840" y="4887"/>
                </a:cubicBezTo>
                <a:cubicBezTo>
                  <a:pt x="10828" y="4862"/>
                  <a:pt x="10798" y="4853"/>
                  <a:pt x="10790" y="4837"/>
                </a:cubicBezTo>
                <a:cubicBezTo>
                  <a:pt x="10790" y="4829"/>
                  <a:pt x="10790" y="4820"/>
                  <a:pt x="10790" y="4812"/>
                </a:cubicBezTo>
              </a:path>
              <a:path w="894" h="1067">
                <a:moveTo>
                  <a:pt x="10269" y="4217"/>
                </a:moveTo>
                <a:cubicBezTo>
                  <a:pt x="10401" y="4217"/>
                  <a:pt x="10534" y="4217"/>
                  <a:pt x="10666" y="42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2880" y="3463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507" y="9624"/>
                </a:moveTo>
                <a:lnTo>
                  <a:pt x="5507" y="962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0280" y="2884320"/>
            <a:ext cx="214560" cy="347760"/>
          </a:xfrm>
          <a:custGeom>
            <a:avLst/>
            <a:gdLst/>
            <a:ahLst/>
            <a:rect l="l" t="t" r="r" b="b"/>
            <a:pathLst>
              <a:path w="597" h="968">
                <a:moveTo>
                  <a:pt x="10319" y="8012"/>
                </a:moveTo>
                <a:cubicBezTo>
                  <a:pt x="10319" y="8334"/>
                  <a:pt x="10319" y="8657"/>
                  <a:pt x="10319" y="8979"/>
                </a:cubicBezTo>
              </a:path>
              <a:path w="597" h="968">
                <a:moveTo>
                  <a:pt x="9723" y="8210"/>
                </a:moveTo>
                <a:cubicBezTo>
                  <a:pt x="9723" y="8218"/>
                  <a:pt x="9723" y="8227"/>
                  <a:pt x="9723" y="8235"/>
                </a:cubicBezTo>
                <a:cubicBezTo>
                  <a:pt x="9774" y="8235"/>
                  <a:pt x="9799" y="8253"/>
                  <a:pt x="9847" y="8260"/>
                </a:cubicBezTo>
                <a:cubicBezTo>
                  <a:pt x="9918" y="8270"/>
                  <a:pt x="9999" y="8260"/>
                  <a:pt x="10071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02040" y="2874960"/>
            <a:ext cx="304920" cy="34920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11038" y="8062"/>
                </a:moveTo>
                <a:cubicBezTo>
                  <a:pt x="10959" y="8062"/>
                  <a:pt x="10964" y="8114"/>
                  <a:pt x="10939" y="8186"/>
                </a:cubicBezTo>
                <a:cubicBezTo>
                  <a:pt x="10901" y="8297"/>
                  <a:pt x="10866" y="8418"/>
                  <a:pt x="10840" y="8533"/>
                </a:cubicBezTo>
                <a:cubicBezTo>
                  <a:pt x="10821" y="8617"/>
                  <a:pt x="10840" y="8758"/>
                  <a:pt x="10864" y="8806"/>
                </a:cubicBezTo>
                <a:cubicBezTo>
                  <a:pt x="10881" y="8840"/>
                  <a:pt x="10892" y="8830"/>
                  <a:pt x="10939" y="8830"/>
                </a:cubicBezTo>
                <a:cubicBezTo>
                  <a:pt x="11048" y="8830"/>
                  <a:pt x="11119" y="8844"/>
                  <a:pt x="11212" y="8781"/>
                </a:cubicBezTo>
                <a:cubicBezTo>
                  <a:pt x="11250" y="8755"/>
                  <a:pt x="11289" y="8672"/>
                  <a:pt x="11311" y="8657"/>
                </a:cubicBezTo>
                <a:cubicBezTo>
                  <a:pt x="11350" y="8630"/>
                  <a:pt x="11361" y="8615"/>
                  <a:pt x="11361" y="8558"/>
                </a:cubicBezTo>
                <a:cubicBezTo>
                  <a:pt x="11361" y="8493"/>
                  <a:pt x="11379" y="8407"/>
                  <a:pt x="11336" y="8359"/>
                </a:cubicBezTo>
                <a:cubicBezTo>
                  <a:pt x="11286" y="8303"/>
                  <a:pt x="11169" y="8234"/>
                  <a:pt x="11137" y="8186"/>
                </a:cubicBezTo>
                <a:cubicBezTo>
                  <a:pt x="11137" y="8161"/>
                  <a:pt x="11137" y="8153"/>
                  <a:pt x="11112" y="8161"/>
                </a:cubicBezTo>
              </a:path>
              <a:path w="844" h="968">
                <a:moveTo>
                  <a:pt x="11683" y="7987"/>
                </a:moveTo>
                <a:cubicBezTo>
                  <a:pt x="11683" y="8309"/>
                  <a:pt x="11683" y="8632"/>
                  <a:pt x="11683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38240" y="4187880"/>
            <a:ext cx="7920" cy="152280"/>
          </a:xfrm>
          <a:custGeom>
            <a:avLst/>
            <a:gdLst/>
            <a:ahLst/>
            <a:rect l="l" t="t" r="r" b="b"/>
            <a:pathLst>
              <a:path w="25" h="423">
                <a:moveTo>
                  <a:pt x="5407" y="11633"/>
                </a:moveTo>
                <a:cubicBezTo>
                  <a:pt x="5407" y="11749"/>
                  <a:pt x="5407" y="11865"/>
                  <a:pt x="5407" y="11981"/>
                </a:cubicBezTo>
                <a:cubicBezTo>
                  <a:pt x="5371" y="11993"/>
                  <a:pt x="5383" y="12011"/>
                  <a:pt x="5383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7800" y="409896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5606" y="11385"/>
                </a:moveTo>
                <a:cubicBezTo>
                  <a:pt x="5697" y="11385"/>
                  <a:pt x="5788" y="11385"/>
                  <a:pt x="5879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90880" y="4062240"/>
            <a:ext cx="635040" cy="455760"/>
          </a:xfrm>
          <a:custGeom>
            <a:avLst/>
            <a:gdLst/>
            <a:ahLst/>
            <a:rect l="l" t="t" r="r" b="b"/>
            <a:pathLst>
              <a:path w="1762" h="1266">
                <a:moveTo>
                  <a:pt x="8310" y="12105"/>
                </a:moveTo>
                <a:lnTo>
                  <a:pt x="8310" y="12105"/>
                </a:lnTo>
              </a:path>
              <a:path w="1762" h="1266">
                <a:moveTo>
                  <a:pt x="9004" y="11485"/>
                </a:moveTo>
                <a:cubicBezTo>
                  <a:pt x="9004" y="11552"/>
                  <a:pt x="8988" y="11592"/>
                  <a:pt x="8979" y="11658"/>
                </a:cubicBezTo>
                <a:cubicBezTo>
                  <a:pt x="8970" y="11722"/>
                  <a:pt x="8943" y="11770"/>
                  <a:pt x="8930" y="11832"/>
                </a:cubicBezTo>
                <a:cubicBezTo>
                  <a:pt x="8919" y="11885"/>
                  <a:pt x="8892" y="11910"/>
                  <a:pt x="8880" y="11956"/>
                </a:cubicBezTo>
                <a:cubicBezTo>
                  <a:pt x="8872" y="11984"/>
                  <a:pt x="8880" y="12026"/>
                  <a:pt x="8880" y="12055"/>
                </a:cubicBezTo>
                <a:cubicBezTo>
                  <a:pt x="9022" y="12055"/>
                  <a:pt x="9338" y="12102"/>
                  <a:pt x="9401" y="12005"/>
                </a:cubicBezTo>
                <a:cubicBezTo>
                  <a:pt x="9439" y="11947"/>
                  <a:pt x="9426" y="11880"/>
                  <a:pt x="9426" y="11807"/>
                </a:cubicBezTo>
                <a:cubicBezTo>
                  <a:pt x="9426" y="11633"/>
                  <a:pt x="9426" y="11460"/>
                  <a:pt x="9426" y="11286"/>
                </a:cubicBezTo>
                <a:cubicBezTo>
                  <a:pt x="9426" y="11377"/>
                  <a:pt x="9411" y="11447"/>
                  <a:pt x="9401" y="11534"/>
                </a:cubicBezTo>
                <a:cubicBezTo>
                  <a:pt x="9388" y="11648"/>
                  <a:pt x="9380" y="11767"/>
                  <a:pt x="9376" y="11881"/>
                </a:cubicBezTo>
                <a:cubicBezTo>
                  <a:pt x="9374" y="11942"/>
                  <a:pt x="9354" y="11994"/>
                  <a:pt x="9351" y="12055"/>
                </a:cubicBezTo>
                <a:cubicBezTo>
                  <a:pt x="9348" y="12121"/>
                  <a:pt x="9335" y="12169"/>
                  <a:pt x="9327" y="12229"/>
                </a:cubicBezTo>
                <a:cubicBezTo>
                  <a:pt x="9314" y="12332"/>
                  <a:pt x="9327" y="12446"/>
                  <a:pt x="9327" y="12551"/>
                </a:cubicBezTo>
              </a:path>
              <a:path w="1762" h="1266">
                <a:moveTo>
                  <a:pt x="9847" y="11633"/>
                </a:moveTo>
                <a:cubicBezTo>
                  <a:pt x="9799" y="11633"/>
                  <a:pt x="9789" y="11623"/>
                  <a:pt x="9773" y="11658"/>
                </a:cubicBezTo>
                <a:cubicBezTo>
                  <a:pt x="9734" y="11742"/>
                  <a:pt x="9728" y="11825"/>
                  <a:pt x="9699" y="11906"/>
                </a:cubicBezTo>
                <a:cubicBezTo>
                  <a:pt x="9684" y="11949"/>
                  <a:pt x="9633" y="12011"/>
                  <a:pt x="9624" y="12055"/>
                </a:cubicBezTo>
                <a:cubicBezTo>
                  <a:pt x="9611" y="12116"/>
                  <a:pt x="9599" y="12094"/>
                  <a:pt x="9599" y="12154"/>
                </a:cubicBezTo>
                <a:cubicBezTo>
                  <a:pt x="9599" y="12193"/>
                  <a:pt x="9575" y="12210"/>
                  <a:pt x="9575" y="12254"/>
                </a:cubicBezTo>
                <a:cubicBezTo>
                  <a:pt x="9575" y="12295"/>
                  <a:pt x="9575" y="12337"/>
                  <a:pt x="9575" y="12378"/>
                </a:cubicBezTo>
                <a:cubicBezTo>
                  <a:pt x="9740" y="12378"/>
                  <a:pt x="9906" y="12378"/>
                  <a:pt x="10071" y="12378"/>
                </a:cubicBezTo>
                <a:cubicBezTo>
                  <a:pt x="10071" y="12303"/>
                  <a:pt x="10071" y="12229"/>
                  <a:pt x="10071" y="12154"/>
                </a:cubicBezTo>
                <a:cubicBezTo>
                  <a:pt x="10031" y="12154"/>
                  <a:pt x="9944" y="12135"/>
                  <a:pt x="9922" y="12179"/>
                </a:cubicBezTo>
                <a:cubicBezTo>
                  <a:pt x="9908" y="12206"/>
                  <a:pt x="9886" y="12214"/>
                  <a:pt x="9872" y="12254"/>
                </a:cubicBezTo>
                <a:cubicBezTo>
                  <a:pt x="9859" y="12291"/>
                  <a:pt x="9847" y="12310"/>
                  <a:pt x="9847" y="12353"/>
                </a:cubicBezTo>
                <a:cubicBezTo>
                  <a:pt x="9847" y="12378"/>
                  <a:pt x="9847" y="12402"/>
                  <a:pt x="9847" y="12427"/>
                </a:cubicBezTo>
              </a:path>
              <a:path w="1762" h="1266">
                <a:moveTo>
                  <a:pt x="8334" y="11708"/>
                </a:moveTo>
                <a:cubicBezTo>
                  <a:pt x="8334" y="11700"/>
                  <a:pt x="8334" y="11691"/>
                  <a:pt x="8334" y="11683"/>
                </a:cubicBezTo>
                <a:cubicBezTo>
                  <a:pt x="8450" y="11683"/>
                  <a:pt x="8566" y="11683"/>
                  <a:pt x="8682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38240" y="5357880"/>
            <a:ext cx="1800" cy="169920"/>
          </a:xfrm>
          <a:custGeom>
            <a:avLst/>
            <a:gdLst/>
            <a:ahLst/>
            <a:rect l="l" t="t" r="r" b="b"/>
            <a:pathLst>
              <a:path w="1" h="472">
                <a:moveTo>
                  <a:pt x="5383" y="14883"/>
                </a:moveTo>
                <a:cubicBezTo>
                  <a:pt x="5383" y="15040"/>
                  <a:pt x="5383" y="15197"/>
                  <a:pt x="5383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30280" y="5392800"/>
            <a:ext cx="1800" cy="100080"/>
          </a:xfrm>
          <a:custGeom>
            <a:avLst/>
            <a:gdLst/>
            <a:ahLst/>
            <a:rect l="l" t="t" r="r" b="b"/>
            <a:pathLst>
              <a:path w="1" h="274">
                <a:moveTo>
                  <a:pt x="6474" y="15255"/>
                </a:moveTo>
                <a:cubicBezTo>
                  <a:pt x="6474" y="15164"/>
                  <a:pt x="6474" y="15073"/>
                  <a:pt x="6474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66920" y="4822920"/>
            <a:ext cx="303120" cy="204840"/>
          </a:xfrm>
          <a:custGeom>
            <a:avLst/>
            <a:gdLst/>
            <a:ahLst/>
            <a:rect l="l" t="t" r="r" b="b"/>
            <a:pathLst>
              <a:path w="844" h="571">
                <a:moveTo>
                  <a:pt x="3870" y="13469"/>
                </a:moveTo>
                <a:cubicBezTo>
                  <a:pt x="3836" y="13480"/>
                  <a:pt x="3825" y="13520"/>
                  <a:pt x="3820" y="13568"/>
                </a:cubicBezTo>
                <a:cubicBezTo>
                  <a:pt x="3815" y="13621"/>
                  <a:pt x="3800" y="13604"/>
                  <a:pt x="3795" y="13643"/>
                </a:cubicBezTo>
                <a:cubicBezTo>
                  <a:pt x="3792" y="13667"/>
                  <a:pt x="3795" y="13693"/>
                  <a:pt x="3795" y="13717"/>
                </a:cubicBezTo>
                <a:cubicBezTo>
                  <a:pt x="3902" y="13717"/>
                  <a:pt x="3911" y="13718"/>
                  <a:pt x="3994" y="13667"/>
                </a:cubicBezTo>
                <a:cubicBezTo>
                  <a:pt x="4030" y="13645"/>
                  <a:pt x="4107" y="13615"/>
                  <a:pt x="4118" y="13593"/>
                </a:cubicBezTo>
                <a:cubicBezTo>
                  <a:pt x="4118" y="13568"/>
                  <a:pt x="4118" y="13560"/>
                  <a:pt x="4142" y="13568"/>
                </a:cubicBezTo>
              </a:path>
              <a:path w="844" h="571">
                <a:moveTo>
                  <a:pt x="4142" y="13395"/>
                </a:moveTo>
                <a:cubicBezTo>
                  <a:pt x="4142" y="13476"/>
                  <a:pt x="4142" y="13567"/>
                  <a:pt x="4118" y="13643"/>
                </a:cubicBezTo>
                <a:cubicBezTo>
                  <a:pt x="4099" y="13704"/>
                  <a:pt x="4093" y="13751"/>
                  <a:pt x="4093" y="13816"/>
                </a:cubicBezTo>
                <a:cubicBezTo>
                  <a:pt x="4093" y="13849"/>
                  <a:pt x="4093" y="13882"/>
                  <a:pt x="4093" y="13915"/>
                </a:cubicBezTo>
              </a:path>
              <a:path w="844" h="571">
                <a:moveTo>
                  <a:pt x="4341" y="13519"/>
                </a:moveTo>
                <a:cubicBezTo>
                  <a:pt x="4407" y="13509"/>
                  <a:pt x="4452" y="13467"/>
                  <a:pt x="4514" y="13444"/>
                </a:cubicBezTo>
                <a:cubicBezTo>
                  <a:pt x="4545" y="13432"/>
                  <a:pt x="4604" y="13444"/>
                  <a:pt x="4638" y="13444"/>
                </a:cubicBezTo>
                <a:cubicBezTo>
                  <a:pt x="4638" y="13503"/>
                  <a:pt x="4651" y="13568"/>
                  <a:pt x="4614" y="13618"/>
                </a:cubicBezTo>
                <a:cubicBezTo>
                  <a:pt x="4570" y="13678"/>
                  <a:pt x="4548" y="13745"/>
                  <a:pt x="4490" y="13791"/>
                </a:cubicBezTo>
                <a:cubicBezTo>
                  <a:pt x="4442" y="13815"/>
                  <a:pt x="4425" y="13821"/>
                  <a:pt x="4440" y="13866"/>
                </a:cubicBezTo>
                <a:cubicBezTo>
                  <a:pt x="4360" y="13879"/>
                  <a:pt x="4413" y="13908"/>
                  <a:pt x="4341" y="13940"/>
                </a:cubicBezTo>
                <a:cubicBezTo>
                  <a:pt x="4313" y="13940"/>
                  <a:pt x="4302" y="13942"/>
                  <a:pt x="4291" y="13965"/>
                </a:cubicBezTo>
                <a:cubicBezTo>
                  <a:pt x="4382" y="13965"/>
                  <a:pt x="4473" y="13965"/>
                  <a:pt x="4564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7000" y="4875120"/>
            <a:ext cx="231840" cy="250920"/>
          </a:xfrm>
          <a:custGeom>
            <a:avLst/>
            <a:gdLst/>
            <a:ahLst/>
            <a:rect l="l" t="t" r="r" b="b"/>
            <a:pathLst>
              <a:path w="646" h="696">
                <a:moveTo>
                  <a:pt x="6896" y="13618"/>
                </a:moveTo>
                <a:cubicBezTo>
                  <a:pt x="6836" y="13618"/>
                  <a:pt x="6797" y="13617"/>
                  <a:pt x="6747" y="13643"/>
                </a:cubicBezTo>
                <a:cubicBezTo>
                  <a:pt x="6684" y="13676"/>
                  <a:pt x="6672" y="13699"/>
                  <a:pt x="6672" y="13767"/>
                </a:cubicBezTo>
                <a:cubicBezTo>
                  <a:pt x="6672" y="13816"/>
                  <a:pt x="6672" y="13866"/>
                  <a:pt x="6672" y="13915"/>
                </a:cubicBezTo>
                <a:cubicBezTo>
                  <a:pt x="6730" y="13927"/>
                  <a:pt x="6756" y="13948"/>
                  <a:pt x="6796" y="13990"/>
                </a:cubicBezTo>
              </a:path>
              <a:path w="646" h="696">
                <a:moveTo>
                  <a:pt x="6970" y="13568"/>
                </a:moveTo>
                <a:cubicBezTo>
                  <a:pt x="6911" y="13603"/>
                  <a:pt x="6870" y="13643"/>
                  <a:pt x="6821" y="13692"/>
                </a:cubicBezTo>
                <a:cubicBezTo>
                  <a:pt x="6801" y="13712"/>
                  <a:pt x="6750" y="13761"/>
                  <a:pt x="6747" y="13767"/>
                </a:cubicBezTo>
                <a:cubicBezTo>
                  <a:pt x="6735" y="13791"/>
                  <a:pt x="6717" y="13833"/>
                  <a:pt x="6697" y="13866"/>
                </a:cubicBezTo>
                <a:cubicBezTo>
                  <a:pt x="6665" y="13919"/>
                  <a:pt x="6629" y="13993"/>
                  <a:pt x="6598" y="14039"/>
                </a:cubicBezTo>
                <a:cubicBezTo>
                  <a:pt x="6571" y="14079"/>
                  <a:pt x="6573" y="14089"/>
                  <a:pt x="6573" y="14139"/>
                </a:cubicBezTo>
                <a:cubicBezTo>
                  <a:pt x="6573" y="14172"/>
                  <a:pt x="6573" y="14205"/>
                  <a:pt x="6573" y="14238"/>
                </a:cubicBezTo>
                <a:cubicBezTo>
                  <a:pt x="6623" y="14238"/>
                  <a:pt x="6672" y="14238"/>
                  <a:pt x="6722" y="14238"/>
                </a:cubicBezTo>
                <a:cubicBezTo>
                  <a:pt x="6722" y="14171"/>
                  <a:pt x="6754" y="14126"/>
                  <a:pt x="6772" y="14064"/>
                </a:cubicBezTo>
                <a:cubicBezTo>
                  <a:pt x="6787" y="14013"/>
                  <a:pt x="6771" y="13958"/>
                  <a:pt x="6747" y="13940"/>
                </a:cubicBezTo>
                <a:cubicBezTo>
                  <a:pt x="6739" y="13932"/>
                  <a:pt x="6730" y="13923"/>
                  <a:pt x="6722" y="13915"/>
                </a:cubicBezTo>
              </a:path>
              <a:path w="646" h="696">
                <a:moveTo>
                  <a:pt x="7218" y="13543"/>
                </a:moveTo>
                <a:cubicBezTo>
                  <a:pt x="7169" y="13543"/>
                  <a:pt x="7020" y="13518"/>
                  <a:pt x="6995" y="13568"/>
                </a:cubicBezTo>
                <a:cubicBezTo>
                  <a:pt x="6978" y="13601"/>
                  <a:pt x="6970" y="13610"/>
                  <a:pt x="6970" y="13667"/>
                </a:cubicBezTo>
                <a:cubicBezTo>
                  <a:pt x="6970" y="13712"/>
                  <a:pt x="6955" y="13728"/>
                  <a:pt x="6945" y="13767"/>
                </a:cubicBezTo>
                <a:cubicBezTo>
                  <a:pt x="7015" y="13767"/>
                  <a:pt x="7138" y="13748"/>
                  <a:pt x="7169" y="13791"/>
                </a:cubicBezTo>
                <a:cubicBezTo>
                  <a:pt x="7200" y="13833"/>
                  <a:pt x="7193" y="13860"/>
                  <a:pt x="7193" y="13915"/>
                </a:cubicBezTo>
                <a:cubicBezTo>
                  <a:pt x="7193" y="13987"/>
                  <a:pt x="7220" y="14086"/>
                  <a:pt x="7144" y="14114"/>
                </a:cubicBezTo>
                <a:cubicBezTo>
                  <a:pt x="7095" y="14132"/>
                  <a:pt x="7056" y="14139"/>
                  <a:pt x="6995" y="14139"/>
                </a:cubicBezTo>
                <a:cubicBezTo>
                  <a:pt x="6970" y="14139"/>
                  <a:pt x="6946" y="14139"/>
                  <a:pt x="6921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79920" y="5241960"/>
            <a:ext cx="384120" cy="312840"/>
          </a:xfrm>
          <a:custGeom>
            <a:avLst/>
            <a:gdLst/>
            <a:ahLst/>
            <a:rect l="l" t="t" r="r" b="b"/>
            <a:pathLst>
              <a:path w="1067" h="870">
                <a:moveTo>
                  <a:pt x="10393" y="14610"/>
                </a:moveTo>
                <a:cubicBezTo>
                  <a:pt x="10380" y="14572"/>
                  <a:pt x="10364" y="14585"/>
                  <a:pt x="10319" y="14585"/>
                </a:cubicBezTo>
                <a:cubicBezTo>
                  <a:pt x="10309" y="14662"/>
                  <a:pt x="10260" y="14711"/>
                  <a:pt x="10244" y="14784"/>
                </a:cubicBezTo>
                <a:cubicBezTo>
                  <a:pt x="10232" y="14837"/>
                  <a:pt x="10220" y="14874"/>
                  <a:pt x="10220" y="14932"/>
                </a:cubicBezTo>
                <a:cubicBezTo>
                  <a:pt x="10220" y="14965"/>
                  <a:pt x="10220" y="14999"/>
                  <a:pt x="10220" y="15032"/>
                </a:cubicBezTo>
                <a:cubicBezTo>
                  <a:pt x="10302" y="15032"/>
                  <a:pt x="10455" y="15065"/>
                  <a:pt x="10517" y="15007"/>
                </a:cubicBezTo>
                <a:cubicBezTo>
                  <a:pt x="10544" y="14981"/>
                  <a:pt x="10613" y="14933"/>
                  <a:pt x="10616" y="14908"/>
                </a:cubicBezTo>
                <a:cubicBezTo>
                  <a:pt x="10622" y="14855"/>
                  <a:pt x="10616" y="14852"/>
                  <a:pt x="10616" y="14908"/>
                </a:cubicBezTo>
                <a:cubicBezTo>
                  <a:pt x="10616" y="15044"/>
                  <a:pt x="10614" y="15182"/>
                  <a:pt x="10592" y="15304"/>
                </a:cubicBezTo>
                <a:cubicBezTo>
                  <a:pt x="10585" y="15342"/>
                  <a:pt x="10592" y="15390"/>
                  <a:pt x="10592" y="15429"/>
                </a:cubicBezTo>
              </a:path>
              <a:path w="1067" h="870">
                <a:moveTo>
                  <a:pt x="10691" y="14585"/>
                </a:moveTo>
                <a:cubicBezTo>
                  <a:pt x="10641" y="14598"/>
                  <a:pt x="10630" y="14638"/>
                  <a:pt x="10616" y="14684"/>
                </a:cubicBezTo>
                <a:cubicBezTo>
                  <a:pt x="10576" y="14816"/>
                  <a:pt x="10616" y="15021"/>
                  <a:pt x="10616" y="15156"/>
                </a:cubicBezTo>
              </a:path>
              <a:path w="1067" h="870">
                <a:moveTo>
                  <a:pt x="10889" y="14684"/>
                </a:moveTo>
                <a:cubicBezTo>
                  <a:pt x="10889" y="14625"/>
                  <a:pt x="10898" y="14647"/>
                  <a:pt x="10939" y="14610"/>
                </a:cubicBezTo>
                <a:cubicBezTo>
                  <a:pt x="10983" y="14571"/>
                  <a:pt x="11102" y="14568"/>
                  <a:pt x="11162" y="14560"/>
                </a:cubicBezTo>
                <a:cubicBezTo>
                  <a:pt x="11201" y="14555"/>
                  <a:pt x="11246" y="14560"/>
                  <a:pt x="11286" y="14560"/>
                </a:cubicBezTo>
                <a:cubicBezTo>
                  <a:pt x="11286" y="14678"/>
                  <a:pt x="11285" y="14645"/>
                  <a:pt x="11212" y="14734"/>
                </a:cubicBezTo>
                <a:cubicBezTo>
                  <a:pt x="11177" y="14777"/>
                  <a:pt x="11152" y="14817"/>
                  <a:pt x="11112" y="14858"/>
                </a:cubicBezTo>
                <a:cubicBezTo>
                  <a:pt x="11080" y="14890"/>
                  <a:pt x="11058" y="14927"/>
                  <a:pt x="11013" y="14932"/>
                </a:cubicBezTo>
                <a:cubicBezTo>
                  <a:pt x="10989" y="14935"/>
                  <a:pt x="10963" y="14932"/>
                  <a:pt x="10939" y="14932"/>
                </a:cubicBezTo>
                <a:cubicBezTo>
                  <a:pt x="10993" y="14932"/>
                  <a:pt x="11011" y="14921"/>
                  <a:pt x="11063" y="14908"/>
                </a:cubicBezTo>
                <a:cubicBezTo>
                  <a:pt x="11093" y="14901"/>
                  <a:pt x="11201" y="14896"/>
                  <a:pt x="11212" y="14932"/>
                </a:cubicBezTo>
                <a:cubicBezTo>
                  <a:pt x="11234" y="15001"/>
                  <a:pt x="11229" y="15233"/>
                  <a:pt x="11187" y="15280"/>
                </a:cubicBezTo>
                <a:cubicBezTo>
                  <a:pt x="11163" y="15306"/>
                  <a:pt x="11114" y="15348"/>
                  <a:pt x="11088" y="15354"/>
                </a:cubicBezTo>
                <a:cubicBezTo>
                  <a:pt x="11044" y="15364"/>
                  <a:pt x="11015" y="15399"/>
                  <a:pt x="10964" y="15404"/>
                </a:cubicBezTo>
                <a:cubicBezTo>
                  <a:pt x="10917" y="15409"/>
                  <a:pt x="10795" y="15420"/>
                  <a:pt x="10790" y="15379"/>
                </a:cubicBezTo>
                <a:cubicBezTo>
                  <a:pt x="10790" y="15354"/>
                  <a:pt x="10790" y="15346"/>
                  <a:pt x="10790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bjective: Students will multiply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ow do you know whether the product will be positive or 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f the signs are the same, answer is 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f the signs are different, answer 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f you have more than two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dd number of neg. signs = n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ven number of neg. signs = pos. (0 is e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1320" y="2911320"/>
            <a:ext cx="1295640" cy="374760"/>
          </a:xfrm>
          <a:custGeom>
            <a:avLst/>
            <a:gdLst/>
            <a:ahLst/>
            <a:rect l="l" t="t" r="r" b="b"/>
            <a:pathLst>
              <a:path w="3598" h="1043">
                <a:moveTo>
                  <a:pt x="8384" y="8334"/>
                </a:moveTo>
                <a:cubicBezTo>
                  <a:pt x="8384" y="8541"/>
                  <a:pt x="8384" y="8747"/>
                  <a:pt x="8384" y="8954"/>
                </a:cubicBezTo>
              </a:path>
              <a:path w="3598" h="1043">
                <a:moveTo>
                  <a:pt x="8111" y="8632"/>
                </a:moveTo>
                <a:cubicBezTo>
                  <a:pt x="8103" y="8632"/>
                  <a:pt x="8094" y="8632"/>
                  <a:pt x="8086" y="8632"/>
                </a:cubicBezTo>
                <a:cubicBezTo>
                  <a:pt x="8086" y="8598"/>
                  <a:pt x="8073" y="8552"/>
                  <a:pt x="8111" y="8533"/>
                </a:cubicBezTo>
                <a:cubicBezTo>
                  <a:pt x="8226" y="8476"/>
                  <a:pt x="8499" y="8533"/>
                  <a:pt x="8632" y="8533"/>
                </a:cubicBezTo>
              </a:path>
              <a:path w="3598" h="1043">
                <a:moveTo>
                  <a:pt x="9227" y="8086"/>
                </a:moveTo>
                <a:cubicBezTo>
                  <a:pt x="9161" y="8154"/>
                  <a:pt x="9086" y="8251"/>
                  <a:pt x="9054" y="8334"/>
                </a:cubicBezTo>
                <a:cubicBezTo>
                  <a:pt x="9033" y="8390"/>
                  <a:pt x="9011" y="8496"/>
                  <a:pt x="9004" y="8558"/>
                </a:cubicBezTo>
                <a:cubicBezTo>
                  <a:pt x="8987" y="8702"/>
                  <a:pt x="9004" y="8858"/>
                  <a:pt x="9004" y="9004"/>
                </a:cubicBezTo>
                <a:cubicBezTo>
                  <a:pt x="9060" y="9004"/>
                  <a:pt x="9038" y="9024"/>
                  <a:pt x="9079" y="9029"/>
                </a:cubicBezTo>
                <a:cubicBezTo>
                  <a:pt x="9119" y="9034"/>
                  <a:pt x="9163" y="9029"/>
                  <a:pt x="9203" y="9029"/>
                </a:cubicBezTo>
              </a:path>
              <a:path w="3598" h="1043">
                <a:moveTo>
                  <a:pt x="9550" y="8285"/>
                </a:moveTo>
                <a:cubicBezTo>
                  <a:pt x="9550" y="8459"/>
                  <a:pt x="9550" y="8632"/>
                  <a:pt x="9550" y="8806"/>
                </a:cubicBezTo>
              </a:path>
              <a:path w="3598" h="1043">
                <a:moveTo>
                  <a:pt x="9302" y="8607"/>
                </a:moveTo>
                <a:cubicBezTo>
                  <a:pt x="9326" y="8570"/>
                  <a:pt x="9368" y="8582"/>
                  <a:pt x="9426" y="8582"/>
                </a:cubicBezTo>
                <a:cubicBezTo>
                  <a:pt x="9509" y="8582"/>
                  <a:pt x="9591" y="8582"/>
                  <a:pt x="9674" y="8582"/>
                </a:cubicBezTo>
              </a:path>
              <a:path w="3598" h="1043">
                <a:moveTo>
                  <a:pt x="9773" y="8161"/>
                </a:moveTo>
                <a:cubicBezTo>
                  <a:pt x="9847" y="8161"/>
                  <a:pt x="9851" y="8183"/>
                  <a:pt x="9897" y="8235"/>
                </a:cubicBezTo>
                <a:cubicBezTo>
                  <a:pt x="9958" y="8304"/>
                  <a:pt x="9988" y="8371"/>
                  <a:pt x="10021" y="8458"/>
                </a:cubicBezTo>
                <a:cubicBezTo>
                  <a:pt x="10059" y="8559"/>
                  <a:pt x="10074" y="8655"/>
                  <a:pt x="10096" y="8756"/>
                </a:cubicBezTo>
                <a:cubicBezTo>
                  <a:pt x="10115" y="8843"/>
                  <a:pt x="10145" y="8887"/>
                  <a:pt x="10145" y="8979"/>
                </a:cubicBezTo>
                <a:cubicBezTo>
                  <a:pt x="10145" y="9017"/>
                  <a:pt x="10161" y="9083"/>
                  <a:pt x="10120" y="9103"/>
                </a:cubicBezTo>
                <a:cubicBezTo>
                  <a:pt x="10087" y="9119"/>
                  <a:pt x="10107" y="9116"/>
                  <a:pt x="10071" y="9128"/>
                </a:cubicBezTo>
              </a:path>
              <a:path w="3598" h="1043">
                <a:moveTo>
                  <a:pt x="10443" y="8533"/>
                </a:moveTo>
                <a:cubicBezTo>
                  <a:pt x="10482" y="8494"/>
                  <a:pt x="10519" y="8472"/>
                  <a:pt x="10567" y="8458"/>
                </a:cubicBezTo>
                <a:cubicBezTo>
                  <a:pt x="10614" y="8444"/>
                  <a:pt x="10665" y="8434"/>
                  <a:pt x="10716" y="8434"/>
                </a:cubicBezTo>
                <a:cubicBezTo>
                  <a:pt x="10740" y="8434"/>
                  <a:pt x="10749" y="8434"/>
                  <a:pt x="10765" y="8434"/>
                </a:cubicBezTo>
              </a:path>
              <a:path w="3598" h="1043">
                <a:moveTo>
                  <a:pt x="10468" y="8756"/>
                </a:moveTo>
                <a:cubicBezTo>
                  <a:pt x="10523" y="8756"/>
                  <a:pt x="10539" y="8745"/>
                  <a:pt x="10592" y="8731"/>
                </a:cubicBezTo>
                <a:cubicBezTo>
                  <a:pt x="10631" y="8721"/>
                  <a:pt x="10646" y="8706"/>
                  <a:pt x="10691" y="8706"/>
                </a:cubicBezTo>
                <a:cubicBezTo>
                  <a:pt x="10724" y="8706"/>
                  <a:pt x="10757" y="8706"/>
                  <a:pt x="10790" y="8706"/>
                </a:cubicBezTo>
              </a:path>
              <a:path w="3598" h="1043">
                <a:moveTo>
                  <a:pt x="11485" y="8285"/>
                </a:moveTo>
                <a:cubicBezTo>
                  <a:pt x="11485" y="8516"/>
                  <a:pt x="11485" y="8748"/>
                  <a:pt x="11485" y="8979"/>
                </a:cubicBezTo>
              </a:path>
              <a:path w="3598" h="1043">
                <a:moveTo>
                  <a:pt x="11212" y="8731"/>
                </a:moveTo>
                <a:cubicBezTo>
                  <a:pt x="11212" y="8723"/>
                  <a:pt x="11212" y="8714"/>
                  <a:pt x="11212" y="8706"/>
                </a:cubicBezTo>
                <a:cubicBezTo>
                  <a:pt x="11369" y="8706"/>
                  <a:pt x="11526" y="8706"/>
                  <a:pt x="11683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68920" y="2963880"/>
            <a:ext cx="1170000" cy="376200"/>
          </a:xfrm>
          <a:custGeom>
            <a:avLst/>
            <a:gdLst/>
            <a:ahLst/>
            <a:rect l="l" t="t" r="r" b="b"/>
            <a:pathLst>
              <a:path w="3250" h="1043">
                <a:moveTo>
                  <a:pt x="13246" y="8706"/>
                </a:moveTo>
                <a:cubicBezTo>
                  <a:pt x="13343" y="8706"/>
                  <a:pt x="13435" y="8698"/>
                  <a:pt x="13519" y="8682"/>
                </a:cubicBezTo>
                <a:cubicBezTo>
                  <a:pt x="13571" y="8672"/>
                  <a:pt x="13595" y="8637"/>
                  <a:pt x="13643" y="8632"/>
                </a:cubicBezTo>
                <a:cubicBezTo>
                  <a:pt x="13667" y="8632"/>
                  <a:pt x="13675" y="8632"/>
                  <a:pt x="13667" y="8607"/>
                </a:cubicBezTo>
              </a:path>
              <a:path w="3250" h="1043">
                <a:moveTo>
                  <a:pt x="14139" y="8235"/>
                </a:moveTo>
                <a:cubicBezTo>
                  <a:pt x="14054" y="8277"/>
                  <a:pt x="14037" y="8350"/>
                  <a:pt x="13990" y="8434"/>
                </a:cubicBezTo>
                <a:cubicBezTo>
                  <a:pt x="13941" y="8522"/>
                  <a:pt x="13906" y="8583"/>
                  <a:pt x="13891" y="8682"/>
                </a:cubicBezTo>
                <a:cubicBezTo>
                  <a:pt x="13876" y="8782"/>
                  <a:pt x="13871" y="8961"/>
                  <a:pt x="13915" y="9054"/>
                </a:cubicBezTo>
                <a:cubicBezTo>
                  <a:pt x="13941" y="9110"/>
                  <a:pt x="13996" y="9156"/>
                  <a:pt x="14039" y="9203"/>
                </a:cubicBezTo>
                <a:cubicBezTo>
                  <a:pt x="14066" y="9233"/>
                  <a:pt x="14065" y="9245"/>
                  <a:pt x="14089" y="9277"/>
                </a:cubicBezTo>
              </a:path>
              <a:path w="3250" h="1043">
                <a:moveTo>
                  <a:pt x="14139" y="8781"/>
                </a:moveTo>
                <a:cubicBezTo>
                  <a:pt x="14142" y="8771"/>
                  <a:pt x="14165" y="8711"/>
                  <a:pt x="14188" y="8706"/>
                </a:cubicBezTo>
                <a:cubicBezTo>
                  <a:pt x="14281" y="8685"/>
                  <a:pt x="14366" y="8681"/>
                  <a:pt x="14461" y="8657"/>
                </a:cubicBezTo>
                <a:cubicBezTo>
                  <a:pt x="14504" y="8646"/>
                  <a:pt x="14539" y="8632"/>
                  <a:pt x="14585" y="8632"/>
                </a:cubicBezTo>
              </a:path>
              <a:path w="3250" h="1043">
                <a:moveTo>
                  <a:pt x="14734" y="8260"/>
                </a:moveTo>
                <a:cubicBezTo>
                  <a:pt x="14785" y="8273"/>
                  <a:pt x="14821" y="8328"/>
                  <a:pt x="14833" y="8384"/>
                </a:cubicBezTo>
                <a:cubicBezTo>
                  <a:pt x="14849" y="8457"/>
                  <a:pt x="14860" y="8509"/>
                  <a:pt x="14883" y="8582"/>
                </a:cubicBezTo>
                <a:cubicBezTo>
                  <a:pt x="14901" y="8640"/>
                  <a:pt x="14908" y="8695"/>
                  <a:pt x="14908" y="8756"/>
                </a:cubicBezTo>
                <a:cubicBezTo>
                  <a:pt x="14908" y="8846"/>
                  <a:pt x="14910" y="8950"/>
                  <a:pt x="14883" y="9004"/>
                </a:cubicBezTo>
                <a:cubicBezTo>
                  <a:pt x="14869" y="9032"/>
                  <a:pt x="14823" y="9032"/>
                  <a:pt x="14808" y="9054"/>
                </a:cubicBezTo>
                <a:cubicBezTo>
                  <a:pt x="14795" y="9074"/>
                  <a:pt x="14750" y="9093"/>
                  <a:pt x="14734" y="9128"/>
                </a:cubicBezTo>
                <a:cubicBezTo>
                  <a:pt x="14720" y="9159"/>
                  <a:pt x="14702" y="9167"/>
                  <a:pt x="14660" y="9178"/>
                </a:cubicBezTo>
              </a:path>
              <a:path w="3250" h="1043">
                <a:moveTo>
                  <a:pt x="15180" y="8657"/>
                </a:moveTo>
                <a:cubicBezTo>
                  <a:pt x="15196" y="8610"/>
                  <a:pt x="15274" y="8632"/>
                  <a:pt x="15329" y="8632"/>
                </a:cubicBezTo>
                <a:cubicBezTo>
                  <a:pt x="15445" y="8632"/>
                  <a:pt x="15561" y="8632"/>
                  <a:pt x="15677" y="8632"/>
                </a:cubicBezTo>
              </a:path>
              <a:path w="3250" h="1043">
                <a:moveTo>
                  <a:pt x="15329" y="8855"/>
                </a:moveTo>
                <a:cubicBezTo>
                  <a:pt x="15255" y="8855"/>
                  <a:pt x="15451" y="8855"/>
                  <a:pt x="15453" y="8855"/>
                </a:cubicBezTo>
                <a:cubicBezTo>
                  <a:pt x="15552" y="8855"/>
                  <a:pt x="15652" y="8855"/>
                  <a:pt x="15751" y="8855"/>
                </a:cubicBezTo>
              </a:path>
              <a:path w="3250" h="1043">
                <a:moveTo>
                  <a:pt x="16222" y="8384"/>
                </a:moveTo>
                <a:cubicBezTo>
                  <a:pt x="16222" y="8607"/>
                  <a:pt x="16222" y="8831"/>
                  <a:pt x="16222" y="9054"/>
                </a:cubicBezTo>
              </a:path>
              <a:path w="3250" h="1043">
                <a:moveTo>
                  <a:pt x="15999" y="8682"/>
                </a:moveTo>
                <a:cubicBezTo>
                  <a:pt x="16072" y="8682"/>
                  <a:pt x="16135" y="8688"/>
                  <a:pt x="16197" y="8706"/>
                </a:cubicBezTo>
                <a:cubicBezTo>
                  <a:pt x="16280" y="8730"/>
                  <a:pt x="16408" y="8706"/>
                  <a:pt x="16495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4880" y="4768920"/>
            <a:ext cx="277920" cy="679320"/>
          </a:xfrm>
          <a:custGeom>
            <a:avLst/>
            <a:gdLst/>
            <a:ahLst/>
            <a:rect l="l" t="t" r="r" b="b"/>
            <a:pathLst>
              <a:path w="770" h="1886">
                <a:moveTo>
                  <a:pt x="2729" y="13395"/>
                </a:moveTo>
                <a:cubicBezTo>
                  <a:pt x="2729" y="13370"/>
                  <a:pt x="2729" y="13362"/>
                  <a:pt x="2729" y="13345"/>
                </a:cubicBezTo>
                <a:cubicBezTo>
                  <a:pt x="2613" y="13345"/>
                  <a:pt x="2497" y="13345"/>
                  <a:pt x="2381" y="13345"/>
                </a:cubicBezTo>
                <a:cubicBezTo>
                  <a:pt x="2361" y="13406"/>
                  <a:pt x="2336" y="13404"/>
                  <a:pt x="2282" y="13444"/>
                </a:cubicBezTo>
                <a:cubicBezTo>
                  <a:pt x="2267" y="13459"/>
                  <a:pt x="2250" y="13498"/>
                  <a:pt x="2232" y="13519"/>
                </a:cubicBezTo>
                <a:cubicBezTo>
                  <a:pt x="2202" y="13555"/>
                  <a:pt x="2187" y="13586"/>
                  <a:pt x="2158" y="13618"/>
                </a:cubicBezTo>
                <a:cubicBezTo>
                  <a:pt x="2125" y="13654"/>
                  <a:pt x="2135" y="13670"/>
                  <a:pt x="2133" y="13717"/>
                </a:cubicBezTo>
                <a:cubicBezTo>
                  <a:pt x="2127" y="13865"/>
                  <a:pt x="2133" y="14015"/>
                  <a:pt x="2133" y="14163"/>
                </a:cubicBezTo>
                <a:cubicBezTo>
                  <a:pt x="2142" y="14174"/>
                  <a:pt x="2177" y="14206"/>
                  <a:pt x="2183" y="14238"/>
                </a:cubicBezTo>
                <a:cubicBezTo>
                  <a:pt x="2194" y="14291"/>
                  <a:pt x="2183" y="14358"/>
                  <a:pt x="2183" y="14412"/>
                </a:cubicBezTo>
                <a:cubicBezTo>
                  <a:pt x="2147" y="14425"/>
                  <a:pt x="2124" y="14430"/>
                  <a:pt x="2084" y="14436"/>
                </a:cubicBezTo>
                <a:cubicBezTo>
                  <a:pt x="2061" y="14477"/>
                  <a:pt x="2037" y="14509"/>
                  <a:pt x="2034" y="14560"/>
                </a:cubicBezTo>
                <a:cubicBezTo>
                  <a:pt x="2026" y="14691"/>
                  <a:pt x="2034" y="14825"/>
                  <a:pt x="2034" y="14957"/>
                </a:cubicBezTo>
              </a:path>
              <a:path w="770" h="1886">
                <a:moveTo>
                  <a:pt x="2381" y="15131"/>
                </a:moveTo>
                <a:cubicBezTo>
                  <a:pt x="2358" y="15108"/>
                  <a:pt x="2333" y="15102"/>
                  <a:pt x="2307" y="15081"/>
                </a:cubicBezTo>
                <a:cubicBezTo>
                  <a:pt x="2280" y="15059"/>
                  <a:pt x="2269" y="15074"/>
                  <a:pt x="2232" y="15056"/>
                </a:cubicBezTo>
                <a:cubicBezTo>
                  <a:pt x="2200" y="15040"/>
                  <a:pt x="2187" y="15029"/>
                  <a:pt x="2158" y="15007"/>
                </a:cubicBezTo>
                <a:cubicBezTo>
                  <a:pt x="2138" y="14992"/>
                  <a:pt x="2129" y="14968"/>
                  <a:pt x="2084" y="14957"/>
                </a:cubicBezTo>
                <a:cubicBezTo>
                  <a:pt x="2055" y="14950"/>
                  <a:pt x="2014" y="14957"/>
                  <a:pt x="1984" y="14957"/>
                </a:cubicBezTo>
                <a:cubicBezTo>
                  <a:pt x="1977" y="14907"/>
                  <a:pt x="1965" y="14921"/>
                  <a:pt x="1960" y="14883"/>
                </a:cubicBezTo>
                <a:cubicBezTo>
                  <a:pt x="1948" y="14800"/>
                  <a:pt x="1959" y="14682"/>
                  <a:pt x="1984" y="14635"/>
                </a:cubicBezTo>
                <a:cubicBezTo>
                  <a:pt x="2001" y="14603"/>
                  <a:pt x="2007" y="14575"/>
                  <a:pt x="2009" y="14536"/>
                </a:cubicBezTo>
                <a:cubicBezTo>
                  <a:pt x="2011" y="14505"/>
                  <a:pt x="2014" y="14455"/>
                  <a:pt x="2034" y="14436"/>
                </a:cubicBezTo>
                <a:cubicBezTo>
                  <a:pt x="2087" y="14384"/>
                  <a:pt x="2112" y="14361"/>
                  <a:pt x="2133" y="14288"/>
                </a:cubicBezTo>
                <a:cubicBezTo>
                  <a:pt x="2194" y="14271"/>
                  <a:pt x="2162" y="14287"/>
                  <a:pt x="2208" y="14238"/>
                </a:cubicBezTo>
                <a:cubicBezTo>
                  <a:pt x="2240" y="14204"/>
                  <a:pt x="2272" y="14194"/>
                  <a:pt x="2282" y="14163"/>
                </a:cubicBezTo>
                <a:cubicBezTo>
                  <a:pt x="2305" y="14094"/>
                  <a:pt x="2282" y="13971"/>
                  <a:pt x="2257" y="13915"/>
                </a:cubicBezTo>
                <a:cubicBezTo>
                  <a:pt x="2230" y="13856"/>
                  <a:pt x="2224" y="13890"/>
                  <a:pt x="2183" y="13866"/>
                </a:cubicBezTo>
                <a:cubicBezTo>
                  <a:pt x="2168" y="13857"/>
                  <a:pt x="2125" y="13830"/>
                  <a:pt x="2108" y="13816"/>
                </a:cubicBezTo>
                <a:cubicBezTo>
                  <a:pt x="2083" y="13796"/>
                  <a:pt x="2100" y="13774"/>
                  <a:pt x="2084" y="13742"/>
                </a:cubicBezTo>
                <a:cubicBezTo>
                  <a:pt x="2077" y="13728"/>
                  <a:pt x="2030" y="13695"/>
                  <a:pt x="2059" y="13643"/>
                </a:cubicBezTo>
                <a:cubicBezTo>
                  <a:pt x="2067" y="13629"/>
                  <a:pt x="2133" y="13570"/>
                  <a:pt x="2158" y="13543"/>
                </a:cubicBezTo>
                <a:cubicBezTo>
                  <a:pt x="2173" y="13527"/>
                  <a:pt x="2190" y="13493"/>
                  <a:pt x="2208" y="13469"/>
                </a:cubicBezTo>
                <a:cubicBezTo>
                  <a:pt x="2228" y="13442"/>
                  <a:pt x="2229" y="13437"/>
                  <a:pt x="2257" y="13419"/>
                </a:cubicBezTo>
                <a:cubicBezTo>
                  <a:pt x="2281" y="13404"/>
                  <a:pt x="2321" y="13386"/>
                  <a:pt x="2332" y="13370"/>
                </a:cubicBezTo>
                <a:cubicBezTo>
                  <a:pt x="2359" y="13331"/>
                  <a:pt x="2382" y="13303"/>
                  <a:pt x="2431" y="13271"/>
                </a:cubicBezTo>
                <a:cubicBezTo>
                  <a:pt x="2459" y="13253"/>
                  <a:pt x="2493" y="13248"/>
                  <a:pt x="2530" y="13246"/>
                </a:cubicBezTo>
                <a:cubicBezTo>
                  <a:pt x="2588" y="13243"/>
                  <a:pt x="2646" y="13246"/>
                  <a:pt x="2704" y="13246"/>
                </a:cubicBezTo>
                <a:cubicBezTo>
                  <a:pt x="2712" y="13298"/>
                  <a:pt x="2721" y="13281"/>
                  <a:pt x="2729" y="13320"/>
                </a:cubicBezTo>
                <a:cubicBezTo>
                  <a:pt x="2729" y="13345"/>
                  <a:pt x="2729" y="13353"/>
                  <a:pt x="2729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6280" y="4919760"/>
            <a:ext cx="204840" cy="9360"/>
          </a:xfrm>
          <a:custGeom>
            <a:avLst/>
            <a:gdLst/>
            <a:ahLst/>
            <a:rect l="l" t="t" r="r" b="b"/>
            <a:pathLst>
              <a:path w="571" h="26">
                <a:moveTo>
                  <a:pt x="19323" y="13692"/>
                </a:moveTo>
                <a:cubicBezTo>
                  <a:pt x="19340" y="13641"/>
                  <a:pt x="19438" y="13667"/>
                  <a:pt x="19496" y="13667"/>
                </a:cubicBezTo>
                <a:cubicBezTo>
                  <a:pt x="19628" y="13667"/>
                  <a:pt x="19761" y="13667"/>
                  <a:pt x="19893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62960" y="5197320"/>
            <a:ext cx="196920" cy="27648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24209" y="14461"/>
                </a:moveTo>
                <a:cubicBezTo>
                  <a:pt x="24200" y="14434"/>
                  <a:pt x="24174" y="14422"/>
                  <a:pt x="24135" y="14436"/>
                </a:cubicBezTo>
                <a:cubicBezTo>
                  <a:pt x="24063" y="14462"/>
                  <a:pt x="24064" y="14563"/>
                  <a:pt x="24061" y="14635"/>
                </a:cubicBezTo>
                <a:cubicBezTo>
                  <a:pt x="24057" y="14732"/>
                  <a:pt x="24107" y="15065"/>
                  <a:pt x="24011" y="15081"/>
                </a:cubicBezTo>
              </a:path>
              <a:path w="546" h="770">
                <a:moveTo>
                  <a:pt x="23788" y="14883"/>
                </a:moveTo>
                <a:cubicBezTo>
                  <a:pt x="23880" y="14883"/>
                  <a:pt x="24091" y="14919"/>
                  <a:pt x="24160" y="14858"/>
                </a:cubicBezTo>
                <a:cubicBezTo>
                  <a:pt x="24182" y="14836"/>
                  <a:pt x="24187" y="14827"/>
                  <a:pt x="24209" y="14833"/>
                </a:cubicBezTo>
                <a:cubicBezTo>
                  <a:pt x="24222" y="14794"/>
                  <a:pt x="24221" y="14823"/>
                  <a:pt x="24234" y="14784"/>
                </a:cubicBezTo>
                <a:cubicBezTo>
                  <a:pt x="24267" y="14784"/>
                  <a:pt x="24300" y="14784"/>
                  <a:pt x="24333" y="14784"/>
                </a:cubicBezTo>
              </a:path>
              <a:path w="546" h="770">
                <a:moveTo>
                  <a:pt x="24061" y="14808"/>
                </a:moveTo>
                <a:cubicBezTo>
                  <a:pt x="24061" y="14940"/>
                  <a:pt x="24061" y="15073"/>
                  <a:pt x="24061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bjective: Students will multiply integers.</a:t>
            </a: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9)(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5)(5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8)(-2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(-2)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(-2)(-2)(-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4)(3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347840"/>
            <a:ext cx="669960" cy="1314360"/>
          </a:xfrm>
          <a:custGeom>
            <a:avLst/>
            <a:gdLst/>
            <a:ahLst/>
            <a:rect l="l" t="t" r="r" b="b"/>
            <a:pathLst>
              <a:path w="1862" h="3647">
                <a:moveTo>
                  <a:pt x="6424" y="4142"/>
                </a:moveTo>
                <a:cubicBezTo>
                  <a:pt x="6517" y="4142"/>
                  <a:pt x="6587" y="4146"/>
                  <a:pt x="6672" y="4167"/>
                </a:cubicBezTo>
                <a:cubicBezTo>
                  <a:pt x="6697" y="4167"/>
                  <a:pt x="6705" y="4167"/>
                  <a:pt x="6722" y="4167"/>
                </a:cubicBezTo>
              </a:path>
              <a:path w="1862" h="3647">
                <a:moveTo>
                  <a:pt x="6449" y="4465"/>
                </a:moveTo>
                <a:cubicBezTo>
                  <a:pt x="6515" y="4465"/>
                  <a:pt x="6582" y="4465"/>
                  <a:pt x="6648" y="4465"/>
                </a:cubicBezTo>
                <a:cubicBezTo>
                  <a:pt x="6660" y="4427"/>
                  <a:pt x="6677" y="4440"/>
                  <a:pt x="6722" y="4440"/>
                </a:cubicBezTo>
                <a:cubicBezTo>
                  <a:pt x="6730" y="4440"/>
                  <a:pt x="6739" y="4440"/>
                  <a:pt x="6747" y="4440"/>
                </a:cubicBezTo>
              </a:path>
              <a:path w="1862" h="3647">
                <a:moveTo>
                  <a:pt x="7417" y="3795"/>
                </a:moveTo>
                <a:cubicBezTo>
                  <a:pt x="7429" y="3832"/>
                  <a:pt x="7441" y="3817"/>
                  <a:pt x="7441" y="3870"/>
                </a:cubicBezTo>
                <a:cubicBezTo>
                  <a:pt x="7441" y="4077"/>
                  <a:pt x="7441" y="4283"/>
                  <a:pt x="7441" y="4490"/>
                </a:cubicBezTo>
              </a:path>
              <a:path w="1862" h="3647">
                <a:moveTo>
                  <a:pt x="7913" y="3845"/>
                </a:moveTo>
                <a:cubicBezTo>
                  <a:pt x="7913" y="3820"/>
                  <a:pt x="7913" y="3812"/>
                  <a:pt x="7913" y="3795"/>
                </a:cubicBezTo>
                <a:cubicBezTo>
                  <a:pt x="7850" y="3795"/>
                  <a:pt x="7816" y="3804"/>
                  <a:pt x="7764" y="3820"/>
                </a:cubicBezTo>
                <a:cubicBezTo>
                  <a:pt x="7718" y="3834"/>
                  <a:pt x="7707" y="3851"/>
                  <a:pt x="7665" y="3870"/>
                </a:cubicBezTo>
                <a:cubicBezTo>
                  <a:pt x="7629" y="3886"/>
                  <a:pt x="7640" y="3896"/>
                  <a:pt x="7640" y="3944"/>
                </a:cubicBezTo>
                <a:cubicBezTo>
                  <a:pt x="7640" y="4007"/>
                  <a:pt x="7668" y="3986"/>
                  <a:pt x="7689" y="4018"/>
                </a:cubicBezTo>
                <a:cubicBezTo>
                  <a:pt x="7715" y="4057"/>
                  <a:pt x="7762" y="4078"/>
                  <a:pt x="7789" y="4118"/>
                </a:cubicBezTo>
                <a:cubicBezTo>
                  <a:pt x="7807" y="4144"/>
                  <a:pt x="7813" y="4182"/>
                  <a:pt x="7813" y="4217"/>
                </a:cubicBezTo>
                <a:cubicBezTo>
                  <a:pt x="7813" y="4308"/>
                  <a:pt x="7813" y="4399"/>
                  <a:pt x="7813" y="4490"/>
                </a:cubicBezTo>
                <a:cubicBezTo>
                  <a:pt x="7730" y="4490"/>
                  <a:pt x="7648" y="4490"/>
                  <a:pt x="7565" y="4490"/>
                </a:cubicBezTo>
                <a:cubicBezTo>
                  <a:pt x="7565" y="4387"/>
                  <a:pt x="7560" y="4360"/>
                  <a:pt x="7615" y="4291"/>
                </a:cubicBezTo>
                <a:cubicBezTo>
                  <a:pt x="7632" y="4270"/>
                  <a:pt x="7686" y="4224"/>
                  <a:pt x="7689" y="4217"/>
                </a:cubicBezTo>
                <a:cubicBezTo>
                  <a:pt x="7697" y="4200"/>
                  <a:pt x="7710" y="4157"/>
                  <a:pt x="7739" y="4142"/>
                </a:cubicBezTo>
                <a:cubicBezTo>
                  <a:pt x="7774" y="4125"/>
                  <a:pt x="7764" y="4117"/>
                  <a:pt x="7764" y="4068"/>
                </a:cubicBezTo>
                <a:cubicBezTo>
                  <a:pt x="7764" y="4024"/>
                  <a:pt x="7801" y="4006"/>
                  <a:pt x="7813" y="3969"/>
                </a:cubicBezTo>
                <a:cubicBezTo>
                  <a:pt x="7831" y="3913"/>
                  <a:pt x="7824" y="3979"/>
                  <a:pt x="7838" y="3894"/>
                </a:cubicBezTo>
                <a:cubicBezTo>
                  <a:pt x="7881" y="3880"/>
                  <a:pt x="7926" y="3850"/>
                  <a:pt x="7938" y="3795"/>
                </a:cubicBezTo>
                <a:cubicBezTo>
                  <a:pt x="7938" y="3770"/>
                  <a:pt x="7938" y="3762"/>
                  <a:pt x="7938" y="3746"/>
                </a:cubicBezTo>
              </a:path>
              <a:path w="1862" h="3647">
                <a:moveTo>
                  <a:pt x="7218" y="5259"/>
                </a:moveTo>
                <a:cubicBezTo>
                  <a:pt x="7218" y="5215"/>
                  <a:pt x="7200" y="5137"/>
                  <a:pt x="7243" y="5110"/>
                </a:cubicBezTo>
                <a:cubicBezTo>
                  <a:pt x="7273" y="5091"/>
                  <a:pt x="7270" y="5089"/>
                  <a:pt x="7317" y="5085"/>
                </a:cubicBezTo>
                <a:cubicBezTo>
                  <a:pt x="7405" y="5077"/>
                  <a:pt x="7515" y="5088"/>
                  <a:pt x="7565" y="5110"/>
                </a:cubicBezTo>
                <a:cubicBezTo>
                  <a:pt x="7593" y="5122"/>
                  <a:pt x="7610" y="5142"/>
                  <a:pt x="7615" y="5184"/>
                </a:cubicBezTo>
                <a:cubicBezTo>
                  <a:pt x="7626" y="5286"/>
                  <a:pt x="7610" y="5328"/>
                  <a:pt x="7565" y="5407"/>
                </a:cubicBezTo>
                <a:cubicBezTo>
                  <a:pt x="7504" y="5515"/>
                  <a:pt x="7451" y="5522"/>
                  <a:pt x="7367" y="5606"/>
                </a:cubicBezTo>
                <a:cubicBezTo>
                  <a:pt x="7311" y="5661"/>
                  <a:pt x="7276" y="5704"/>
                  <a:pt x="7218" y="5755"/>
                </a:cubicBezTo>
                <a:cubicBezTo>
                  <a:pt x="7178" y="5790"/>
                  <a:pt x="7158" y="5840"/>
                  <a:pt x="7119" y="5879"/>
                </a:cubicBezTo>
                <a:cubicBezTo>
                  <a:pt x="7115" y="5883"/>
                  <a:pt x="7005" y="6021"/>
                  <a:pt x="6995" y="6028"/>
                </a:cubicBezTo>
                <a:cubicBezTo>
                  <a:pt x="6987" y="6028"/>
                  <a:pt x="6978" y="6028"/>
                  <a:pt x="6970" y="6028"/>
                </a:cubicBezTo>
                <a:cubicBezTo>
                  <a:pt x="7070" y="6028"/>
                  <a:pt x="7064" y="6030"/>
                  <a:pt x="7144" y="5978"/>
                </a:cubicBezTo>
                <a:cubicBezTo>
                  <a:pt x="7207" y="5937"/>
                  <a:pt x="7267" y="5898"/>
                  <a:pt x="7342" y="5879"/>
                </a:cubicBezTo>
                <a:cubicBezTo>
                  <a:pt x="7385" y="5868"/>
                  <a:pt x="7425" y="5841"/>
                  <a:pt x="7466" y="5829"/>
                </a:cubicBezTo>
                <a:cubicBezTo>
                  <a:pt x="7514" y="5815"/>
                  <a:pt x="7590" y="5829"/>
                  <a:pt x="7640" y="5829"/>
                </a:cubicBezTo>
              </a:path>
              <a:path w="1862" h="3647">
                <a:moveTo>
                  <a:pt x="8285" y="5184"/>
                </a:moveTo>
                <a:cubicBezTo>
                  <a:pt x="8180" y="5184"/>
                  <a:pt x="8089" y="5191"/>
                  <a:pt x="7987" y="5209"/>
                </a:cubicBezTo>
                <a:cubicBezTo>
                  <a:pt x="7941" y="5217"/>
                  <a:pt x="7885" y="5209"/>
                  <a:pt x="7838" y="5209"/>
                </a:cubicBezTo>
                <a:cubicBezTo>
                  <a:pt x="7838" y="5325"/>
                  <a:pt x="7838" y="5440"/>
                  <a:pt x="7838" y="5556"/>
                </a:cubicBezTo>
                <a:cubicBezTo>
                  <a:pt x="7906" y="5556"/>
                  <a:pt x="7934" y="5549"/>
                  <a:pt x="7987" y="5531"/>
                </a:cubicBezTo>
                <a:cubicBezTo>
                  <a:pt x="8018" y="5521"/>
                  <a:pt x="8030" y="5516"/>
                  <a:pt x="8062" y="5507"/>
                </a:cubicBezTo>
                <a:cubicBezTo>
                  <a:pt x="8116" y="5493"/>
                  <a:pt x="8190" y="5505"/>
                  <a:pt x="8210" y="5531"/>
                </a:cubicBezTo>
                <a:cubicBezTo>
                  <a:pt x="8241" y="5572"/>
                  <a:pt x="8235" y="5604"/>
                  <a:pt x="8235" y="5655"/>
                </a:cubicBezTo>
                <a:cubicBezTo>
                  <a:pt x="8235" y="5731"/>
                  <a:pt x="8260" y="5848"/>
                  <a:pt x="8210" y="5904"/>
                </a:cubicBezTo>
                <a:cubicBezTo>
                  <a:pt x="8180" y="5938"/>
                  <a:pt x="8153" y="5956"/>
                  <a:pt x="8136" y="5978"/>
                </a:cubicBezTo>
                <a:cubicBezTo>
                  <a:pt x="8101" y="6025"/>
                  <a:pt x="8016" y="6003"/>
                  <a:pt x="7962" y="6003"/>
                </a:cubicBezTo>
                <a:cubicBezTo>
                  <a:pt x="7921" y="6003"/>
                  <a:pt x="7879" y="6003"/>
                  <a:pt x="7838" y="6003"/>
                </a:cubicBezTo>
              </a:path>
              <a:path w="1862" h="3647">
                <a:moveTo>
                  <a:pt x="6747" y="5383"/>
                </a:moveTo>
                <a:cubicBezTo>
                  <a:pt x="6747" y="5375"/>
                  <a:pt x="6747" y="5366"/>
                  <a:pt x="6747" y="5358"/>
                </a:cubicBezTo>
                <a:cubicBezTo>
                  <a:pt x="6846" y="5358"/>
                  <a:pt x="6946" y="5358"/>
                  <a:pt x="7045" y="5358"/>
                </a:cubicBezTo>
              </a:path>
              <a:path w="1862" h="3647">
                <a:moveTo>
                  <a:pt x="7367" y="6648"/>
                </a:moveTo>
                <a:cubicBezTo>
                  <a:pt x="7367" y="6706"/>
                  <a:pt x="7330" y="6701"/>
                  <a:pt x="7317" y="6747"/>
                </a:cubicBezTo>
                <a:cubicBezTo>
                  <a:pt x="7302" y="6798"/>
                  <a:pt x="7291" y="6873"/>
                  <a:pt x="7268" y="6921"/>
                </a:cubicBezTo>
                <a:cubicBezTo>
                  <a:pt x="7244" y="6973"/>
                  <a:pt x="7243" y="7002"/>
                  <a:pt x="7243" y="7069"/>
                </a:cubicBezTo>
                <a:cubicBezTo>
                  <a:pt x="7243" y="7126"/>
                  <a:pt x="7263" y="7253"/>
                  <a:pt x="7218" y="7268"/>
                </a:cubicBezTo>
              </a:path>
              <a:path w="1862" h="3647">
                <a:moveTo>
                  <a:pt x="7565" y="6796"/>
                </a:moveTo>
                <a:cubicBezTo>
                  <a:pt x="7565" y="6772"/>
                  <a:pt x="7565" y="6763"/>
                  <a:pt x="7565" y="6747"/>
                </a:cubicBezTo>
                <a:cubicBezTo>
                  <a:pt x="7565" y="6917"/>
                  <a:pt x="7544" y="7115"/>
                  <a:pt x="7590" y="7268"/>
                </a:cubicBezTo>
                <a:cubicBezTo>
                  <a:pt x="7602" y="7309"/>
                  <a:pt x="7640" y="7293"/>
                  <a:pt x="7689" y="7293"/>
                </a:cubicBezTo>
                <a:cubicBezTo>
                  <a:pt x="7788" y="7293"/>
                  <a:pt x="7888" y="7293"/>
                  <a:pt x="7987" y="7293"/>
                </a:cubicBezTo>
                <a:cubicBezTo>
                  <a:pt x="7987" y="7202"/>
                  <a:pt x="7989" y="7099"/>
                  <a:pt x="7962" y="7045"/>
                </a:cubicBezTo>
                <a:cubicBezTo>
                  <a:pt x="7951" y="7022"/>
                  <a:pt x="7915" y="6998"/>
                  <a:pt x="7888" y="6995"/>
                </a:cubicBezTo>
                <a:cubicBezTo>
                  <a:pt x="7838" y="6989"/>
                  <a:pt x="7828" y="7007"/>
                  <a:pt x="7789" y="7020"/>
                </a:cubicBezTo>
                <a:cubicBezTo>
                  <a:pt x="7757" y="7031"/>
                  <a:pt x="7759" y="7060"/>
                  <a:pt x="7739" y="7069"/>
                </a:cubicBezTo>
                <a:cubicBezTo>
                  <a:pt x="7716" y="7080"/>
                  <a:pt x="7692" y="7118"/>
                  <a:pt x="7689" y="7144"/>
                </a:cubicBezTo>
                <a:cubicBezTo>
                  <a:pt x="7680" y="7218"/>
                  <a:pt x="7694" y="7281"/>
                  <a:pt x="7714" y="7342"/>
                </a:cubicBezTo>
                <a:cubicBezTo>
                  <a:pt x="7714" y="7367"/>
                  <a:pt x="7714" y="7375"/>
                  <a:pt x="7714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0760" y="2938320"/>
            <a:ext cx="474480" cy="214560"/>
          </a:xfrm>
          <a:custGeom>
            <a:avLst/>
            <a:gdLst/>
            <a:ahLst/>
            <a:rect l="l" t="t" r="r" b="b"/>
            <a:pathLst>
              <a:path w="1315" h="596">
                <a:moveTo>
                  <a:pt x="7789" y="8210"/>
                </a:moveTo>
                <a:cubicBezTo>
                  <a:pt x="7789" y="8186"/>
                  <a:pt x="7789" y="8177"/>
                  <a:pt x="7789" y="8161"/>
                </a:cubicBezTo>
                <a:cubicBezTo>
                  <a:pt x="7896" y="8161"/>
                  <a:pt x="8004" y="8161"/>
                  <a:pt x="8111" y="8161"/>
                </a:cubicBezTo>
                <a:cubicBezTo>
                  <a:pt x="8111" y="8212"/>
                  <a:pt x="8121" y="8267"/>
                  <a:pt x="8086" y="8310"/>
                </a:cubicBezTo>
                <a:cubicBezTo>
                  <a:pt x="8021" y="8390"/>
                  <a:pt x="7938" y="8470"/>
                  <a:pt x="7863" y="8533"/>
                </a:cubicBezTo>
                <a:cubicBezTo>
                  <a:pt x="7823" y="8567"/>
                  <a:pt x="7820" y="8597"/>
                  <a:pt x="7789" y="8632"/>
                </a:cubicBezTo>
                <a:cubicBezTo>
                  <a:pt x="7756" y="8670"/>
                  <a:pt x="7748" y="8668"/>
                  <a:pt x="7714" y="8706"/>
                </a:cubicBezTo>
                <a:cubicBezTo>
                  <a:pt x="7678" y="8746"/>
                  <a:pt x="7678" y="8714"/>
                  <a:pt x="7665" y="8756"/>
                </a:cubicBezTo>
                <a:cubicBezTo>
                  <a:pt x="7730" y="8756"/>
                  <a:pt x="7754" y="8753"/>
                  <a:pt x="7813" y="8731"/>
                </a:cubicBezTo>
                <a:cubicBezTo>
                  <a:pt x="7872" y="8709"/>
                  <a:pt x="7903" y="8682"/>
                  <a:pt x="7962" y="8682"/>
                </a:cubicBezTo>
                <a:cubicBezTo>
                  <a:pt x="8003" y="8682"/>
                  <a:pt x="8045" y="8682"/>
                  <a:pt x="8086" y="8682"/>
                </a:cubicBezTo>
              </a:path>
              <a:path w="1315" h="596">
                <a:moveTo>
                  <a:pt x="8533" y="8186"/>
                </a:moveTo>
                <a:cubicBezTo>
                  <a:pt x="8488" y="8186"/>
                  <a:pt x="8468" y="8180"/>
                  <a:pt x="8434" y="8210"/>
                </a:cubicBezTo>
                <a:cubicBezTo>
                  <a:pt x="8389" y="8250"/>
                  <a:pt x="8329" y="8300"/>
                  <a:pt x="8310" y="8359"/>
                </a:cubicBezTo>
                <a:cubicBezTo>
                  <a:pt x="8299" y="8393"/>
                  <a:pt x="8301" y="8452"/>
                  <a:pt x="8285" y="8483"/>
                </a:cubicBezTo>
                <a:cubicBezTo>
                  <a:pt x="8264" y="8525"/>
                  <a:pt x="8260" y="8531"/>
                  <a:pt x="8260" y="8582"/>
                </a:cubicBezTo>
                <a:cubicBezTo>
                  <a:pt x="8260" y="8633"/>
                  <a:pt x="8274" y="8636"/>
                  <a:pt x="8285" y="8657"/>
                </a:cubicBezTo>
                <a:cubicBezTo>
                  <a:pt x="8304" y="8695"/>
                  <a:pt x="8329" y="8682"/>
                  <a:pt x="8384" y="8682"/>
                </a:cubicBezTo>
                <a:cubicBezTo>
                  <a:pt x="8450" y="8682"/>
                  <a:pt x="8534" y="8701"/>
                  <a:pt x="8582" y="8657"/>
                </a:cubicBezTo>
                <a:cubicBezTo>
                  <a:pt x="8608" y="8633"/>
                  <a:pt x="8696" y="8557"/>
                  <a:pt x="8706" y="8533"/>
                </a:cubicBezTo>
                <a:cubicBezTo>
                  <a:pt x="8728" y="8480"/>
                  <a:pt x="8707" y="8329"/>
                  <a:pt x="8682" y="8310"/>
                </a:cubicBezTo>
                <a:cubicBezTo>
                  <a:pt x="8645" y="8282"/>
                  <a:pt x="8641" y="8239"/>
                  <a:pt x="8607" y="8235"/>
                </a:cubicBezTo>
                <a:cubicBezTo>
                  <a:pt x="8566" y="8230"/>
                  <a:pt x="8589" y="8210"/>
                  <a:pt x="8533" y="8210"/>
                </a:cubicBezTo>
                <a:cubicBezTo>
                  <a:pt x="8525" y="8210"/>
                  <a:pt x="8516" y="8210"/>
                  <a:pt x="8508" y="8210"/>
                </a:cubicBezTo>
              </a:path>
              <a:path w="1315" h="596">
                <a:moveTo>
                  <a:pt x="7392" y="8384"/>
                </a:moveTo>
                <a:cubicBezTo>
                  <a:pt x="7400" y="8384"/>
                  <a:pt x="7409" y="8384"/>
                  <a:pt x="7417" y="8384"/>
                </a:cubicBezTo>
                <a:cubicBezTo>
                  <a:pt x="7429" y="8346"/>
                  <a:pt x="7446" y="8359"/>
                  <a:pt x="7491" y="8359"/>
                </a:cubicBezTo>
                <a:cubicBezTo>
                  <a:pt x="7532" y="8359"/>
                  <a:pt x="7574" y="8359"/>
                  <a:pt x="761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02000" y="3438360"/>
            <a:ext cx="403200" cy="258840"/>
          </a:xfrm>
          <a:custGeom>
            <a:avLst/>
            <a:gdLst/>
            <a:ahLst/>
            <a:rect l="l" t="t" r="r" b="b"/>
            <a:pathLst>
              <a:path w="1117" h="720">
                <a:moveTo>
                  <a:pt x="9872" y="9649"/>
                </a:moveTo>
                <a:cubicBezTo>
                  <a:pt x="9872" y="9831"/>
                  <a:pt x="9872" y="10013"/>
                  <a:pt x="9872" y="10195"/>
                </a:cubicBezTo>
              </a:path>
              <a:path w="1117" h="720">
                <a:moveTo>
                  <a:pt x="10145" y="9723"/>
                </a:moveTo>
                <a:cubicBezTo>
                  <a:pt x="10145" y="9685"/>
                  <a:pt x="10129" y="9619"/>
                  <a:pt x="10170" y="9599"/>
                </a:cubicBezTo>
                <a:cubicBezTo>
                  <a:pt x="10196" y="9586"/>
                  <a:pt x="10213" y="9592"/>
                  <a:pt x="10244" y="9575"/>
                </a:cubicBezTo>
                <a:cubicBezTo>
                  <a:pt x="10285" y="9552"/>
                  <a:pt x="10293" y="9550"/>
                  <a:pt x="10344" y="9550"/>
                </a:cubicBezTo>
                <a:cubicBezTo>
                  <a:pt x="10368" y="9550"/>
                  <a:pt x="10377" y="9550"/>
                  <a:pt x="10393" y="9550"/>
                </a:cubicBezTo>
                <a:cubicBezTo>
                  <a:pt x="10393" y="9665"/>
                  <a:pt x="10406" y="9821"/>
                  <a:pt x="10368" y="9897"/>
                </a:cubicBezTo>
                <a:cubicBezTo>
                  <a:pt x="10365" y="9903"/>
                  <a:pt x="10349" y="9967"/>
                  <a:pt x="10344" y="9971"/>
                </a:cubicBezTo>
                <a:cubicBezTo>
                  <a:pt x="10327" y="9984"/>
                  <a:pt x="10285" y="9988"/>
                  <a:pt x="10269" y="10021"/>
                </a:cubicBezTo>
                <a:cubicBezTo>
                  <a:pt x="10246" y="10067"/>
                  <a:pt x="10235" y="10061"/>
                  <a:pt x="10195" y="10096"/>
                </a:cubicBezTo>
                <a:cubicBezTo>
                  <a:pt x="10177" y="10112"/>
                  <a:pt x="10122" y="10139"/>
                  <a:pt x="10120" y="10145"/>
                </a:cubicBezTo>
                <a:cubicBezTo>
                  <a:pt x="10097" y="10228"/>
                  <a:pt x="10083" y="10166"/>
                  <a:pt x="10046" y="10220"/>
                </a:cubicBezTo>
                <a:cubicBezTo>
                  <a:pt x="10046" y="10228"/>
                  <a:pt x="10046" y="10236"/>
                  <a:pt x="10046" y="10244"/>
                </a:cubicBezTo>
                <a:cubicBezTo>
                  <a:pt x="10059" y="10282"/>
                  <a:pt x="10075" y="10269"/>
                  <a:pt x="10120" y="10269"/>
                </a:cubicBezTo>
                <a:cubicBezTo>
                  <a:pt x="10239" y="10269"/>
                  <a:pt x="10364" y="10279"/>
                  <a:pt x="10468" y="10244"/>
                </a:cubicBezTo>
                <a:cubicBezTo>
                  <a:pt x="10494" y="10235"/>
                  <a:pt x="10540" y="10244"/>
                  <a:pt x="10567" y="10244"/>
                </a:cubicBezTo>
              </a:path>
              <a:path w="1117" h="720">
                <a:moveTo>
                  <a:pt x="9475" y="9674"/>
                </a:moveTo>
                <a:cubicBezTo>
                  <a:pt x="9467" y="9674"/>
                  <a:pt x="9459" y="9674"/>
                  <a:pt x="9451" y="9674"/>
                </a:cubicBezTo>
                <a:cubicBezTo>
                  <a:pt x="9550" y="9674"/>
                  <a:pt x="9649" y="9674"/>
                  <a:pt x="9748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01920" y="3973680"/>
            <a:ext cx="357120" cy="214200"/>
          </a:xfrm>
          <a:custGeom>
            <a:avLst/>
            <a:gdLst/>
            <a:ahLst/>
            <a:rect l="l" t="t" r="r" b="b"/>
            <a:pathLst>
              <a:path w="994" h="596">
                <a:moveTo>
                  <a:pt x="7020" y="11162"/>
                </a:moveTo>
                <a:cubicBezTo>
                  <a:pt x="7020" y="11294"/>
                  <a:pt x="7020" y="11427"/>
                  <a:pt x="7020" y="11559"/>
                </a:cubicBezTo>
              </a:path>
              <a:path w="994" h="596">
                <a:moveTo>
                  <a:pt x="7293" y="11187"/>
                </a:moveTo>
                <a:cubicBezTo>
                  <a:pt x="7293" y="11151"/>
                  <a:pt x="7299" y="11114"/>
                  <a:pt x="7317" y="11088"/>
                </a:cubicBezTo>
                <a:cubicBezTo>
                  <a:pt x="7334" y="11063"/>
                  <a:pt x="7374" y="11040"/>
                  <a:pt x="7392" y="11038"/>
                </a:cubicBezTo>
                <a:cubicBezTo>
                  <a:pt x="7447" y="11031"/>
                  <a:pt x="7509" y="11038"/>
                  <a:pt x="7565" y="11038"/>
                </a:cubicBezTo>
                <a:cubicBezTo>
                  <a:pt x="7565" y="11128"/>
                  <a:pt x="7564" y="11208"/>
                  <a:pt x="7541" y="11286"/>
                </a:cubicBezTo>
                <a:cubicBezTo>
                  <a:pt x="7530" y="11324"/>
                  <a:pt x="7508" y="11339"/>
                  <a:pt x="7491" y="11361"/>
                </a:cubicBezTo>
                <a:cubicBezTo>
                  <a:pt x="7477" y="11379"/>
                  <a:pt x="7419" y="11434"/>
                  <a:pt x="7417" y="11435"/>
                </a:cubicBezTo>
                <a:cubicBezTo>
                  <a:pt x="7392" y="11447"/>
                  <a:pt x="7382" y="11477"/>
                  <a:pt x="7367" y="11485"/>
                </a:cubicBezTo>
                <a:cubicBezTo>
                  <a:pt x="7331" y="11503"/>
                  <a:pt x="7320" y="11488"/>
                  <a:pt x="7293" y="11509"/>
                </a:cubicBezTo>
                <a:cubicBezTo>
                  <a:pt x="7251" y="11540"/>
                  <a:pt x="7243" y="11560"/>
                  <a:pt x="7243" y="11609"/>
                </a:cubicBezTo>
                <a:cubicBezTo>
                  <a:pt x="7243" y="11617"/>
                  <a:pt x="7243" y="11625"/>
                  <a:pt x="7243" y="11633"/>
                </a:cubicBezTo>
                <a:cubicBezTo>
                  <a:pt x="7384" y="11633"/>
                  <a:pt x="7524" y="11633"/>
                  <a:pt x="7665" y="11633"/>
                </a:cubicBezTo>
              </a:path>
              <a:path w="994" h="596">
                <a:moveTo>
                  <a:pt x="6672" y="11063"/>
                </a:moveTo>
                <a:cubicBezTo>
                  <a:pt x="6747" y="11063"/>
                  <a:pt x="6821" y="11063"/>
                  <a:pt x="6896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bjective: Students will multiply integers.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Evaluate if a = -2 and b =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-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sto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2a + 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52800" y="1660680"/>
            <a:ext cx="820440" cy="509400"/>
          </a:xfrm>
          <a:custGeom>
            <a:avLst/>
            <a:gdLst/>
            <a:ahLst/>
            <a:rect l="l" t="t" r="r" b="b"/>
            <a:pathLst>
              <a:path w="2283" h="1415">
                <a:moveTo>
                  <a:pt x="5978" y="5135"/>
                </a:moveTo>
                <a:cubicBezTo>
                  <a:pt x="5978" y="5160"/>
                  <a:pt x="5978" y="5184"/>
                  <a:pt x="5978" y="5209"/>
                </a:cubicBezTo>
                <a:cubicBezTo>
                  <a:pt x="6085" y="5209"/>
                  <a:pt x="6193" y="5209"/>
                  <a:pt x="6300" y="5209"/>
                </a:cubicBezTo>
              </a:path>
              <a:path w="2283" h="1415">
                <a:moveTo>
                  <a:pt x="6623" y="5060"/>
                </a:moveTo>
                <a:cubicBezTo>
                  <a:pt x="6623" y="5009"/>
                  <a:pt x="6638" y="5007"/>
                  <a:pt x="6648" y="4986"/>
                </a:cubicBezTo>
                <a:cubicBezTo>
                  <a:pt x="6674" y="4933"/>
                  <a:pt x="6693" y="4940"/>
                  <a:pt x="6747" y="4911"/>
                </a:cubicBezTo>
                <a:cubicBezTo>
                  <a:pt x="6796" y="4885"/>
                  <a:pt x="6819" y="4887"/>
                  <a:pt x="6871" y="4887"/>
                </a:cubicBezTo>
                <a:cubicBezTo>
                  <a:pt x="6912" y="4887"/>
                  <a:pt x="6954" y="4887"/>
                  <a:pt x="6995" y="4887"/>
                </a:cubicBezTo>
                <a:cubicBezTo>
                  <a:pt x="6995" y="4953"/>
                  <a:pt x="7010" y="5035"/>
                  <a:pt x="6970" y="5085"/>
                </a:cubicBezTo>
                <a:cubicBezTo>
                  <a:pt x="6932" y="5132"/>
                  <a:pt x="6907" y="5186"/>
                  <a:pt x="6871" y="5234"/>
                </a:cubicBezTo>
                <a:cubicBezTo>
                  <a:pt x="6836" y="5281"/>
                  <a:pt x="6788" y="5299"/>
                  <a:pt x="6747" y="5333"/>
                </a:cubicBezTo>
                <a:cubicBezTo>
                  <a:pt x="6709" y="5364"/>
                  <a:pt x="6624" y="5423"/>
                  <a:pt x="6598" y="5457"/>
                </a:cubicBezTo>
                <a:cubicBezTo>
                  <a:pt x="6584" y="5475"/>
                  <a:pt x="6561" y="5524"/>
                  <a:pt x="6548" y="5531"/>
                </a:cubicBezTo>
                <a:cubicBezTo>
                  <a:pt x="6521" y="5544"/>
                  <a:pt x="6513" y="5568"/>
                  <a:pt x="6474" y="5581"/>
                </a:cubicBezTo>
                <a:cubicBezTo>
                  <a:pt x="6435" y="5594"/>
                  <a:pt x="6435" y="5589"/>
                  <a:pt x="6424" y="5631"/>
                </a:cubicBezTo>
                <a:cubicBezTo>
                  <a:pt x="6606" y="5631"/>
                  <a:pt x="6788" y="5631"/>
                  <a:pt x="6970" y="5631"/>
                </a:cubicBezTo>
              </a:path>
              <a:path w="2283" h="1415">
                <a:moveTo>
                  <a:pt x="7665" y="4638"/>
                </a:moveTo>
                <a:cubicBezTo>
                  <a:pt x="7624" y="4644"/>
                  <a:pt x="7602" y="4649"/>
                  <a:pt x="7565" y="4663"/>
                </a:cubicBezTo>
                <a:cubicBezTo>
                  <a:pt x="7561" y="4689"/>
                  <a:pt x="7548" y="4763"/>
                  <a:pt x="7516" y="4787"/>
                </a:cubicBezTo>
                <a:cubicBezTo>
                  <a:pt x="7508" y="4787"/>
                  <a:pt x="7499" y="4787"/>
                  <a:pt x="7491" y="4787"/>
                </a:cubicBezTo>
                <a:cubicBezTo>
                  <a:pt x="7481" y="4860"/>
                  <a:pt x="7440" y="4866"/>
                  <a:pt x="7417" y="4936"/>
                </a:cubicBezTo>
                <a:cubicBezTo>
                  <a:pt x="7417" y="4944"/>
                  <a:pt x="7417" y="4953"/>
                  <a:pt x="7417" y="4961"/>
                </a:cubicBezTo>
                <a:cubicBezTo>
                  <a:pt x="7395" y="4983"/>
                  <a:pt x="7373" y="5019"/>
                  <a:pt x="7342" y="5060"/>
                </a:cubicBezTo>
                <a:cubicBezTo>
                  <a:pt x="7308" y="5105"/>
                  <a:pt x="7313" y="5142"/>
                  <a:pt x="7293" y="5184"/>
                </a:cubicBezTo>
                <a:cubicBezTo>
                  <a:pt x="7269" y="5235"/>
                  <a:pt x="7268" y="5243"/>
                  <a:pt x="7268" y="5308"/>
                </a:cubicBezTo>
                <a:cubicBezTo>
                  <a:pt x="7268" y="5476"/>
                  <a:pt x="7264" y="5652"/>
                  <a:pt x="7293" y="5804"/>
                </a:cubicBezTo>
                <a:cubicBezTo>
                  <a:pt x="7303" y="5857"/>
                  <a:pt x="7314" y="5902"/>
                  <a:pt x="7317" y="5953"/>
                </a:cubicBezTo>
                <a:cubicBezTo>
                  <a:pt x="7318" y="5978"/>
                  <a:pt x="7317" y="6003"/>
                  <a:pt x="7317" y="6028"/>
                </a:cubicBezTo>
              </a:path>
              <a:path w="2283" h="1415">
                <a:moveTo>
                  <a:pt x="7317" y="6028"/>
                </a:moveTo>
                <a:cubicBezTo>
                  <a:pt x="7344" y="5974"/>
                  <a:pt x="7369" y="5929"/>
                  <a:pt x="7417" y="5879"/>
                </a:cubicBezTo>
                <a:cubicBezTo>
                  <a:pt x="7568" y="5722"/>
                  <a:pt x="7758" y="5602"/>
                  <a:pt x="7938" y="5482"/>
                </a:cubicBezTo>
                <a:cubicBezTo>
                  <a:pt x="8021" y="5426"/>
                  <a:pt x="8079" y="5335"/>
                  <a:pt x="8161" y="5283"/>
                </a:cubicBezTo>
                <a:cubicBezTo>
                  <a:pt x="8178" y="5272"/>
                  <a:pt x="8232" y="5244"/>
                  <a:pt x="8235" y="5234"/>
                </a:cubicBezTo>
                <a:cubicBezTo>
                  <a:pt x="8247" y="5191"/>
                  <a:pt x="8253" y="5192"/>
                  <a:pt x="8260" y="5159"/>
                </a:cubicBezTo>
                <a:cubicBezTo>
                  <a:pt x="8267" y="5123"/>
                  <a:pt x="8260" y="5073"/>
                  <a:pt x="8260" y="5035"/>
                </a:cubicBezTo>
              </a:path>
              <a:path w="2283" h="1415">
                <a:moveTo>
                  <a:pt x="8260" y="5035"/>
                </a:moveTo>
                <a:lnTo>
                  <a:pt x="8260" y="5035"/>
                </a:lnTo>
              </a:path>
              <a:path w="2283" h="1415">
                <a:moveTo>
                  <a:pt x="8136" y="4614"/>
                </a:moveTo>
                <a:cubicBezTo>
                  <a:pt x="8136" y="4702"/>
                  <a:pt x="8169" y="4734"/>
                  <a:pt x="8186" y="4812"/>
                </a:cubicBezTo>
                <a:cubicBezTo>
                  <a:pt x="8198" y="4864"/>
                  <a:pt x="8230" y="4907"/>
                  <a:pt x="8235" y="4961"/>
                </a:cubicBezTo>
                <a:cubicBezTo>
                  <a:pt x="8255" y="5165"/>
                  <a:pt x="8272" y="5471"/>
                  <a:pt x="8210" y="5655"/>
                </a:cubicBezTo>
                <a:cubicBezTo>
                  <a:pt x="8210" y="5663"/>
                  <a:pt x="8210" y="5672"/>
                  <a:pt x="8210" y="5680"/>
                </a:cubicBezTo>
                <a:cubicBezTo>
                  <a:pt x="8171" y="5693"/>
                  <a:pt x="8200" y="5692"/>
                  <a:pt x="8161" y="5705"/>
                </a:cubicBezTo>
                <a:cubicBezTo>
                  <a:pt x="8148" y="5745"/>
                  <a:pt x="8149" y="5715"/>
                  <a:pt x="8136" y="5755"/>
                </a:cubicBezTo>
                <a:cubicBezTo>
                  <a:pt x="8107" y="5762"/>
                  <a:pt x="8091" y="5772"/>
                  <a:pt x="8062" y="5779"/>
                </a:cubicBezTo>
              </a:path>
              <a:path w="2283" h="1415">
                <a:moveTo>
                  <a:pt x="7565" y="5159"/>
                </a:moveTo>
                <a:cubicBezTo>
                  <a:pt x="7575" y="5121"/>
                  <a:pt x="7608" y="5099"/>
                  <a:pt x="7615" y="5085"/>
                </a:cubicBezTo>
                <a:cubicBezTo>
                  <a:pt x="7627" y="5060"/>
                  <a:pt x="7674" y="5039"/>
                  <a:pt x="7714" y="5035"/>
                </a:cubicBezTo>
                <a:cubicBezTo>
                  <a:pt x="7762" y="5030"/>
                  <a:pt x="7814" y="5035"/>
                  <a:pt x="7863" y="5035"/>
                </a:cubicBezTo>
                <a:cubicBezTo>
                  <a:pt x="7863" y="5095"/>
                  <a:pt x="7898" y="5328"/>
                  <a:pt x="7838" y="5358"/>
                </a:cubicBezTo>
                <a:cubicBezTo>
                  <a:pt x="7802" y="5376"/>
                  <a:pt x="7751" y="5416"/>
                  <a:pt x="7714" y="5432"/>
                </a:cubicBezTo>
                <a:cubicBezTo>
                  <a:pt x="7680" y="5447"/>
                  <a:pt x="7603" y="5432"/>
                  <a:pt x="7565" y="5432"/>
                </a:cubicBezTo>
                <a:cubicBezTo>
                  <a:pt x="7578" y="5394"/>
                  <a:pt x="7595" y="5407"/>
                  <a:pt x="7640" y="5407"/>
                </a:cubicBezTo>
                <a:cubicBezTo>
                  <a:pt x="7676" y="5407"/>
                  <a:pt x="7744" y="5391"/>
                  <a:pt x="7764" y="5432"/>
                </a:cubicBezTo>
                <a:cubicBezTo>
                  <a:pt x="7780" y="5465"/>
                  <a:pt x="7789" y="5457"/>
                  <a:pt x="7789" y="5507"/>
                </a:cubicBezTo>
                <a:cubicBezTo>
                  <a:pt x="7789" y="5565"/>
                  <a:pt x="7789" y="5622"/>
                  <a:pt x="7789" y="5680"/>
                </a:cubicBezTo>
                <a:cubicBezTo>
                  <a:pt x="7722" y="5680"/>
                  <a:pt x="7508" y="5705"/>
                  <a:pt x="7491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87800" y="1768320"/>
            <a:ext cx="598320" cy="339840"/>
          </a:xfrm>
          <a:custGeom>
            <a:avLst/>
            <a:gdLst/>
            <a:ahLst/>
            <a:rect l="l" t="t" r="r" b="b"/>
            <a:pathLst>
              <a:path w="1663" h="944">
                <a:moveTo>
                  <a:pt x="8930" y="5283"/>
                </a:moveTo>
                <a:cubicBezTo>
                  <a:pt x="8930" y="5259"/>
                  <a:pt x="8930" y="5250"/>
                  <a:pt x="8930" y="5234"/>
                </a:cubicBezTo>
                <a:cubicBezTo>
                  <a:pt x="9013" y="5234"/>
                  <a:pt x="9095" y="5234"/>
                  <a:pt x="9178" y="5234"/>
                </a:cubicBezTo>
              </a:path>
              <a:path w="1663" h="944">
                <a:moveTo>
                  <a:pt x="8855" y="5507"/>
                </a:moveTo>
                <a:cubicBezTo>
                  <a:pt x="8954" y="5507"/>
                  <a:pt x="9054" y="5507"/>
                  <a:pt x="9153" y="5507"/>
                </a:cubicBezTo>
              </a:path>
              <a:path w="1663" h="944">
                <a:moveTo>
                  <a:pt x="9971" y="4936"/>
                </a:moveTo>
                <a:cubicBezTo>
                  <a:pt x="9971" y="4869"/>
                  <a:pt x="9971" y="4975"/>
                  <a:pt x="9971" y="4986"/>
                </a:cubicBezTo>
                <a:cubicBezTo>
                  <a:pt x="9971" y="5057"/>
                  <a:pt x="9963" y="5094"/>
                  <a:pt x="9947" y="5159"/>
                </a:cubicBezTo>
                <a:cubicBezTo>
                  <a:pt x="9938" y="5195"/>
                  <a:pt x="9920" y="5248"/>
                  <a:pt x="9897" y="5283"/>
                </a:cubicBezTo>
                <a:cubicBezTo>
                  <a:pt x="9870" y="5323"/>
                  <a:pt x="9872" y="5333"/>
                  <a:pt x="9872" y="5383"/>
                </a:cubicBezTo>
                <a:cubicBezTo>
                  <a:pt x="9872" y="5443"/>
                  <a:pt x="9840" y="5676"/>
                  <a:pt x="9897" y="5705"/>
                </a:cubicBezTo>
                <a:cubicBezTo>
                  <a:pt x="9933" y="5723"/>
                  <a:pt x="9974" y="5762"/>
                  <a:pt x="9996" y="5779"/>
                </a:cubicBezTo>
                <a:cubicBezTo>
                  <a:pt x="10052" y="5820"/>
                  <a:pt x="10078" y="5829"/>
                  <a:pt x="10145" y="5829"/>
                </a:cubicBezTo>
                <a:cubicBezTo>
                  <a:pt x="10220" y="5829"/>
                  <a:pt x="10332" y="5845"/>
                  <a:pt x="10368" y="5804"/>
                </a:cubicBezTo>
                <a:cubicBezTo>
                  <a:pt x="10391" y="5777"/>
                  <a:pt x="10437" y="5723"/>
                  <a:pt x="10468" y="5705"/>
                </a:cubicBezTo>
                <a:cubicBezTo>
                  <a:pt x="10487" y="5694"/>
                  <a:pt x="10506" y="5664"/>
                  <a:pt x="10517" y="5631"/>
                </a:cubicBezTo>
                <a:cubicBezTo>
                  <a:pt x="10535" y="5579"/>
                  <a:pt x="10517" y="5488"/>
                  <a:pt x="10517" y="5432"/>
                </a:cubicBezTo>
                <a:cubicBezTo>
                  <a:pt x="10461" y="5432"/>
                  <a:pt x="10484" y="5412"/>
                  <a:pt x="10443" y="5407"/>
                </a:cubicBezTo>
                <a:cubicBezTo>
                  <a:pt x="10391" y="5401"/>
                  <a:pt x="10388" y="5422"/>
                  <a:pt x="10368" y="5432"/>
                </a:cubicBezTo>
                <a:cubicBezTo>
                  <a:pt x="10345" y="5444"/>
                  <a:pt x="10333" y="5475"/>
                  <a:pt x="10319" y="5482"/>
                </a:cubicBezTo>
                <a:cubicBezTo>
                  <a:pt x="10269" y="5507"/>
                  <a:pt x="10319" y="5510"/>
                  <a:pt x="10294" y="5556"/>
                </a:cubicBezTo>
                <a:cubicBezTo>
                  <a:pt x="10271" y="5597"/>
                  <a:pt x="10269" y="5604"/>
                  <a:pt x="10269" y="5655"/>
                </a:cubicBezTo>
                <a:cubicBezTo>
                  <a:pt x="10269" y="5721"/>
                  <a:pt x="10269" y="5788"/>
                  <a:pt x="10269" y="5854"/>
                </a:cubicBezTo>
              </a:path>
              <a:path w="1663" h="944">
                <a:moveTo>
                  <a:pt x="9451" y="5110"/>
                </a:moveTo>
                <a:cubicBezTo>
                  <a:pt x="9451" y="5102"/>
                  <a:pt x="9451" y="5093"/>
                  <a:pt x="9451" y="5085"/>
                </a:cubicBezTo>
                <a:cubicBezTo>
                  <a:pt x="9534" y="5085"/>
                  <a:pt x="9616" y="5085"/>
                  <a:pt x="9699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60720" y="2867040"/>
            <a:ext cx="1090440" cy="571320"/>
          </a:xfrm>
          <a:custGeom>
            <a:avLst/>
            <a:gdLst/>
            <a:ahLst/>
            <a:rect l="l" t="t" r="r" b="b"/>
            <a:pathLst>
              <a:path w="3027" h="1589">
                <a:moveTo>
                  <a:pt x="6003" y="8533"/>
                </a:moveTo>
                <a:cubicBezTo>
                  <a:pt x="6135" y="8533"/>
                  <a:pt x="6268" y="8533"/>
                  <a:pt x="6400" y="8533"/>
                </a:cubicBezTo>
              </a:path>
              <a:path w="3027" h="1589">
                <a:moveTo>
                  <a:pt x="6722" y="8062"/>
                </a:moveTo>
                <a:cubicBezTo>
                  <a:pt x="6722" y="8137"/>
                  <a:pt x="6720" y="8188"/>
                  <a:pt x="6697" y="8260"/>
                </a:cubicBezTo>
                <a:cubicBezTo>
                  <a:pt x="6666" y="8357"/>
                  <a:pt x="6642" y="8435"/>
                  <a:pt x="6623" y="8533"/>
                </a:cubicBezTo>
                <a:cubicBezTo>
                  <a:pt x="6609" y="8608"/>
                  <a:pt x="6603" y="8738"/>
                  <a:pt x="6573" y="8806"/>
                </a:cubicBezTo>
                <a:cubicBezTo>
                  <a:pt x="6553" y="8851"/>
                  <a:pt x="6534" y="8899"/>
                  <a:pt x="6524" y="8954"/>
                </a:cubicBezTo>
                <a:cubicBezTo>
                  <a:pt x="6501" y="9082"/>
                  <a:pt x="6495" y="9337"/>
                  <a:pt x="6548" y="9451"/>
                </a:cubicBezTo>
                <a:cubicBezTo>
                  <a:pt x="6564" y="9485"/>
                  <a:pt x="6560" y="9520"/>
                  <a:pt x="6598" y="9525"/>
                </a:cubicBezTo>
                <a:cubicBezTo>
                  <a:pt x="6622" y="9528"/>
                  <a:pt x="6648" y="9525"/>
                  <a:pt x="6672" y="9525"/>
                </a:cubicBezTo>
              </a:path>
              <a:path w="3027" h="1589">
                <a:moveTo>
                  <a:pt x="6945" y="8657"/>
                </a:moveTo>
                <a:cubicBezTo>
                  <a:pt x="6986" y="8657"/>
                  <a:pt x="7028" y="8657"/>
                  <a:pt x="7069" y="8657"/>
                </a:cubicBezTo>
              </a:path>
              <a:path w="3027" h="1589">
                <a:moveTo>
                  <a:pt x="7417" y="8334"/>
                </a:moveTo>
                <a:cubicBezTo>
                  <a:pt x="7423" y="8281"/>
                  <a:pt x="7426" y="8253"/>
                  <a:pt x="7466" y="8210"/>
                </a:cubicBezTo>
                <a:cubicBezTo>
                  <a:pt x="7510" y="8163"/>
                  <a:pt x="7527" y="8144"/>
                  <a:pt x="7565" y="8111"/>
                </a:cubicBezTo>
                <a:cubicBezTo>
                  <a:pt x="7581" y="8097"/>
                  <a:pt x="7592" y="8070"/>
                  <a:pt x="7640" y="8086"/>
                </a:cubicBezTo>
                <a:cubicBezTo>
                  <a:pt x="7664" y="8094"/>
                  <a:pt x="7710" y="8189"/>
                  <a:pt x="7714" y="8210"/>
                </a:cubicBezTo>
                <a:cubicBezTo>
                  <a:pt x="7739" y="8344"/>
                  <a:pt x="7729" y="8527"/>
                  <a:pt x="7665" y="8632"/>
                </a:cubicBezTo>
                <a:cubicBezTo>
                  <a:pt x="7630" y="8690"/>
                  <a:pt x="7578" y="8726"/>
                  <a:pt x="7541" y="8781"/>
                </a:cubicBezTo>
                <a:cubicBezTo>
                  <a:pt x="7510" y="8827"/>
                  <a:pt x="7494" y="8902"/>
                  <a:pt x="7466" y="8930"/>
                </a:cubicBezTo>
                <a:cubicBezTo>
                  <a:pt x="7434" y="8962"/>
                  <a:pt x="7363" y="9003"/>
                  <a:pt x="7342" y="9054"/>
                </a:cubicBezTo>
                <a:cubicBezTo>
                  <a:pt x="7315" y="9118"/>
                  <a:pt x="7244" y="9186"/>
                  <a:pt x="7218" y="9252"/>
                </a:cubicBezTo>
                <a:cubicBezTo>
                  <a:pt x="7182" y="9343"/>
                  <a:pt x="7222" y="9258"/>
                  <a:pt x="7169" y="9327"/>
                </a:cubicBezTo>
                <a:cubicBezTo>
                  <a:pt x="7243" y="9316"/>
                  <a:pt x="7222" y="9282"/>
                  <a:pt x="7293" y="9252"/>
                </a:cubicBezTo>
                <a:cubicBezTo>
                  <a:pt x="7332" y="9236"/>
                  <a:pt x="7383" y="9229"/>
                  <a:pt x="7417" y="9203"/>
                </a:cubicBezTo>
                <a:cubicBezTo>
                  <a:pt x="7458" y="9172"/>
                  <a:pt x="7489" y="9178"/>
                  <a:pt x="7541" y="9178"/>
                </a:cubicBezTo>
                <a:cubicBezTo>
                  <a:pt x="7609" y="9178"/>
                  <a:pt x="7654" y="9182"/>
                  <a:pt x="7689" y="9203"/>
                </a:cubicBezTo>
              </a:path>
              <a:path w="3027" h="1589">
                <a:moveTo>
                  <a:pt x="7888" y="7962"/>
                </a:moveTo>
                <a:cubicBezTo>
                  <a:pt x="7888" y="8042"/>
                  <a:pt x="7879" y="8119"/>
                  <a:pt x="7913" y="8186"/>
                </a:cubicBezTo>
                <a:cubicBezTo>
                  <a:pt x="7952" y="8262"/>
                  <a:pt x="7912" y="8334"/>
                  <a:pt x="7938" y="8409"/>
                </a:cubicBezTo>
                <a:cubicBezTo>
                  <a:pt x="7956" y="8461"/>
                  <a:pt x="7962" y="8492"/>
                  <a:pt x="7962" y="8558"/>
                </a:cubicBezTo>
                <a:cubicBezTo>
                  <a:pt x="7962" y="8753"/>
                  <a:pt x="8037" y="9153"/>
                  <a:pt x="7938" y="9327"/>
                </a:cubicBezTo>
                <a:cubicBezTo>
                  <a:pt x="7919" y="9360"/>
                  <a:pt x="7916" y="9394"/>
                  <a:pt x="7888" y="9426"/>
                </a:cubicBezTo>
                <a:cubicBezTo>
                  <a:pt x="7867" y="9450"/>
                  <a:pt x="7851" y="9462"/>
                  <a:pt x="7838" y="9475"/>
                </a:cubicBezTo>
              </a:path>
              <a:path w="3027" h="1589">
                <a:moveTo>
                  <a:pt x="8359" y="8012"/>
                </a:moveTo>
                <a:cubicBezTo>
                  <a:pt x="8317" y="8018"/>
                  <a:pt x="8283" y="8014"/>
                  <a:pt x="8260" y="8062"/>
                </a:cubicBezTo>
                <a:cubicBezTo>
                  <a:pt x="8243" y="8097"/>
                  <a:pt x="8231" y="8156"/>
                  <a:pt x="8210" y="8186"/>
                </a:cubicBezTo>
                <a:cubicBezTo>
                  <a:pt x="8186" y="8221"/>
                  <a:pt x="8154" y="8270"/>
                  <a:pt x="8136" y="8310"/>
                </a:cubicBezTo>
                <a:cubicBezTo>
                  <a:pt x="8112" y="8364"/>
                  <a:pt x="8074" y="8449"/>
                  <a:pt x="8062" y="8508"/>
                </a:cubicBezTo>
                <a:cubicBezTo>
                  <a:pt x="8050" y="8568"/>
                  <a:pt x="8025" y="8623"/>
                  <a:pt x="8012" y="8682"/>
                </a:cubicBezTo>
                <a:cubicBezTo>
                  <a:pt x="8002" y="8729"/>
                  <a:pt x="7993" y="8784"/>
                  <a:pt x="7987" y="8830"/>
                </a:cubicBezTo>
                <a:cubicBezTo>
                  <a:pt x="7965" y="8989"/>
                  <a:pt x="7960" y="9252"/>
                  <a:pt x="8037" y="9376"/>
                </a:cubicBezTo>
                <a:cubicBezTo>
                  <a:pt x="8054" y="9404"/>
                  <a:pt x="8069" y="9457"/>
                  <a:pt x="8111" y="9475"/>
                </a:cubicBezTo>
                <a:cubicBezTo>
                  <a:pt x="8119" y="9475"/>
                  <a:pt x="8128" y="9475"/>
                  <a:pt x="8136" y="9475"/>
                </a:cubicBezTo>
              </a:path>
              <a:path w="3027" h="1589">
                <a:moveTo>
                  <a:pt x="8359" y="8458"/>
                </a:moveTo>
                <a:cubicBezTo>
                  <a:pt x="8390" y="8397"/>
                  <a:pt x="8439" y="8409"/>
                  <a:pt x="8508" y="8409"/>
                </a:cubicBezTo>
                <a:cubicBezTo>
                  <a:pt x="8558" y="8409"/>
                  <a:pt x="8607" y="8409"/>
                  <a:pt x="8657" y="8409"/>
                </a:cubicBezTo>
                <a:cubicBezTo>
                  <a:pt x="8657" y="8464"/>
                  <a:pt x="8680" y="8590"/>
                  <a:pt x="8632" y="8632"/>
                </a:cubicBezTo>
                <a:cubicBezTo>
                  <a:pt x="8624" y="8639"/>
                  <a:pt x="8563" y="8656"/>
                  <a:pt x="8558" y="8657"/>
                </a:cubicBezTo>
                <a:cubicBezTo>
                  <a:pt x="8517" y="8662"/>
                  <a:pt x="8539" y="8682"/>
                  <a:pt x="8483" y="8682"/>
                </a:cubicBezTo>
                <a:cubicBezTo>
                  <a:pt x="8458" y="8682"/>
                  <a:pt x="8450" y="8682"/>
                  <a:pt x="8434" y="8682"/>
                </a:cubicBezTo>
                <a:cubicBezTo>
                  <a:pt x="8352" y="8682"/>
                  <a:pt x="8532" y="8681"/>
                  <a:pt x="8533" y="8682"/>
                </a:cubicBezTo>
                <a:cubicBezTo>
                  <a:pt x="8563" y="8694"/>
                  <a:pt x="8624" y="8728"/>
                  <a:pt x="8632" y="8731"/>
                </a:cubicBezTo>
                <a:cubicBezTo>
                  <a:pt x="8678" y="8751"/>
                  <a:pt x="8682" y="8750"/>
                  <a:pt x="8682" y="8806"/>
                </a:cubicBezTo>
                <a:cubicBezTo>
                  <a:pt x="8682" y="8936"/>
                  <a:pt x="8719" y="9133"/>
                  <a:pt x="8632" y="9227"/>
                </a:cubicBezTo>
                <a:cubicBezTo>
                  <a:pt x="8595" y="9267"/>
                  <a:pt x="8535" y="9321"/>
                  <a:pt x="8483" y="9327"/>
                </a:cubicBezTo>
                <a:cubicBezTo>
                  <a:pt x="8403" y="9336"/>
                  <a:pt x="8316" y="9327"/>
                  <a:pt x="8235" y="9327"/>
                </a:cubicBezTo>
              </a:path>
              <a:path w="3027" h="1589">
                <a:moveTo>
                  <a:pt x="8806" y="8086"/>
                </a:moveTo>
                <a:cubicBezTo>
                  <a:pt x="8823" y="8115"/>
                  <a:pt x="8812" y="8125"/>
                  <a:pt x="8830" y="8161"/>
                </a:cubicBezTo>
                <a:cubicBezTo>
                  <a:pt x="8853" y="8207"/>
                  <a:pt x="8909" y="8225"/>
                  <a:pt x="8930" y="8260"/>
                </a:cubicBezTo>
                <a:cubicBezTo>
                  <a:pt x="8954" y="8301"/>
                  <a:pt x="8960" y="8370"/>
                  <a:pt x="8979" y="8409"/>
                </a:cubicBezTo>
                <a:cubicBezTo>
                  <a:pt x="9011" y="8473"/>
                  <a:pt x="9026" y="8483"/>
                  <a:pt x="9029" y="8558"/>
                </a:cubicBezTo>
                <a:cubicBezTo>
                  <a:pt x="9036" y="8724"/>
                  <a:pt x="9068" y="8978"/>
                  <a:pt x="9004" y="9128"/>
                </a:cubicBezTo>
                <a:cubicBezTo>
                  <a:pt x="8982" y="9180"/>
                  <a:pt x="8984" y="9199"/>
                  <a:pt x="8979" y="9252"/>
                </a:cubicBezTo>
                <a:cubicBezTo>
                  <a:pt x="8962" y="9269"/>
                  <a:pt x="8933" y="9286"/>
                  <a:pt x="8905" y="9302"/>
                </a:cubicBezTo>
                <a:cubicBezTo>
                  <a:pt x="8885" y="9326"/>
                  <a:pt x="8888" y="9343"/>
                  <a:pt x="8855" y="9376"/>
                </a:cubicBezTo>
                <a:cubicBezTo>
                  <a:pt x="8827" y="9404"/>
                  <a:pt x="8810" y="9459"/>
                  <a:pt x="8781" y="9475"/>
                </a:cubicBezTo>
                <a:cubicBezTo>
                  <a:pt x="8773" y="9475"/>
                  <a:pt x="8764" y="9475"/>
                  <a:pt x="8756" y="9475"/>
                </a:cubicBezTo>
                <a:cubicBezTo>
                  <a:pt x="8740" y="9496"/>
                  <a:pt x="8746" y="9504"/>
                  <a:pt x="8731" y="9525"/>
                </a:cubicBezTo>
                <a:cubicBezTo>
                  <a:pt x="8706" y="9525"/>
                  <a:pt x="8698" y="9525"/>
                  <a:pt x="8706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38360" y="3054240"/>
            <a:ext cx="13356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9550" y="8558"/>
                </a:moveTo>
                <a:cubicBezTo>
                  <a:pt x="9550" y="8550"/>
                  <a:pt x="9550" y="8541"/>
                  <a:pt x="9550" y="8533"/>
                </a:cubicBezTo>
                <a:cubicBezTo>
                  <a:pt x="9631" y="8533"/>
                  <a:pt x="9697" y="8526"/>
                  <a:pt x="9773" y="8508"/>
                </a:cubicBezTo>
                <a:cubicBezTo>
                  <a:pt x="9810" y="8500"/>
                  <a:pt x="9859" y="8508"/>
                  <a:pt x="9897" y="8508"/>
                </a:cubicBezTo>
                <a:cubicBezTo>
                  <a:pt x="9897" y="8483"/>
                  <a:pt x="9897" y="8475"/>
                  <a:pt x="9922" y="8483"/>
                </a:cubicBezTo>
              </a:path>
              <a:path w="373" h="423">
                <a:moveTo>
                  <a:pt x="9649" y="8905"/>
                </a:moveTo>
                <a:cubicBezTo>
                  <a:pt x="9649" y="8897"/>
                  <a:pt x="9649" y="8888"/>
                  <a:pt x="9649" y="8880"/>
                </a:cubicBezTo>
                <a:cubicBezTo>
                  <a:pt x="9723" y="8880"/>
                  <a:pt x="9798" y="8880"/>
                  <a:pt x="9872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41840" y="2840040"/>
            <a:ext cx="1258920" cy="419040"/>
          </a:xfrm>
          <a:custGeom>
            <a:avLst/>
            <a:gdLst/>
            <a:ahLst/>
            <a:rect l="l" t="t" r="r" b="b"/>
            <a:pathLst>
              <a:path w="3499" h="1167">
                <a:moveTo>
                  <a:pt x="10393" y="8285"/>
                </a:moveTo>
                <a:cubicBezTo>
                  <a:pt x="10393" y="8250"/>
                  <a:pt x="10392" y="8182"/>
                  <a:pt x="10418" y="8161"/>
                </a:cubicBezTo>
                <a:cubicBezTo>
                  <a:pt x="10449" y="8136"/>
                  <a:pt x="10529" y="8089"/>
                  <a:pt x="10567" y="8086"/>
                </a:cubicBezTo>
                <a:cubicBezTo>
                  <a:pt x="10657" y="8079"/>
                  <a:pt x="10750" y="8086"/>
                  <a:pt x="10840" y="8086"/>
                </a:cubicBezTo>
                <a:cubicBezTo>
                  <a:pt x="10840" y="8160"/>
                  <a:pt x="10875" y="8332"/>
                  <a:pt x="10815" y="8384"/>
                </a:cubicBezTo>
                <a:cubicBezTo>
                  <a:pt x="10790" y="8405"/>
                  <a:pt x="10761" y="8437"/>
                  <a:pt x="10740" y="8483"/>
                </a:cubicBezTo>
                <a:cubicBezTo>
                  <a:pt x="10726" y="8514"/>
                  <a:pt x="10667" y="8609"/>
                  <a:pt x="10641" y="8632"/>
                </a:cubicBezTo>
                <a:cubicBezTo>
                  <a:pt x="10593" y="8674"/>
                  <a:pt x="10568" y="8716"/>
                  <a:pt x="10542" y="8781"/>
                </a:cubicBezTo>
                <a:cubicBezTo>
                  <a:pt x="10521" y="8833"/>
                  <a:pt x="10476" y="8890"/>
                  <a:pt x="10443" y="8930"/>
                </a:cubicBezTo>
                <a:cubicBezTo>
                  <a:pt x="10408" y="8973"/>
                  <a:pt x="10426" y="9010"/>
                  <a:pt x="10393" y="9054"/>
                </a:cubicBezTo>
                <a:cubicBezTo>
                  <a:pt x="10470" y="9039"/>
                  <a:pt x="10537" y="8995"/>
                  <a:pt x="10616" y="8979"/>
                </a:cubicBezTo>
                <a:cubicBezTo>
                  <a:pt x="10657" y="8971"/>
                  <a:pt x="10699" y="8958"/>
                  <a:pt x="10740" y="8954"/>
                </a:cubicBezTo>
                <a:cubicBezTo>
                  <a:pt x="10821" y="8946"/>
                  <a:pt x="10907" y="8954"/>
                  <a:pt x="10988" y="8954"/>
                </a:cubicBezTo>
              </a:path>
              <a:path w="3499" h="1167">
                <a:moveTo>
                  <a:pt x="11361" y="7938"/>
                </a:moveTo>
                <a:cubicBezTo>
                  <a:pt x="11336" y="8011"/>
                  <a:pt x="11274" y="8078"/>
                  <a:pt x="11261" y="8161"/>
                </a:cubicBezTo>
                <a:cubicBezTo>
                  <a:pt x="11248" y="8248"/>
                  <a:pt x="11240" y="8347"/>
                  <a:pt x="11237" y="8434"/>
                </a:cubicBezTo>
                <a:cubicBezTo>
                  <a:pt x="11234" y="8514"/>
                  <a:pt x="11196" y="8814"/>
                  <a:pt x="11261" y="8880"/>
                </a:cubicBezTo>
                <a:cubicBezTo>
                  <a:pt x="11280" y="8899"/>
                  <a:pt x="11330" y="8905"/>
                  <a:pt x="11361" y="8905"/>
                </a:cubicBezTo>
                <a:cubicBezTo>
                  <a:pt x="11369" y="8905"/>
                  <a:pt x="11377" y="8905"/>
                  <a:pt x="11385" y="8905"/>
                </a:cubicBezTo>
              </a:path>
              <a:path w="3499" h="1167">
                <a:moveTo>
                  <a:pt x="11485" y="8186"/>
                </a:moveTo>
                <a:cubicBezTo>
                  <a:pt x="11526" y="8161"/>
                  <a:pt x="11581" y="8141"/>
                  <a:pt x="11633" y="8136"/>
                </a:cubicBezTo>
                <a:cubicBezTo>
                  <a:pt x="11690" y="8130"/>
                  <a:pt x="11750" y="8136"/>
                  <a:pt x="11807" y="8136"/>
                </a:cubicBezTo>
                <a:cubicBezTo>
                  <a:pt x="11807" y="8196"/>
                  <a:pt x="11822" y="8266"/>
                  <a:pt x="11782" y="8310"/>
                </a:cubicBezTo>
                <a:cubicBezTo>
                  <a:pt x="11755" y="8339"/>
                  <a:pt x="11643" y="8359"/>
                  <a:pt x="11683" y="8359"/>
                </a:cubicBezTo>
                <a:cubicBezTo>
                  <a:pt x="11754" y="8359"/>
                  <a:pt x="11792" y="8372"/>
                  <a:pt x="11857" y="8384"/>
                </a:cubicBezTo>
                <a:cubicBezTo>
                  <a:pt x="11914" y="8394"/>
                  <a:pt x="11970" y="8399"/>
                  <a:pt x="12005" y="8434"/>
                </a:cubicBezTo>
                <a:cubicBezTo>
                  <a:pt x="12024" y="8453"/>
                  <a:pt x="12030" y="8502"/>
                  <a:pt x="12030" y="8533"/>
                </a:cubicBezTo>
                <a:cubicBezTo>
                  <a:pt x="12030" y="8609"/>
                  <a:pt x="12037" y="8621"/>
                  <a:pt x="11981" y="8682"/>
                </a:cubicBezTo>
                <a:cubicBezTo>
                  <a:pt x="11939" y="8728"/>
                  <a:pt x="11879" y="8734"/>
                  <a:pt x="11832" y="8781"/>
                </a:cubicBezTo>
                <a:cubicBezTo>
                  <a:pt x="11799" y="8814"/>
                  <a:pt x="11777" y="8806"/>
                  <a:pt x="11733" y="8806"/>
                </a:cubicBezTo>
                <a:cubicBezTo>
                  <a:pt x="11708" y="8806"/>
                  <a:pt x="11683" y="8806"/>
                  <a:pt x="11658" y="8806"/>
                </a:cubicBezTo>
              </a:path>
              <a:path w="3499" h="1167">
                <a:moveTo>
                  <a:pt x="11881" y="7888"/>
                </a:moveTo>
                <a:cubicBezTo>
                  <a:pt x="11927" y="7888"/>
                  <a:pt x="11946" y="7881"/>
                  <a:pt x="11981" y="7913"/>
                </a:cubicBezTo>
                <a:cubicBezTo>
                  <a:pt x="12025" y="7953"/>
                  <a:pt x="12029" y="8007"/>
                  <a:pt x="12055" y="8037"/>
                </a:cubicBezTo>
                <a:cubicBezTo>
                  <a:pt x="12074" y="8060"/>
                  <a:pt x="12083" y="8093"/>
                  <a:pt x="12105" y="8136"/>
                </a:cubicBezTo>
                <a:cubicBezTo>
                  <a:pt x="12146" y="8215"/>
                  <a:pt x="12188" y="8321"/>
                  <a:pt x="12204" y="8409"/>
                </a:cubicBezTo>
                <a:cubicBezTo>
                  <a:pt x="12218" y="8484"/>
                  <a:pt x="12229" y="8554"/>
                  <a:pt x="12229" y="8632"/>
                </a:cubicBezTo>
                <a:cubicBezTo>
                  <a:pt x="12229" y="8756"/>
                  <a:pt x="12229" y="8880"/>
                  <a:pt x="12229" y="9004"/>
                </a:cubicBezTo>
                <a:cubicBezTo>
                  <a:pt x="12196" y="9004"/>
                  <a:pt x="12162" y="9004"/>
                  <a:pt x="12129" y="9004"/>
                </a:cubicBezTo>
              </a:path>
              <a:path w="3499" h="1167">
                <a:moveTo>
                  <a:pt x="12526" y="8285"/>
                </a:moveTo>
                <a:cubicBezTo>
                  <a:pt x="12584" y="8285"/>
                  <a:pt x="12642" y="8285"/>
                  <a:pt x="12700" y="8285"/>
                </a:cubicBezTo>
              </a:path>
              <a:path w="3499" h="1167">
                <a:moveTo>
                  <a:pt x="12502" y="8458"/>
                </a:moveTo>
                <a:cubicBezTo>
                  <a:pt x="12576" y="8458"/>
                  <a:pt x="12651" y="8458"/>
                  <a:pt x="12725" y="8458"/>
                </a:cubicBezTo>
              </a:path>
              <a:path w="3499" h="1167">
                <a:moveTo>
                  <a:pt x="13419" y="7987"/>
                </a:moveTo>
                <a:cubicBezTo>
                  <a:pt x="13378" y="8040"/>
                  <a:pt x="13361" y="8109"/>
                  <a:pt x="13320" y="8161"/>
                </a:cubicBezTo>
                <a:cubicBezTo>
                  <a:pt x="13256" y="8244"/>
                  <a:pt x="13209" y="8333"/>
                  <a:pt x="13171" y="8434"/>
                </a:cubicBezTo>
                <a:cubicBezTo>
                  <a:pt x="13139" y="8519"/>
                  <a:pt x="13146" y="8593"/>
                  <a:pt x="13146" y="8682"/>
                </a:cubicBezTo>
                <a:cubicBezTo>
                  <a:pt x="13146" y="8754"/>
                  <a:pt x="13127" y="8850"/>
                  <a:pt x="13171" y="8905"/>
                </a:cubicBezTo>
                <a:cubicBezTo>
                  <a:pt x="13203" y="8946"/>
                  <a:pt x="13237" y="8948"/>
                  <a:pt x="13271" y="8979"/>
                </a:cubicBezTo>
                <a:cubicBezTo>
                  <a:pt x="13311" y="9015"/>
                  <a:pt x="13363" y="9027"/>
                  <a:pt x="13419" y="9029"/>
                </a:cubicBezTo>
                <a:cubicBezTo>
                  <a:pt x="13520" y="9033"/>
                  <a:pt x="13739" y="9066"/>
                  <a:pt x="13816" y="9004"/>
                </a:cubicBezTo>
                <a:cubicBezTo>
                  <a:pt x="13851" y="8976"/>
                  <a:pt x="13881" y="8945"/>
                  <a:pt x="13891" y="8905"/>
                </a:cubicBezTo>
                <a:cubicBezTo>
                  <a:pt x="13904" y="8852"/>
                  <a:pt x="13897" y="8770"/>
                  <a:pt x="13866" y="8731"/>
                </a:cubicBezTo>
                <a:cubicBezTo>
                  <a:pt x="13836" y="8694"/>
                  <a:pt x="13809" y="8684"/>
                  <a:pt x="13767" y="8682"/>
                </a:cubicBezTo>
                <a:cubicBezTo>
                  <a:pt x="13701" y="8678"/>
                  <a:pt x="13651" y="8689"/>
                  <a:pt x="13618" y="8706"/>
                </a:cubicBezTo>
                <a:cubicBezTo>
                  <a:pt x="13599" y="8716"/>
                  <a:pt x="13546" y="8747"/>
                  <a:pt x="13543" y="8756"/>
                </a:cubicBezTo>
                <a:cubicBezTo>
                  <a:pt x="13525" y="8818"/>
                  <a:pt x="13543" y="8914"/>
                  <a:pt x="13543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73200" y="3929040"/>
            <a:ext cx="866880" cy="554040"/>
          </a:xfrm>
          <a:custGeom>
            <a:avLst/>
            <a:gdLst/>
            <a:ahLst/>
            <a:rect l="l" t="t" r="r" b="b"/>
            <a:pathLst>
              <a:path w="2407" h="1539">
                <a:moveTo>
                  <a:pt x="7119" y="11112"/>
                </a:moveTo>
                <a:cubicBezTo>
                  <a:pt x="7070" y="11154"/>
                  <a:pt x="6969" y="11297"/>
                  <a:pt x="6945" y="11361"/>
                </a:cubicBezTo>
                <a:cubicBezTo>
                  <a:pt x="6925" y="11415"/>
                  <a:pt x="6885" y="11524"/>
                  <a:pt x="6871" y="11584"/>
                </a:cubicBezTo>
                <a:cubicBezTo>
                  <a:pt x="6846" y="11693"/>
                  <a:pt x="6852" y="11882"/>
                  <a:pt x="6896" y="11981"/>
                </a:cubicBezTo>
                <a:cubicBezTo>
                  <a:pt x="6928" y="12052"/>
                  <a:pt x="7005" y="12091"/>
                  <a:pt x="7069" y="12129"/>
                </a:cubicBezTo>
                <a:cubicBezTo>
                  <a:pt x="7109" y="12153"/>
                  <a:pt x="7195" y="12187"/>
                  <a:pt x="7218" y="12229"/>
                </a:cubicBezTo>
                <a:cubicBezTo>
                  <a:pt x="7235" y="12260"/>
                  <a:pt x="7229" y="12250"/>
                  <a:pt x="7268" y="12278"/>
                </a:cubicBezTo>
              </a:path>
              <a:path w="2407" h="1539">
                <a:moveTo>
                  <a:pt x="7342" y="11609"/>
                </a:moveTo>
                <a:cubicBezTo>
                  <a:pt x="7342" y="11601"/>
                  <a:pt x="7342" y="11592"/>
                  <a:pt x="7342" y="11584"/>
                </a:cubicBezTo>
                <a:cubicBezTo>
                  <a:pt x="7466" y="11584"/>
                  <a:pt x="7590" y="11584"/>
                  <a:pt x="7714" y="11584"/>
                </a:cubicBezTo>
              </a:path>
              <a:path w="2407" h="1539">
                <a:moveTo>
                  <a:pt x="7888" y="11361"/>
                </a:moveTo>
                <a:cubicBezTo>
                  <a:pt x="7926" y="11348"/>
                  <a:pt x="7909" y="11336"/>
                  <a:pt x="7962" y="11336"/>
                </a:cubicBezTo>
                <a:cubicBezTo>
                  <a:pt x="8028" y="11336"/>
                  <a:pt x="8095" y="11336"/>
                  <a:pt x="8161" y="11336"/>
                </a:cubicBezTo>
                <a:cubicBezTo>
                  <a:pt x="8161" y="11463"/>
                  <a:pt x="8208" y="11676"/>
                  <a:pt x="8136" y="11782"/>
                </a:cubicBezTo>
                <a:cubicBezTo>
                  <a:pt x="8111" y="11819"/>
                  <a:pt x="8097" y="11846"/>
                  <a:pt x="8062" y="11881"/>
                </a:cubicBezTo>
                <a:cubicBezTo>
                  <a:pt x="8015" y="11928"/>
                  <a:pt x="7969" y="11972"/>
                  <a:pt x="7913" y="12005"/>
                </a:cubicBezTo>
                <a:cubicBezTo>
                  <a:pt x="7857" y="12038"/>
                  <a:pt x="7816" y="12036"/>
                  <a:pt x="7789" y="12105"/>
                </a:cubicBezTo>
                <a:cubicBezTo>
                  <a:pt x="7789" y="12129"/>
                  <a:pt x="7789" y="12138"/>
                  <a:pt x="7789" y="12154"/>
                </a:cubicBezTo>
                <a:cubicBezTo>
                  <a:pt x="7979" y="12154"/>
                  <a:pt x="8169" y="12154"/>
                  <a:pt x="8359" y="12154"/>
                </a:cubicBezTo>
              </a:path>
              <a:path w="2407" h="1539">
                <a:moveTo>
                  <a:pt x="8359" y="11112"/>
                </a:moveTo>
                <a:cubicBezTo>
                  <a:pt x="8334" y="11112"/>
                  <a:pt x="8326" y="11112"/>
                  <a:pt x="8334" y="11088"/>
                </a:cubicBezTo>
                <a:cubicBezTo>
                  <a:pt x="8399" y="11094"/>
                  <a:pt x="8409" y="11123"/>
                  <a:pt x="8458" y="11137"/>
                </a:cubicBezTo>
                <a:cubicBezTo>
                  <a:pt x="8475" y="11137"/>
                  <a:pt x="8491" y="11137"/>
                  <a:pt x="8508" y="11137"/>
                </a:cubicBezTo>
                <a:cubicBezTo>
                  <a:pt x="8538" y="11217"/>
                  <a:pt x="8598" y="11243"/>
                  <a:pt x="8632" y="11336"/>
                </a:cubicBezTo>
                <a:cubicBezTo>
                  <a:pt x="8662" y="11420"/>
                  <a:pt x="8704" y="11478"/>
                  <a:pt x="8731" y="11559"/>
                </a:cubicBezTo>
                <a:cubicBezTo>
                  <a:pt x="8753" y="11624"/>
                  <a:pt x="8756" y="11664"/>
                  <a:pt x="8756" y="11733"/>
                </a:cubicBezTo>
                <a:cubicBezTo>
                  <a:pt x="8756" y="11874"/>
                  <a:pt x="8777" y="12008"/>
                  <a:pt x="8706" y="12105"/>
                </a:cubicBezTo>
                <a:cubicBezTo>
                  <a:pt x="8687" y="12131"/>
                  <a:pt x="8651" y="12212"/>
                  <a:pt x="8632" y="12229"/>
                </a:cubicBezTo>
                <a:cubicBezTo>
                  <a:pt x="8604" y="12253"/>
                  <a:pt x="8581" y="12272"/>
                  <a:pt x="8558" y="12303"/>
                </a:cubicBezTo>
                <a:cubicBezTo>
                  <a:pt x="8533" y="12336"/>
                  <a:pt x="8498" y="12333"/>
                  <a:pt x="8483" y="12353"/>
                </a:cubicBezTo>
                <a:cubicBezTo>
                  <a:pt x="8469" y="12373"/>
                  <a:pt x="8448" y="12418"/>
                  <a:pt x="8434" y="12427"/>
                </a:cubicBezTo>
                <a:cubicBezTo>
                  <a:pt x="8406" y="12427"/>
                  <a:pt x="8395" y="12429"/>
                  <a:pt x="8384" y="12452"/>
                </a:cubicBezTo>
              </a:path>
              <a:path w="2407" h="1539">
                <a:moveTo>
                  <a:pt x="8954" y="10914"/>
                </a:moveTo>
                <a:cubicBezTo>
                  <a:pt x="9012" y="10914"/>
                  <a:pt x="9070" y="10914"/>
                  <a:pt x="9128" y="10914"/>
                </a:cubicBezTo>
                <a:cubicBezTo>
                  <a:pt x="9128" y="10981"/>
                  <a:pt x="9120" y="11029"/>
                  <a:pt x="9103" y="11063"/>
                </a:cubicBezTo>
                <a:cubicBezTo>
                  <a:pt x="9089" y="11090"/>
                  <a:pt x="9073" y="11107"/>
                  <a:pt x="9029" y="11112"/>
                </a:cubicBezTo>
                <a:cubicBezTo>
                  <a:pt x="9003" y="11115"/>
                  <a:pt x="8943" y="11117"/>
                  <a:pt x="8930" y="11137"/>
                </a:cubicBezTo>
                <a:cubicBezTo>
                  <a:pt x="8913" y="11163"/>
                  <a:pt x="8915" y="11156"/>
                  <a:pt x="8905" y="11187"/>
                </a:cubicBezTo>
                <a:cubicBezTo>
                  <a:pt x="9029" y="11187"/>
                  <a:pt x="9153" y="11187"/>
                  <a:pt x="9277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2920" y="4187880"/>
            <a:ext cx="152280" cy="9828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10145" y="11733"/>
                </a:moveTo>
                <a:cubicBezTo>
                  <a:pt x="10145" y="11708"/>
                  <a:pt x="10145" y="11700"/>
                  <a:pt x="10145" y="11683"/>
                </a:cubicBezTo>
                <a:cubicBezTo>
                  <a:pt x="10216" y="11671"/>
                  <a:pt x="10273" y="11639"/>
                  <a:pt x="10344" y="11633"/>
                </a:cubicBezTo>
                <a:cubicBezTo>
                  <a:pt x="10393" y="11629"/>
                  <a:pt x="10443" y="11633"/>
                  <a:pt x="10492" y="11633"/>
                </a:cubicBezTo>
              </a:path>
              <a:path w="423" h="274">
                <a:moveTo>
                  <a:pt x="10195" y="11906"/>
                </a:moveTo>
                <a:cubicBezTo>
                  <a:pt x="10319" y="11906"/>
                  <a:pt x="10443" y="11906"/>
                  <a:pt x="10567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27320" y="3911760"/>
            <a:ext cx="1160640" cy="588960"/>
          </a:xfrm>
          <a:custGeom>
            <a:avLst/>
            <a:gdLst/>
            <a:ahLst/>
            <a:rect l="l" t="t" r="r" b="b"/>
            <a:pathLst>
              <a:path w="3226" h="1639">
                <a:moveTo>
                  <a:pt x="11435" y="10939"/>
                </a:moveTo>
                <a:cubicBezTo>
                  <a:pt x="11390" y="10977"/>
                  <a:pt x="11327" y="11045"/>
                  <a:pt x="11311" y="11112"/>
                </a:cubicBezTo>
                <a:cubicBezTo>
                  <a:pt x="11296" y="11177"/>
                  <a:pt x="11248" y="11246"/>
                  <a:pt x="11237" y="11311"/>
                </a:cubicBezTo>
                <a:cubicBezTo>
                  <a:pt x="11223" y="11390"/>
                  <a:pt x="11205" y="11457"/>
                  <a:pt x="11187" y="11534"/>
                </a:cubicBezTo>
                <a:cubicBezTo>
                  <a:pt x="11162" y="11641"/>
                  <a:pt x="11166" y="11860"/>
                  <a:pt x="11212" y="11956"/>
                </a:cubicBezTo>
                <a:cubicBezTo>
                  <a:pt x="11238" y="12011"/>
                  <a:pt x="11265" y="12076"/>
                  <a:pt x="11286" y="12129"/>
                </a:cubicBezTo>
                <a:cubicBezTo>
                  <a:pt x="11298" y="12160"/>
                  <a:pt x="11330" y="12193"/>
                  <a:pt x="11336" y="12204"/>
                </a:cubicBezTo>
                <a:cubicBezTo>
                  <a:pt x="11336" y="12229"/>
                  <a:pt x="11336" y="12237"/>
                  <a:pt x="11361" y="12229"/>
                </a:cubicBezTo>
              </a:path>
              <a:path w="3226" h="1639">
                <a:moveTo>
                  <a:pt x="11534" y="11609"/>
                </a:moveTo>
                <a:cubicBezTo>
                  <a:pt x="11622" y="11609"/>
                  <a:pt x="11765" y="11634"/>
                  <a:pt x="11832" y="11584"/>
                </a:cubicBezTo>
              </a:path>
              <a:path w="3226" h="1639">
                <a:moveTo>
                  <a:pt x="12005" y="11286"/>
                </a:moveTo>
                <a:cubicBezTo>
                  <a:pt x="12014" y="11260"/>
                  <a:pt x="12062" y="11222"/>
                  <a:pt x="12105" y="11212"/>
                </a:cubicBezTo>
                <a:cubicBezTo>
                  <a:pt x="12154" y="11201"/>
                  <a:pt x="12203" y="11190"/>
                  <a:pt x="12254" y="11187"/>
                </a:cubicBezTo>
                <a:cubicBezTo>
                  <a:pt x="12305" y="11184"/>
                  <a:pt x="12349" y="11177"/>
                  <a:pt x="12353" y="11237"/>
                </a:cubicBezTo>
                <a:cubicBezTo>
                  <a:pt x="12363" y="11373"/>
                  <a:pt x="12376" y="11527"/>
                  <a:pt x="12303" y="11633"/>
                </a:cubicBezTo>
                <a:cubicBezTo>
                  <a:pt x="12243" y="11719"/>
                  <a:pt x="12202" y="11804"/>
                  <a:pt x="12129" y="11881"/>
                </a:cubicBezTo>
                <a:cubicBezTo>
                  <a:pt x="12075" y="11938"/>
                  <a:pt x="12032" y="11998"/>
                  <a:pt x="11981" y="12055"/>
                </a:cubicBezTo>
                <a:cubicBezTo>
                  <a:pt x="11954" y="12085"/>
                  <a:pt x="11888" y="12093"/>
                  <a:pt x="11906" y="12129"/>
                </a:cubicBezTo>
                <a:cubicBezTo>
                  <a:pt x="11935" y="12186"/>
                  <a:pt x="12541" y="12129"/>
                  <a:pt x="12626" y="12129"/>
                </a:cubicBezTo>
              </a:path>
              <a:path w="3226" h="1639">
                <a:moveTo>
                  <a:pt x="12650" y="10988"/>
                </a:moveTo>
                <a:cubicBezTo>
                  <a:pt x="12705" y="11028"/>
                  <a:pt x="12769" y="11082"/>
                  <a:pt x="12824" y="11137"/>
                </a:cubicBezTo>
                <a:cubicBezTo>
                  <a:pt x="12891" y="11204"/>
                  <a:pt x="12996" y="11341"/>
                  <a:pt x="13022" y="11435"/>
                </a:cubicBezTo>
                <a:cubicBezTo>
                  <a:pt x="13045" y="11517"/>
                  <a:pt x="13047" y="11621"/>
                  <a:pt x="13047" y="11708"/>
                </a:cubicBezTo>
                <a:cubicBezTo>
                  <a:pt x="13047" y="11808"/>
                  <a:pt x="13062" y="11914"/>
                  <a:pt x="13022" y="12005"/>
                </a:cubicBezTo>
                <a:cubicBezTo>
                  <a:pt x="12997" y="12062"/>
                  <a:pt x="12982" y="12136"/>
                  <a:pt x="12948" y="12179"/>
                </a:cubicBezTo>
                <a:cubicBezTo>
                  <a:pt x="12920" y="12213"/>
                  <a:pt x="12918" y="12232"/>
                  <a:pt x="12898" y="12254"/>
                </a:cubicBezTo>
                <a:cubicBezTo>
                  <a:pt x="12866" y="12290"/>
                  <a:pt x="12844" y="12317"/>
                  <a:pt x="12824" y="12353"/>
                </a:cubicBezTo>
              </a:path>
              <a:path w="3226" h="1639">
                <a:moveTo>
                  <a:pt x="13320" y="10988"/>
                </a:moveTo>
                <a:cubicBezTo>
                  <a:pt x="13293" y="11044"/>
                  <a:pt x="13255" y="11117"/>
                  <a:pt x="13221" y="11187"/>
                </a:cubicBezTo>
                <a:cubicBezTo>
                  <a:pt x="13182" y="11267"/>
                  <a:pt x="13136" y="11322"/>
                  <a:pt x="13122" y="11410"/>
                </a:cubicBezTo>
                <a:cubicBezTo>
                  <a:pt x="13109" y="11493"/>
                  <a:pt x="13112" y="11585"/>
                  <a:pt x="13097" y="11658"/>
                </a:cubicBezTo>
                <a:cubicBezTo>
                  <a:pt x="13082" y="11732"/>
                  <a:pt x="13096" y="11809"/>
                  <a:pt x="13072" y="11881"/>
                </a:cubicBezTo>
                <a:cubicBezTo>
                  <a:pt x="13052" y="11941"/>
                  <a:pt x="13047" y="11965"/>
                  <a:pt x="13047" y="12030"/>
                </a:cubicBezTo>
                <a:cubicBezTo>
                  <a:pt x="13047" y="12080"/>
                  <a:pt x="13058" y="12089"/>
                  <a:pt x="13072" y="12129"/>
                </a:cubicBezTo>
                <a:cubicBezTo>
                  <a:pt x="13090" y="12182"/>
                  <a:pt x="13138" y="12205"/>
                  <a:pt x="13171" y="12254"/>
                </a:cubicBezTo>
                <a:cubicBezTo>
                  <a:pt x="13191" y="12294"/>
                  <a:pt x="13200" y="12300"/>
                  <a:pt x="13196" y="12328"/>
                </a:cubicBezTo>
              </a:path>
              <a:path w="3226" h="1639">
                <a:moveTo>
                  <a:pt x="13271" y="11609"/>
                </a:moveTo>
                <a:cubicBezTo>
                  <a:pt x="13271" y="11601"/>
                  <a:pt x="13271" y="11592"/>
                  <a:pt x="13271" y="11584"/>
                </a:cubicBezTo>
                <a:cubicBezTo>
                  <a:pt x="13295" y="11578"/>
                  <a:pt x="13349" y="11571"/>
                  <a:pt x="13370" y="11559"/>
                </a:cubicBezTo>
                <a:cubicBezTo>
                  <a:pt x="13392" y="11537"/>
                  <a:pt x="13397" y="11528"/>
                  <a:pt x="13419" y="11534"/>
                </a:cubicBezTo>
              </a:path>
              <a:path w="3226" h="1639">
                <a:moveTo>
                  <a:pt x="13841" y="11336"/>
                </a:moveTo>
                <a:cubicBezTo>
                  <a:pt x="13841" y="11303"/>
                  <a:pt x="13841" y="11270"/>
                  <a:pt x="13841" y="11237"/>
                </a:cubicBezTo>
                <a:cubicBezTo>
                  <a:pt x="13882" y="11237"/>
                  <a:pt x="13924" y="11237"/>
                  <a:pt x="13965" y="11237"/>
                </a:cubicBezTo>
                <a:cubicBezTo>
                  <a:pt x="13965" y="11352"/>
                  <a:pt x="13992" y="11506"/>
                  <a:pt x="13940" y="11609"/>
                </a:cubicBezTo>
                <a:cubicBezTo>
                  <a:pt x="13910" y="11668"/>
                  <a:pt x="13862" y="11690"/>
                  <a:pt x="13816" y="11733"/>
                </a:cubicBezTo>
                <a:cubicBezTo>
                  <a:pt x="13760" y="11785"/>
                  <a:pt x="13688" y="11836"/>
                  <a:pt x="13643" y="11881"/>
                </a:cubicBezTo>
                <a:cubicBezTo>
                  <a:pt x="13625" y="11899"/>
                  <a:pt x="13556" y="11953"/>
                  <a:pt x="13543" y="11981"/>
                </a:cubicBezTo>
                <a:cubicBezTo>
                  <a:pt x="13543" y="11989"/>
                  <a:pt x="13543" y="11997"/>
                  <a:pt x="13543" y="12005"/>
                </a:cubicBezTo>
                <a:cubicBezTo>
                  <a:pt x="13569" y="12044"/>
                  <a:pt x="13631" y="12030"/>
                  <a:pt x="13692" y="12030"/>
                </a:cubicBezTo>
                <a:cubicBezTo>
                  <a:pt x="13808" y="12030"/>
                  <a:pt x="13923" y="12030"/>
                  <a:pt x="14039" y="12030"/>
                </a:cubicBezTo>
              </a:path>
              <a:path w="3226" h="1639">
                <a:moveTo>
                  <a:pt x="14064" y="10864"/>
                </a:moveTo>
                <a:cubicBezTo>
                  <a:pt x="14117" y="10970"/>
                  <a:pt x="14156" y="11083"/>
                  <a:pt x="14213" y="11187"/>
                </a:cubicBezTo>
                <a:cubicBezTo>
                  <a:pt x="14285" y="11318"/>
                  <a:pt x="14327" y="11448"/>
                  <a:pt x="14387" y="11584"/>
                </a:cubicBezTo>
                <a:cubicBezTo>
                  <a:pt x="14418" y="11654"/>
                  <a:pt x="14412" y="11703"/>
                  <a:pt x="14412" y="11782"/>
                </a:cubicBezTo>
                <a:cubicBezTo>
                  <a:pt x="14412" y="11900"/>
                  <a:pt x="14435" y="12046"/>
                  <a:pt x="14387" y="12154"/>
                </a:cubicBezTo>
                <a:cubicBezTo>
                  <a:pt x="14361" y="12212"/>
                  <a:pt x="14341" y="12247"/>
                  <a:pt x="14312" y="12303"/>
                </a:cubicBezTo>
                <a:cubicBezTo>
                  <a:pt x="14292" y="12341"/>
                  <a:pt x="14285" y="12357"/>
                  <a:pt x="14263" y="12378"/>
                </a:cubicBezTo>
                <a:cubicBezTo>
                  <a:pt x="14227" y="12414"/>
                  <a:pt x="14224" y="12416"/>
                  <a:pt x="14188" y="12452"/>
                </a:cubicBezTo>
                <a:cubicBezTo>
                  <a:pt x="14163" y="12477"/>
                  <a:pt x="14153" y="12487"/>
                  <a:pt x="14139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75160" y="3990960"/>
            <a:ext cx="438120" cy="366840"/>
          </a:xfrm>
          <a:custGeom>
            <a:avLst/>
            <a:gdLst/>
            <a:ahLst/>
            <a:rect l="l" t="t" r="r" b="b"/>
            <a:pathLst>
              <a:path w="1217" h="1018">
                <a:moveTo>
                  <a:pt x="15007" y="11485"/>
                </a:moveTo>
                <a:cubicBezTo>
                  <a:pt x="14944" y="11485"/>
                  <a:pt x="15061" y="11485"/>
                  <a:pt x="15081" y="11485"/>
                </a:cubicBezTo>
                <a:cubicBezTo>
                  <a:pt x="15139" y="11485"/>
                  <a:pt x="15197" y="11485"/>
                  <a:pt x="15255" y="11485"/>
                </a:cubicBezTo>
              </a:path>
              <a:path w="1217" h="1018">
                <a:moveTo>
                  <a:pt x="14932" y="11881"/>
                </a:moveTo>
                <a:cubicBezTo>
                  <a:pt x="15056" y="11881"/>
                  <a:pt x="15180" y="11881"/>
                  <a:pt x="15304" y="11881"/>
                </a:cubicBezTo>
              </a:path>
              <a:path w="1217" h="1018">
                <a:moveTo>
                  <a:pt x="15677" y="11088"/>
                </a:moveTo>
                <a:cubicBezTo>
                  <a:pt x="15645" y="11130"/>
                  <a:pt x="15630" y="11155"/>
                  <a:pt x="15627" y="11212"/>
                </a:cubicBezTo>
                <a:cubicBezTo>
                  <a:pt x="15620" y="11326"/>
                  <a:pt x="15629" y="11426"/>
                  <a:pt x="15602" y="11534"/>
                </a:cubicBezTo>
                <a:cubicBezTo>
                  <a:pt x="15595" y="11563"/>
                  <a:pt x="15602" y="11603"/>
                  <a:pt x="15602" y="11633"/>
                </a:cubicBezTo>
                <a:cubicBezTo>
                  <a:pt x="15690" y="11633"/>
                  <a:pt x="15831" y="11658"/>
                  <a:pt x="15900" y="11609"/>
                </a:cubicBezTo>
                <a:cubicBezTo>
                  <a:pt x="15942" y="11579"/>
                  <a:pt x="15988" y="11566"/>
                  <a:pt x="16024" y="11534"/>
                </a:cubicBezTo>
                <a:cubicBezTo>
                  <a:pt x="16059" y="11503"/>
                  <a:pt x="16077" y="11509"/>
                  <a:pt x="16123" y="11509"/>
                </a:cubicBezTo>
                <a:cubicBezTo>
                  <a:pt x="16131" y="11509"/>
                  <a:pt x="16140" y="11509"/>
                  <a:pt x="16148" y="11509"/>
                </a:cubicBezTo>
                <a:cubicBezTo>
                  <a:pt x="16148" y="11398"/>
                  <a:pt x="16154" y="11260"/>
                  <a:pt x="16123" y="11187"/>
                </a:cubicBezTo>
                <a:cubicBezTo>
                  <a:pt x="16116" y="11170"/>
                  <a:pt x="16123" y="11130"/>
                  <a:pt x="16123" y="11112"/>
                </a:cubicBezTo>
                <a:cubicBezTo>
                  <a:pt x="16076" y="11128"/>
                  <a:pt x="16098" y="11206"/>
                  <a:pt x="16098" y="11261"/>
                </a:cubicBezTo>
                <a:cubicBezTo>
                  <a:pt x="16098" y="11542"/>
                  <a:pt x="16098" y="11824"/>
                  <a:pt x="16098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11760" y="4562640"/>
            <a:ext cx="169560" cy="188640"/>
          </a:xfrm>
          <a:custGeom>
            <a:avLst/>
            <a:gdLst/>
            <a:ahLst/>
            <a:rect l="l" t="t" r="r" b="b"/>
            <a:pathLst>
              <a:path w="473" h="522">
                <a:moveTo>
                  <a:pt x="11336" y="12700"/>
                </a:moveTo>
                <a:cubicBezTo>
                  <a:pt x="11284" y="12700"/>
                  <a:pt x="11283" y="12686"/>
                  <a:pt x="11261" y="12675"/>
                </a:cubicBezTo>
                <a:cubicBezTo>
                  <a:pt x="11206" y="12647"/>
                  <a:pt x="10987" y="12669"/>
                  <a:pt x="10964" y="12700"/>
                </a:cubicBezTo>
                <a:cubicBezTo>
                  <a:pt x="10946" y="12724"/>
                  <a:pt x="10893" y="12766"/>
                  <a:pt x="10889" y="12774"/>
                </a:cubicBezTo>
                <a:cubicBezTo>
                  <a:pt x="10871" y="12809"/>
                  <a:pt x="10864" y="12856"/>
                  <a:pt x="10864" y="12898"/>
                </a:cubicBezTo>
                <a:cubicBezTo>
                  <a:pt x="10864" y="12979"/>
                  <a:pt x="10881" y="12944"/>
                  <a:pt x="10939" y="12973"/>
                </a:cubicBezTo>
                <a:cubicBezTo>
                  <a:pt x="10990" y="12998"/>
                  <a:pt x="11027" y="13022"/>
                  <a:pt x="11088" y="13022"/>
                </a:cubicBezTo>
                <a:cubicBezTo>
                  <a:pt x="11121" y="13022"/>
                  <a:pt x="11154" y="13022"/>
                  <a:pt x="11187" y="13022"/>
                </a:cubicBezTo>
                <a:cubicBezTo>
                  <a:pt x="11187" y="12931"/>
                  <a:pt x="11187" y="12841"/>
                  <a:pt x="11187" y="12750"/>
                </a:cubicBezTo>
                <a:cubicBezTo>
                  <a:pt x="11187" y="12899"/>
                  <a:pt x="11187" y="13047"/>
                  <a:pt x="11187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4848120"/>
            <a:ext cx="152280" cy="100080"/>
          </a:xfrm>
          <a:custGeom>
            <a:avLst/>
            <a:gdLst/>
            <a:ahLst/>
            <a:rect l="l" t="t" r="r" b="b"/>
            <a:pathLst>
              <a:path w="422" h="274">
                <a:moveTo>
                  <a:pt x="12502" y="13568"/>
                </a:moveTo>
                <a:cubicBezTo>
                  <a:pt x="12502" y="13560"/>
                  <a:pt x="12502" y="13551"/>
                  <a:pt x="12502" y="13543"/>
                </a:cubicBezTo>
                <a:cubicBezTo>
                  <a:pt x="12541" y="13530"/>
                  <a:pt x="12511" y="13532"/>
                  <a:pt x="12551" y="13519"/>
                </a:cubicBezTo>
                <a:cubicBezTo>
                  <a:pt x="12564" y="13479"/>
                  <a:pt x="12563" y="13509"/>
                  <a:pt x="12576" y="13469"/>
                </a:cubicBezTo>
                <a:cubicBezTo>
                  <a:pt x="12650" y="13469"/>
                  <a:pt x="12725" y="13469"/>
                  <a:pt x="12799" y="13469"/>
                </a:cubicBezTo>
              </a:path>
              <a:path w="422" h="274">
                <a:moveTo>
                  <a:pt x="12526" y="13717"/>
                </a:moveTo>
                <a:cubicBezTo>
                  <a:pt x="12570" y="13750"/>
                  <a:pt x="12592" y="13742"/>
                  <a:pt x="12650" y="13742"/>
                </a:cubicBezTo>
                <a:cubicBezTo>
                  <a:pt x="12741" y="13742"/>
                  <a:pt x="12832" y="13742"/>
                  <a:pt x="12923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73760" y="4687920"/>
            <a:ext cx="206280" cy="349200"/>
          </a:xfrm>
          <a:custGeom>
            <a:avLst/>
            <a:gdLst/>
            <a:ahLst/>
            <a:rect l="l" t="t" r="r" b="b"/>
            <a:pathLst>
              <a:path w="572" h="969">
                <a:moveTo>
                  <a:pt x="14089" y="13022"/>
                </a:moveTo>
                <a:cubicBezTo>
                  <a:pt x="14045" y="13022"/>
                  <a:pt x="13856" y="12997"/>
                  <a:pt x="13841" y="13047"/>
                </a:cubicBezTo>
                <a:cubicBezTo>
                  <a:pt x="13828" y="13088"/>
                  <a:pt x="13816" y="13126"/>
                  <a:pt x="13816" y="13171"/>
                </a:cubicBezTo>
                <a:cubicBezTo>
                  <a:pt x="13816" y="13237"/>
                  <a:pt x="13816" y="13304"/>
                  <a:pt x="13816" y="13370"/>
                </a:cubicBezTo>
                <a:cubicBezTo>
                  <a:pt x="13939" y="13370"/>
                  <a:pt x="14262" y="13310"/>
                  <a:pt x="14337" y="13395"/>
                </a:cubicBezTo>
                <a:cubicBezTo>
                  <a:pt x="14350" y="13410"/>
                  <a:pt x="14385" y="13495"/>
                  <a:pt x="14387" y="13519"/>
                </a:cubicBezTo>
                <a:cubicBezTo>
                  <a:pt x="14396" y="13643"/>
                  <a:pt x="14397" y="13700"/>
                  <a:pt x="14312" y="13791"/>
                </a:cubicBezTo>
                <a:cubicBezTo>
                  <a:pt x="14276" y="13830"/>
                  <a:pt x="14229" y="13885"/>
                  <a:pt x="14188" y="13915"/>
                </a:cubicBezTo>
                <a:cubicBezTo>
                  <a:pt x="14142" y="13948"/>
                  <a:pt x="14086" y="13976"/>
                  <a:pt x="14039" y="13990"/>
                </a:cubicBezTo>
                <a:cubicBezTo>
                  <a:pt x="14012" y="13998"/>
                  <a:pt x="13968" y="13990"/>
                  <a:pt x="13940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10040" y="4929120"/>
            <a:ext cx="160200" cy="223920"/>
          </a:xfrm>
          <a:custGeom>
            <a:avLst/>
            <a:gdLst/>
            <a:ahLst/>
            <a:rect l="l" t="t" r="r" b="b"/>
            <a:pathLst>
              <a:path w="448" h="621">
                <a:moveTo>
                  <a:pt x="11509" y="13767"/>
                </a:moveTo>
                <a:cubicBezTo>
                  <a:pt x="11509" y="13742"/>
                  <a:pt x="11509" y="13717"/>
                  <a:pt x="11509" y="13692"/>
                </a:cubicBezTo>
                <a:cubicBezTo>
                  <a:pt x="11429" y="13692"/>
                  <a:pt x="11249" y="13667"/>
                  <a:pt x="11212" y="13717"/>
                </a:cubicBezTo>
                <a:cubicBezTo>
                  <a:pt x="11199" y="13734"/>
                  <a:pt x="11172" y="13809"/>
                  <a:pt x="11162" y="13816"/>
                </a:cubicBezTo>
                <a:cubicBezTo>
                  <a:pt x="11130" y="13837"/>
                  <a:pt x="11137" y="13840"/>
                  <a:pt x="11137" y="13891"/>
                </a:cubicBezTo>
                <a:cubicBezTo>
                  <a:pt x="11137" y="13916"/>
                  <a:pt x="11137" y="13940"/>
                  <a:pt x="11137" y="13965"/>
                </a:cubicBezTo>
                <a:cubicBezTo>
                  <a:pt x="11208" y="13965"/>
                  <a:pt x="11527" y="14004"/>
                  <a:pt x="11559" y="13940"/>
                </a:cubicBezTo>
                <a:cubicBezTo>
                  <a:pt x="11575" y="13908"/>
                  <a:pt x="11584" y="13881"/>
                  <a:pt x="11584" y="13841"/>
                </a:cubicBezTo>
                <a:cubicBezTo>
                  <a:pt x="11584" y="13830"/>
                  <a:pt x="11584" y="13727"/>
                  <a:pt x="11584" y="13791"/>
                </a:cubicBezTo>
                <a:cubicBezTo>
                  <a:pt x="11584" y="13965"/>
                  <a:pt x="11584" y="14138"/>
                  <a:pt x="11584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4714920"/>
            <a:ext cx="196560" cy="420480"/>
          </a:xfrm>
          <a:custGeom>
            <a:avLst/>
            <a:gdLst/>
            <a:ahLst/>
            <a:rect l="l" t="t" r="r" b="b"/>
            <a:pathLst>
              <a:path w="547" h="1167">
                <a:moveTo>
                  <a:pt x="9798" y="13791"/>
                </a:moveTo>
                <a:cubicBezTo>
                  <a:pt x="9798" y="13783"/>
                  <a:pt x="9798" y="13775"/>
                  <a:pt x="9798" y="13767"/>
                </a:cubicBezTo>
                <a:cubicBezTo>
                  <a:pt x="9798" y="13932"/>
                  <a:pt x="9798" y="14098"/>
                  <a:pt x="9798" y="14263"/>
                </a:cubicBezTo>
              </a:path>
              <a:path w="547" h="1167">
                <a:moveTo>
                  <a:pt x="9525" y="13965"/>
                </a:moveTo>
                <a:cubicBezTo>
                  <a:pt x="9525" y="13957"/>
                  <a:pt x="9525" y="13948"/>
                  <a:pt x="9525" y="13940"/>
                </a:cubicBezTo>
                <a:cubicBezTo>
                  <a:pt x="9699" y="13940"/>
                  <a:pt x="9872" y="13940"/>
                  <a:pt x="10046" y="13940"/>
                </a:cubicBezTo>
              </a:path>
              <a:path w="547" h="1167">
                <a:moveTo>
                  <a:pt x="9500" y="13097"/>
                </a:moveTo>
                <a:cubicBezTo>
                  <a:pt x="9599" y="13097"/>
                  <a:pt x="9699" y="13097"/>
                  <a:pt x="9798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38320" y="4572000"/>
            <a:ext cx="9864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8161" y="12725"/>
                </a:moveTo>
                <a:cubicBezTo>
                  <a:pt x="8161" y="12658"/>
                  <a:pt x="8161" y="12762"/>
                  <a:pt x="8161" y="12774"/>
                </a:cubicBezTo>
                <a:cubicBezTo>
                  <a:pt x="8161" y="12832"/>
                  <a:pt x="8161" y="12890"/>
                  <a:pt x="8161" y="12948"/>
                </a:cubicBezTo>
                <a:cubicBezTo>
                  <a:pt x="8230" y="12948"/>
                  <a:pt x="8333" y="12969"/>
                  <a:pt x="8384" y="12923"/>
                </a:cubicBezTo>
                <a:cubicBezTo>
                  <a:pt x="8418" y="12893"/>
                  <a:pt x="8409" y="12867"/>
                  <a:pt x="8409" y="12824"/>
                </a:cubicBezTo>
                <a:cubicBezTo>
                  <a:pt x="8409" y="12791"/>
                  <a:pt x="8409" y="12758"/>
                  <a:pt x="8409" y="12725"/>
                </a:cubicBezTo>
                <a:cubicBezTo>
                  <a:pt x="8437" y="12781"/>
                  <a:pt x="8434" y="12831"/>
                  <a:pt x="8434" y="12898"/>
                </a:cubicBezTo>
                <a:cubicBezTo>
                  <a:pt x="8434" y="12956"/>
                  <a:pt x="8434" y="13014"/>
                  <a:pt x="8434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95760" y="4894200"/>
            <a:ext cx="303120" cy="293760"/>
          </a:xfrm>
          <a:custGeom>
            <a:avLst/>
            <a:gdLst/>
            <a:ahLst/>
            <a:rect l="l" t="t" r="r" b="b"/>
            <a:pathLst>
              <a:path w="844" h="820">
                <a:moveTo>
                  <a:pt x="8434" y="13742"/>
                </a:moveTo>
                <a:cubicBezTo>
                  <a:pt x="8394" y="13729"/>
                  <a:pt x="8424" y="13730"/>
                  <a:pt x="8384" y="13717"/>
                </a:cubicBezTo>
                <a:cubicBezTo>
                  <a:pt x="8357" y="13726"/>
                  <a:pt x="8338" y="13735"/>
                  <a:pt x="8334" y="13767"/>
                </a:cubicBezTo>
                <a:cubicBezTo>
                  <a:pt x="8327" y="13822"/>
                  <a:pt x="8297" y="13878"/>
                  <a:pt x="8285" y="13940"/>
                </a:cubicBezTo>
                <a:cubicBezTo>
                  <a:pt x="8279" y="13970"/>
                  <a:pt x="8285" y="14008"/>
                  <a:pt x="8285" y="14039"/>
                </a:cubicBezTo>
                <a:cubicBezTo>
                  <a:pt x="8392" y="14039"/>
                  <a:pt x="8500" y="14039"/>
                  <a:pt x="8607" y="14039"/>
                </a:cubicBezTo>
                <a:cubicBezTo>
                  <a:pt x="8607" y="13882"/>
                  <a:pt x="8607" y="13461"/>
                  <a:pt x="8607" y="13618"/>
                </a:cubicBezTo>
                <a:cubicBezTo>
                  <a:pt x="8607" y="13883"/>
                  <a:pt x="8607" y="14147"/>
                  <a:pt x="8607" y="14412"/>
                </a:cubicBezTo>
              </a:path>
              <a:path w="844" h="820">
                <a:moveTo>
                  <a:pt x="7764" y="13940"/>
                </a:moveTo>
                <a:cubicBezTo>
                  <a:pt x="7764" y="13932"/>
                  <a:pt x="7764" y="13923"/>
                  <a:pt x="7764" y="13915"/>
                </a:cubicBezTo>
                <a:cubicBezTo>
                  <a:pt x="7855" y="13915"/>
                  <a:pt x="7946" y="13915"/>
                  <a:pt x="8037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6680" y="5224320"/>
            <a:ext cx="1733400" cy="776520"/>
          </a:xfrm>
          <a:custGeom>
            <a:avLst/>
            <a:gdLst/>
            <a:ahLst/>
            <a:rect l="l" t="t" r="r" b="b"/>
            <a:pathLst>
              <a:path w="4813" h="2159">
                <a:moveTo>
                  <a:pt x="7863" y="15205"/>
                </a:moveTo>
                <a:cubicBezTo>
                  <a:pt x="7821" y="15191"/>
                  <a:pt x="7832" y="15166"/>
                  <a:pt x="7863" y="15131"/>
                </a:cubicBezTo>
                <a:cubicBezTo>
                  <a:pt x="7886" y="15106"/>
                  <a:pt x="7930" y="15085"/>
                  <a:pt x="7962" y="15081"/>
                </a:cubicBezTo>
                <a:cubicBezTo>
                  <a:pt x="8018" y="15075"/>
                  <a:pt x="8079" y="15081"/>
                  <a:pt x="8136" y="15081"/>
                </a:cubicBezTo>
                <a:cubicBezTo>
                  <a:pt x="8136" y="15175"/>
                  <a:pt x="8172" y="15363"/>
                  <a:pt x="8111" y="15429"/>
                </a:cubicBezTo>
                <a:cubicBezTo>
                  <a:pt x="8089" y="15452"/>
                  <a:pt x="7996" y="15533"/>
                  <a:pt x="7987" y="15553"/>
                </a:cubicBezTo>
                <a:cubicBezTo>
                  <a:pt x="7957" y="15622"/>
                  <a:pt x="7929" y="15647"/>
                  <a:pt x="7863" y="15701"/>
                </a:cubicBezTo>
                <a:cubicBezTo>
                  <a:pt x="7833" y="15726"/>
                  <a:pt x="7800" y="15767"/>
                  <a:pt x="7789" y="15801"/>
                </a:cubicBezTo>
                <a:cubicBezTo>
                  <a:pt x="7778" y="15834"/>
                  <a:pt x="7754" y="15831"/>
                  <a:pt x="7739" y="15875"/>
                </a:cubicBezTo>
                <a:cubicBezTo>
                  <a:pt x="7727" y="15912"/>
                  <a:pt x="7714" y="15931"/>
                  <a:pt x="7714" y="15974"/>
                </a:cubicBezTo>
                <a:cubicBezTo>
                  <a:pt x="7714" y="16020"/>
                  <a:pt x="7712" y="16043"/>
                  <a:pt x="7764" y="16049"/>
                </a:cubicBezTo>
                <a:cubicBezTo>
                  <a:pt x="7881" y="16062"/>
                  <a:pt x="8003" y="16049"/>
                  <a:pt x="8111" y="16024"/>
                </a:cubicBezTo>
                <a:cubicBezTo>
                  <a:pt x="8148" y="16015"/>
                  <a:pt x="8197" y="16024"/>
                  <a:pt x="8235" y="16024"/>
                </a:cubicBezTo>
              </a:path>
              <a:path w="4813" h="2159">
                <a:moveTo>
                  <a:pt x="8806" y="14684"/>
                </a:moveTo>
                <a:cubicBezTo>
                  <a:pt x="8737" y="14701"/>
                  <a:pt x="8751" y="14656"/>
                  <a:pt x="8706" y="14734"/>
                </a:cubicBezTo>
                <a:cubicBezTo>
                  <a:pt x="8617" y="14889"/>
                  <a:pt x="8607" y="14983"/>
                  <a:pt x="8582" y="15156"/>
                </a:cubicBezTo>
                <a:cubicBezTo>
                  <a:pt x="8559" y="15312"/>
                  <a:pt x="8538" y="15469"/>
                  <a:pt x="8533" y="15627"/>
                </a:cubicBezTo>
                <a:cubicBezTo>
                  <a:pt x="8529" y="15750"/>
                  <a:pt x="8502" y="15943"/>
                  <a:pt x="8558" y="16049"/>
                </a:cubicBezTo>
                <a:cubicBezTo>
                  <a:pt x="8593" y="16116"/>
                  <a:pt x="8627" y="16172"/>
                  <a:pt x="8657" y="16222"/>
                </a:cubicBezTo>
                <a:cubicBezTo>
                  <a:pt x="8682" y="16222"/>
                  <a:pt x="8690" y="16222"/>
                  <a:pt x="8682" y="16247"/>
                </a:cubicBezTo>
              </a:path>
              <a:path w="4813" h="2159">
                <a:moveTo>
                  <a:pt x="8806" y="15304"/>
                </a:moveTo>
                <a:cubicBezTo>
                  <a:pt x="8872" y="15304"/>
                  <a:pt x="8938" y="15304"/>
                  <a:pt x="9004" y="15304"/>
                </a:cubicBezTo>
              </a:path>
              <a:path w="4813" h="2159">
                <a:moveTo>
                  <a:pt x="9252" y="15106"/>
                </a:moveTo>
                <a:cubicBezTo>
                  <a:pt x="9257" y="15090"/>
                  <a:pt x="9275" y="15045"/>
                  <a:pt x="9302" y="15032"/>
                </a:cubicBezTo>
                <a:cubicBezTo>
                  <a:pt x="9328" y="15019"/>
                  <a:pt x="9335" y="14990"/>
                  <a:pt x="9351" y="14982"/>
                </a:cubicBezTo>
                <a:cubicBezTo>
                  <a:pt x="9403" y="14956"/>
                  <a:pt x="9483" y="14998"/>
                  <a:pt x="9500" y="15007"/>
                </a:cubicBezTo>
                <a:cubicBezTo>
                  <a:pt x="9540" y="15027"/>
                  <a:pt x="9545" y="15021"/>
                  <a:pt x="9550" y="15081"/>
                </a:cubicBezTo>
                <a:cubicBezTo>
                  <a:pt x="9557" y="15160"/>
                  <a:pt x="9571" y="15298"/>
                  <a:pt x="9525" y="15354"/>
                </a:cubicBezTo>
                <a:cubicBezTo>
                  <a:pt x="9474" y="15416"/>
                  <a:pt x="9433" y="15450"/>
                  <a:pt x="9426" y="15528"/>
                </a:cubicBezTo>
                <a:cubicBezTo>
                  <a:pt x="9423" y="15564"/>
                  <a:pt x="9373" y="15621"/>
                  <a:pt x="9351" y="15652"/>
                </a:cubicBezTo>
                <a:cubicBezTo>
                  <a:pt x="9318" y="15697"/>
                  <a:pt x="9267" y="15736"/>
                  <a:pt x="9227" y="15776"/>
                </a:cubicBezTo>
                <a:cubicBezTo>
                  <a:pt x="9351" y="15776"/>
                  <a:pt x="9475" y="15776"/>
                  <a:pt x="9599" y="15776"/>
                </a:cubicBezTo>
              </a:path>
              <a:path w="4813" h="2159">
                <a:moveTo>
                  <a:pt x="9674" y="14709"/>
                </a:moveTo>
                <a:cubicBezTo>
                  <a:pt x="9756" y="14780"/>
                  <a:pt x="9728" y="14803"/>
                  <a:pt x="9748" y="14932"/>
                </a:cubicBezTo>
                <a:cubicBezTo>
                  <a:pt x="9780" y="15136"/>
                  <a:pt x="9807" y="15350"/>
                  <a:pt x="9847" y="15553"/>
                </a:cubicBezTo>
                <a:cubicBezTo>
                  <a:pt x="9903" y="15836"/>
                  <a:pt x="9952" y="16107"/>
                  <a:pt x="9971" y="16396"/>
                </a:cubicBezTo>
                <a:cubicBezTo>
                  <a:pt x="9975" y="16465"/>
                  <a:pt x="10005" y="16628"/>
                  <a:pt x="9922" y="16669"/>
                </a:cubicBezTo>
                <a:cubicBezTo>
                  <a:pt x="9897" y="16669"/>
                  <a:pt x="9889" y="16669"/>
                  <a:pt x="9872" y="16669"/>
                </a:cubicBezTo>
              </a:path>
              <a:path w="4813" h="2159">
                <a:moveTo>
                  <a:pt x="10443" y="15255"/>
                </a:moveTo>
                <a:cubicBezTo>
                  <a:pt x="10418" y="15255"/>
                  <a:pt x="10410" y="15255"/>
                  <a:pt x="10393" y="15255"/>
                </a:cubicBezTo>
                <a:cubicBezTo>
                  <a:pt x="10382" y="15300"/>
                  <a:pt x="10368" y="15325"/>
                  <a:pt x="10368" y="15379"/>
                </a:cubicBezTo>
                <a:cubicBezTo>
                  <a:pt x="10368" y="15424"/>
                  <a:pt x="10344" y="15456"/>
                  <a:pt x="10344" y="15503"/>
                </a:cubicBezTo>
                <a:cubicBezTo>
                  <a:pt x="10344" y="15553"/>
                  <a:pt x="10344" y="15602"/>
                  <a:pt x="10344" y="15652"/>
                </a:cubicBezTo>
              </a:path>
              <a:path w="4813" h="2159">
                <a:moveTo>
                  <a:pt x="10120" y="15478"/>
                </a:moveTo>
                <a:cubicBezTo>
                  <a:pt x="10261" y="15478"/>
                  <a:pt x="10401" y="15478"/>
                  <a:pt x="10542" y="15478"/>
                </a:cubicBezTo>
              </a:path>
              <a:path w="4813" h="2159">
                <a:moveTo>
                  <a:pt x="11112" y="14982"/>
                </a:moveTo>
                <a:cubicBezTo>
                  <a:pt x="11112" y="14921"/>
                  <a:pt x="11121" y="14935"/>
                  <a:pt x="11162" y="14908"/>
                </a:cubicBezTo>
                <a:cubicBezTo>
                  <a:pt x="11208" y="14877"/>
                  <a:pt x="11226" y="14883"/>
                  <a:pt x="11286" y="14883"/>
                </a:cubicBezTo>
                <a:cubicBezTo>
                  <a:pt x="11319" y="14883"/>
                  <a:pt x="11336" y="14883"/>
                  <a:pt x="11361" y="14883"/>
                </a:cubicBezTo>
                <a:cubicBezTo>
                  <a:pt x="11361" y="14975"/>
                  <a:pt x="11359" y="14971"/>
                  <a:pt x="11311" y="15032"/>
                </a:cubicBezTo>
                <a:cubicBezTo>
                  <a:pt x="11276" y="15075"/>
                  <a:pt x="11253" y="15116"/>
                  <a:pt x="11212" y="15156"/>
                </a:cubicBezTo>
                <a:cubicBezTo>
                  <a:pt x="11186" y="15182"/>
                  <a:pt x="11075" y="15180"/>
                  <a:pt x="11112" y="15180"/>
                </a:cubicBezTo>
                <a:cubicBezTo>
                  <a:pt x="11184" y="15180"/>
                  <a:pt x="11303" y="15161"/>
                  <a:pt x="11336" y="15205"/>
                </a:cubicBezTo>
                <a:cubicBezTo>
                  <a:pt x="11368" y="15247"/>
                  <a:pt x="11361" y="15273"/>
                  <a:pt x="11361" y="15329"/>
                </a:cubicBezTo>
                <a:cubicBezTo>
                  <a:pt x="11361" y="15396"/>
                  <a:pt x="11391" y="15552"/>
                  <a:pt x="11336" y="15602"/>
                </a:cubicBezTo>
                <a:cubicBezTo>
                  <a:pt x="11285" y="15648"/>
                  <a:pt x="11279" y="15686"/>
                  <a:pt x="11212" y="15726"/>
                </a:cubicBezTo>
                <a:cubicBezTo>
                  <a:pt x="11164" y="15755"/>
                  <a:pt x="11142" y="15776"/>
                  <a:pt x="11088" y="15776"/>
                </a:cubicBezTo>
                <a:cubicBezTo>
                  <a:pt x="11029" y="15776"/>
                  <a:pt x="10990" y="15785"/>
                  <a:pt x="10964" y="15751"/>
                </a:cubicBezTo>
                <a:cubicBezTo>
                  <a:pt x="10941" y="15728"/>
                  <a:pt x="10933" y="15724"/>
                  <a:pt x="10939" y="15701"/>
                </a:cubicBezTo>
              </a:path>
              <a:path w="4813" h="2159">
                <a:moveTo>
                  <a:pt x="11956" y="14585"/>
                </a:moveTo>
                <a:cubicBezTo>
                  <a:pt x="11879" y="14604"/>
                  <a:pt x="11858" y="14687"/>
                  <a:pt x="11832" y="14759"/>
                </a:cubicBezTo>
                <a:cubicBezTo>
                  <a:pt x="11785" y="14889"/>
                  <a:pt x="11745" y="15020"/>
                  <a:pt x="11733" y="15156"/>
                </a:cubicBezTo>
                <a:cubicBezTo>
                  <a:pt x="11718" y="15327"/>
                  <a:pt x="11684" y="15646"/>
                  <a:pt x="11757" y="15801"/>
                </a:cubicBezTo>
                <a:cubicBezTo>
                  <a:pt x="11775" y="15840"/>
                  <a:pt x="11782" y="15828"/>
                  <a:pt x="11782" y="15875"/>
                </a:cubicBezTo>
              </a:path>
              <a:path w="4813" h="2159">
                <a:moveTo>
                  <a:pt x="12055" y="14982"/>
                </a:moveTo>
                <a:cubicBezTo>
                  <a:pt x="12113" y="14982"/>
                  <a:pt x="12171" y="14982"/>
                  <a:pt x="12229" y="14982"/>
                </a:cubicBezTo>
                <a:cubicBezTo>
                  <a:pt x="12229" y="15060"/>
                  <a:pt x="12255" y="15197"/>
                  <a:pt x="12204" y="15255"/>
                </a:cubicBezTo>
                <a:cubicBezTo>
                  <a:pt x="12175" y="15288"/>
                  <a:pt x="12133" y="15297"/>
                  <a:pt x="12129" y="15329"/>
                </a:cubicBezTo>
                <a:cubicBezTo>
                  <a:pt x="12124" y="15368"/>
                  <a:pt x="12061" y="15354"/>
                  <a:pt x="12105" y="15354"/>
                </a:cubicBezTo>
                <a:cubicBezTo>
                  <a:pt x="12176" y="15354"/>
                  <a:pt x="12239" y="15362"/>
                  <a:pt x="12278" y="15379"/>
                </a:cubicBezTo>
                <a:cubicBezTo>
                  <a:pt x="12325" y="15399"/>
                  <a:pt x="12349" y="15415"/>
                  <a:pt x="12353" y="15478"/>
                </a:cubicBezTo>
                <a:cubicBezTo>
                  <a:pt x="12357" y="15542"/>
                  <a:pt x="12364" y="15625"/>
                  <a:pt x="12328" y="15652"/>
                </a:cubicBezTo>
                <a:cubicBezTo>
                  <a:pt x="12296" y="15676"/>
                  <a:pt x="12283" y="15698"/>
                  <a:pt x="12254" y="15701"/>
                </a:cubicBezTo>
                <a:cubicBezTo>
                  <a:pt x="12199" y="15708"/>
                  <a:pt x="12120" y="15712"/>
                  <a:pt x="12080" y="15677"/>
                </a:cubicBezTo>
                <a:cubicBezTo>
                  <a:pt x="12072" y="15669"/>
                  <a:pt x="12063" y="15660"/>
                  <a:pt x="12055" y="15652"/>
                </a:cubicBezTo>
              </a:path>
              <a:path w="4813" h="2159">
                <a:moveTo>
                  <a:pt x="12328" y="14511"/>
                </a:moveTo>
                <a:cubicBezTo>
                  <a:pt x="12342" y="14566"/>
                  <a:pt x="12412" y="14609"/>
                  <a:pt x="12427" y="14660"/>
                </a:cubicBezTo>
                <a:cubicBezTo>
                  <a:pt x="12454" y="14751"/>
                  <a:pt x="12508" y="14859"/>
                  <a:pt x="12526" y="14957"/>
                </a:cubicBezTo>
                <a:cubicBezTo>
                  <a:pt x="12559" y="15134"/>
                  <a:pt x="12590" y="15795"/>
                  <a:pt x="12502" y="15949"/>
                </a:cubicBezTo>
                <a:cubicBezTo>
                  <a:pt x="12479" y="15972"/>
                  <a:pt x="12475" y="15980"/>
                  <a:pt x="12452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bjective: Students will multiply integers.</a:t>
            </a: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(-2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-4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(-3)(-2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(0)(-3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wh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-9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-7,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z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- (y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xy – 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4200" y="1411200"/>
            <a:ext cx="554040" cy="857160"/>
          </a:xfrm>
          <a:custGeom>
            <a:avLst/>
            <a:gdLst/>
            <a:ahLst/>
            <a:rect l="l" t="t" r="r" b="b"/>
            <a:pathLst>
              <a:path w="1539" h="2382">
                <a:moveTo>
                  <a:pt x="7813" y="4068"/>
                </a:moveTo>
                <a:cubicBezTo>
                  <a:pt x="7813" y="3998"/>
                  <a:pt x="7813" y="4200"/>
                  <a:pt x="7813" y="4217"/>
                </a:cubicBezTo>
                <a:cubicBezTo>
                  <a:pt x="7813" y="4333"/>
                  <a:pt x="7813" y="4448"/>
                  <a:pt x="7813" y="4564"/>
                </a:cubicBezTo>
              </a:path>
              <a:path w="1539" h="2382">
                <a:moveTo>
                  <a:pt x="8434" y="3919"/>
                </a:moveTo>
                <a:cubicBezTo>
                  <a:pt x="8388" y="3919"/>
                  <a:pt x="8369" y="3912"/>
                  <a:pt x="8334" y="3944"/>
                </a:cubicBezTo>
                <a:cubicBezTo>
                  <a:pt x="8296" y="3979"/>
                  <a:pt x="8283" y="4033"/>
                  <a:pt x="8260" y="4068"/>
                </a:cubicBezTo>
                <a:cubicBezTo>
                  <a:pt x="8236" y="4104"/>
                  <a:pt x="8199" y="4127"/>
                  <a:pt x="8186" y="4167"/>
                </a:cubicBezTo>
                <a:cubicBezTo>
                  <a:pt x="8168" y="4223"/>
                  <a:pt x="8175" y="4375"/>
                  <a:pt x="8210" y="4415"/>
                </a:cubicBezTo>
                <a:cubicBezTo>
                  <a:pt x="8247" y="4457"/>
                  <a:pt x="8226" y="4465"/>
                  <a:pt x="8285" y="4465"/>
                </a:cubicBezTo>
                <a:cubicBezTo>
                  <a:pt x="8391" y="4465"/>
                  <a:pt x="8435" y="4468"/>
                  <a:pt x="8508" y="4415"/>
                </a:cubicBezTo>
                <a:cubicBezTo>
                  <a:pt x="8548" y="4386"/>
                  <a:pt x="8608" y="4394"/>
                  <a:pt x="8632" y="4341"/>
                </a:cubicBezTo>
                <a:cubicBezTo>
                  <a:pt x="8665" y="4267"/>
                  <a:pt x="8632" y="4100"/>
                  <a:pt x="8632" y="4018"/>
                </a:cubicBezTo>
                <a:cubicBezTo>
                  <a:pt x="8577" y="4018"/>
                  <a:pt x="8597" y="3999"/>
                  <a:pt x="8558" y="3994"/>
                </a:cubicBezTo>
                <a:cubicBezTo>
                  <a:pt x="8514" y="3989"/>
                  <a:pt x="8496" y="3957"/>
                  <a:pt x="8458" y="3944"/>
                </a:cubicBezTo>
                <a:cubicBezTo>
                  <a:pt x="8421" y="3931"/>
                  <a:pt x="8438" y="3919"/>
                  <a:pt x="8384" y="3919"/>
                </a:cubicBezTo>
                <a:cubicBezTo>
                  <a:pt x="8376" y="3919"/>
                  <a:pt x="8367" y="3919"/>
                  <a:pt x="8359" y="3919"/>
                </a:cubicBezTo>
              </a:path>
              <a:path w="1539" h="2382">
                <a:moveTo>
                  <a:pt x="7491" y="5432"/>
                </a:moveTo>
                <a:cubicBezTo>
                  <a:pt x="7491" y="5585"/>
                  <a:pt x="7481" y="5729"/>
                  <a:pt x="7466" y="5879"/>
                </a:cubicBezTo>
                <a:cubicBezTo>
                  <a:pt x="7452" y="6016"/>
                  <a:pt x="7466" y="6162"/>
                  <a:pt x="7466" y="6300"/>
                </a:cubicBezTo>
              </a:path>
              <a:path w="1539" h="2382">
                <a:moveTo>
                  <a:pt x="7863" y="5531"/>
                </a:moveTo>
                <a:cubicBezTo>
                  <a:pt x="7863" y="5485"/>
                  <a:pt x="7857" y="5467"/>
                  <a:pt x="7888" y="5432"/>
                </a:cubicBezTo>
                <a:cubicBezTo>
                  <a:pt x="7910" y="5407"/>
                  <a:pt x="7940" y="5386"/>
                  <a:pt x="7962" y="5383"/>
                </a:cubicBezTo>
                <a:cubicBezTo>
                  <a:pt x="8026" y="5375"/>
                  <a:pt x="8096" y="5383"/>
                  <a:pt x="8161" y="5383"/>
                </a:cubicBezTo>
                <a:cubicBezTo>
                  <a:pt x="8161" y="5500"/>
                  <a:pt x="8170" y="5651"/>
                  <a:pt x="8136" y="5730"/>
                </a:cubicBezTo>
                <a:cubicBezTo>
                  <a:pt x="8128" y="5748"/>
                  <a:pt x="8093" y="5790"/>
                  <a:pt x="8062" y="5804"/>
                </a:cubicBezTo>
                <a:cubicBezTo>
                  <a:pt x="8031" y="5818"/>
                  <a:pt x="8036" y="5863"/>
                  <a:pt x="8012" y="5879"/>
                </a:cubicBezTo>
                <a:cubicBezTo>
                  <a:pt x="7993" y="5892"/>
                  <a:pt x="7944" y="5941"/>
                  <a:pt x="7938" y="5953"/>
                </a:cubicBezTo>
                <a:cubicBezTo>
                  <a:pt x="7927" y="5976"/>
                  <a:pt x="7901" y="6022"/>
                  <a:pt x="7888" y="6028"/>
                </a:cubicBezTo>
                <a:cubicBezTo>
                  <a:pt x="7847" y="6049"/>
                  <a:pt x="7850" y="6083"/>
                  <a:pt x="7813" y="6102"/>
                </a:cubicBezTo>
                <a:cubicBezTo>
                  <a:pt x="7787" y="6115"/>
                  <a:pt x="7768" y="6118"/>
                  <a:pt x="7764" y="6152"/>
                </a:cubicBezTo>
                <a:cubicBezTo>
                  <a:pt x="7764" y="6176"/>
                  <a:pt x="7764" y="6185"/>
                  <a:pt x="7764" y="6201"/>
                </a:cubicBezTo>
                <a:cubicBezTo>
                  <a:pt x="7938" y="6201"/>
                  <a:pt x="8111" y="6201"/>
                  <a:pt x="8285" y="6201"/>
                </a:cubicBezTo>
              </a:path>
              <a:path w="1539" h="2382">
                <a:moveTo>
                  <a:pt x="7094" y="5581"/>
                </a:moveTo>
                <a:cubicBezTo>
                  <a:pt x="7152" y="5581"/>
                  <a:pt x="7210" y="5581"/>
                  <a:pt x="7268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16160" y="3017880"/>
            <a:ext cx="241560" cy="312840"/>
          </a:xfrm>
          <a:custGeom>
            <a:avLst/>
            <a:gdLst/>
            <a:ahLst/>
            <a:rect l="l" t="t" r="r" b="b"/>
            <a:pathLst>
              <a:path w="671" h="869">
                <a:moveTo>
                  <a:pt x="8756" y="8558"/>
                </a:moveTo>
                <a:cubicBezTo>
                  <a:pt x="8756" y="8633"/>
                  <a:pt x="8748" y="8686"/>
                  <a:pt x="8731" y="8756"/>
                </a:cubicBezTo>
                <a:cubicBezTo>
                  <a:pt x="8721" y="8795"/>
                  <a:pt x="8694" y="8819"/>
                  <a:pt x="8682" y="8855"/>
                </a:cubicBezTo>
                <a:cubicBezTo>
                  <a:pt x="8672" y="8886"/>
                  <a:pt x="8660" y="8925"/>
                  <a:pt x="8657" y="8954"/>
                </a:cubicBezTo>
                <a:cubicBezTo>
                  <a:pt x="8648" y="9035"/>
                  <a:pt x="8660" y="9133"/>
                  <a:pt x="8682" y="9178"/>
                </a:cubicBezTo>
                <a:cubicBezTo>
                  <a:pt x="8691" y="9196"/>
                  <a:pt x="8723" y="9238"/>
                  <a:pt x="8756" y="9252"/>
                </a:cubicBezTo>
                <a:cubicBezTo>
                  <a:pt x="8824" y="9282"/>
                  <a:pt x="9132" y="9270"/>
                  <a:pt x="9178" y="9227"/>
                </a:cubicBezTo>
                <a:cubicBezTo>
                  <a:pt x="9245" y="9165"/>
                  <a:pt x="9243" y="9146"/>
                  <a:pt x="9277" y="9079"/>
                </a:cubicBezTo>
                <a:cubicBezTo>
                  <a:pt x="9302" y="9030"/>
                  <a:pt x="9327" y="9039"/>
                  <a:pt x="9327" y="8979"/>
                </a:cubicBezTo>
                <a:cubicBezTo>
                  <a:pt x="9327" y="8858"/>
                  <a:pt x="9342" y="8688"/>
                  <a:pt x="9302" y="8607"/>
                </a:cubicBezTo>
                <a:cubicBezTo>
                  <a:pt x="9282" y="8566"/>
                  <a:pt x="9246" y="8570"/>
                  <a:pt x="9227" y="8533"/>
                </a:cubicBezTo>
                <a:cubicBezTo>
                  <a:pt x="9209" y="8497"/>
                  <a:pt x="9181" y="8504"/>
                  <a:pt x="9153" y="8483"/>
                </a:cubicBezTo>
                <a:cubicBezTo>
                  <a:pt x="9129" y="8465"/>
                  <a:pt x="9087" y="8413"/>
                  <a:pt x="9079" y="8409"/>
                </a:cubicBezTo>
                <a:cubicBezTo>
                  <a:pt x="9047" y="8393"/>
                  <a:pt x="9019" y="8384"/>
                  <a:pt x="8979" y="8384"/>
                </a:cubicBezTo>
                <a:cubicBezTo>
                  <a:pt x="8915" y="8384"/>
                  <a:pt x="8829" y="8366"/>
                  <a:pt x="8781" y="8409"/>
                </a:cubicBezTo>
                <a:cubicBezTo>
                  <a:pt x="8752" y="8435"/>
                  <a:pt x="8717" y="8474"/>
                  <a:pt x="8706" y="8508"/>
                </a:cubicBezTo>
                <a:cubicBezTo>
                  <a:pt x="8696" y="8538"/>
                  <a:pt x="8685" y="8578"/>
                  <a:pt x="8682" y="8607"/>
                </a:cubicBezTo>
                <a:cubicBezTo>
                  <a:pt x="8677" y="8655"/>
                  <a:pt x="8682" y="8707"/>
                  <a:pt x="8682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67080" y="2463840"/>
            <a:ext cx="401760" cy="304920"/>
          </a:xfrm>
          <a:custGeom>
            <a:avLst/>
            <a:gdLst/>
            <a:ahLst/>
            <a:rect l="l" t="t" r="r" b="b"/>
            <a:pathLst>
              <a:path w="1118" h="844">
                <a:moveTo>
                  <a:pt x="9550" y="6921"/>
                </a:moveTo>
                <a:lnTo>
                  <a:pt x="9550" y="6921"/>
                </a:lnTo>
                <a:lnTo>
                  <a:pt x="9525" y="6921"/>
                </a:lnTo>
                <a:lnTo>
                  <a:pt x="9525" y="6921"/>
                </a:lnTo>
                <a:lnTo>
                  <a:pt x="9500" y="6921"/>
                </a:lnTo>
                <a:lnTo>
                  <a:pt x="9500" y="6921"/>
                </a:lnTo>
                <a:lnTo>
                  <a:pt x="9500" y="6921"/>
                </a:lnTo>
                <a:lnTo>
                  <a:pt x="9525" y="6921"/>
                </a:lnTo>
                <a:lnTo>
                  <a:pt x="9575" y="6921"/>
                </a:lnTo>
                <a:lnTo>
                  <a:pt x="9599" y="6896"/>
                </a:lnTo>
                <a:lnTo>
                  <a:pt x="9624" y="6896"/>
                </a:lnTo>
                <a:lnTo>
                  <a:pt x="9649" y="6871"/>
                </a:lnTo>
                <a:lnTo>
                  <a:pt x="9674" y="6871"/>
                </a:lnTo>
                <a:lnTo>
                  <a:pt x="9699" y="6871"/>
                </a:lnTo>
                <a:lnTo>
                  <a:pt x="9723" y="6871"/>
                </a:lnTo>
                <a:lnTo>
                  <a:pt x="9723" y="6871"/>
                </a:lnTo>
                <a:lnTo>
                  <a:pt x="9748" y="6871"/>
                </a:lnTo>
                <a:lnTo>
                  <a:pt x="9748" y="6871"/>
                </a:lnTo>
                <a:lnTo>
                  <a:pt x="9773" y="6871"/>
                </a:lnTo>
                <a:lnTo>
                  <a:pt x="9798" y="6871"/>
                </a:lnTo>
                <a:lnTo>
                  <a:pt x="9798" y="6871"/>
                </a:lnTo>
                <a:lnTo>
                  <a:pt x="9823" y="6871"/>
                </a:lnTo>
                <a:lnTo>
                  <a:pt x="9823" y="6871"/>
                </a:lnTo>
                <a:lnTo>
                  <a:pt x="9823" y="6871"/>
                </a:lnTo>
                <a:lnTo>
                  <a:pt x="9823" y="6896"/>
                </a:lnTo>
                <a:lnTo>
                  <a:pt x="9823" y="6921"/>
                </a:lnTo>
                <a:lnTo>
                  <a:pt x="9823" y="6970"/>
                </a:lnTo>
                <a:lnTo>
                  <a:pt x="9823" y="6995"/>
                </a:lnTo>
                <a:lnTo>
                  <a:pt x="9773" y="7069"/>
                </a:lnTo>
                <a:lnTo>
                  <a:pt x="9748" y="7094"/>
                </a:lnTo>
                <a:lnTo>
                  <a:pt x="9699" y="7119"/>
                </a:lnTo>
                <a:lnTo>
                  <a:pt x="9699" y="7144"/>
                </a:lnTo>
                <a:lnTo>
                  <a:pt x="9649" y="7169"/>
                </a:lnTo>
                <a:lnTo>
                  <a:pt x="9649" y="7193"/>
                </a:lnTo>
                <a:lnTo>
                  <a:pt x="9624" y="7193"/>
                </a:lnTo>
                <a:lnTo>
                  <a:pt x="9599" y="7193"/>
                </a:lnTo>
                <a:lnTo>
                  <a:pt x="9575" y="7218"/>
                </a:lnTo>
                <a:lnTo>
                  <a:pt x="9575" y="7218"/>
                </a:lnTo>
                <a:lnTo>
                  <a:pt x="9550" y="7218"/>
                </a:lnTo>
                <a:lnTo>
                  <a:pt x="9550" y="7218"/>
                </a:lnTo>
                <a:lnTo>
                  <a:pt x="9525" y="7218"/>
                </a:lnTo>
                <a:lnTo>
                  <a:pt x="9500" y="7218"/>
                </a:lnTo>
                <a:lnTo>
                  <a:pt x="9500" y="7218"/>
                </a:lnTo>
                <a:lnTo>
                  <a:pt x="9575" y="7218"/>
                </a:lnTo>
                <a:lnTo>
                  <a:pt x="9575" y="7218"/>
                </a:lnTo>
                <a:lnTo>
                  <a:pt x="9599" y="7218"/>
                </a:lnTo>
                <a:lnTo>
                  <a:pt x="9624" y="7218"/>
                </a:lnTo>
                <a:lnTo>
                  <a:pt x="9624" y="7218"/>
                </a:lnTo>
                <a:lnTo>
                  <a:pt x="9674" y="7218"/>
                </a:lnTo>
                <a:lnTo>
                  <a:pt x="9674" y="7218"/>
                </a:lnTo>
                <a:lnTo>
                  <a:pt x="9699" y="7218"/>
                </a:lnTo>
                <a:lnTo>
                  <a:pt x="9699" y="7218"/>
                </a:lnTo>
                <a:lnTo>
                  <a:pt x="9723" y="7218"/>
                </a:lnTo>
                <a:lnTo>
                  <a:pt x="9748" y="7218"/>
                </a:lnTo>
                <a:lnTo>
                  <a:pt x="9773" y="7218"/>
                </a:lnTo>
                <a:lnTo>
                  <a:pt x="9773" y="7218"/>
                </a:lnTo>
                <a:lnTo>
                  <a:pt x="9798" y="7218"/>
                </a:lnTo>
                <a:lnTo>
                  <a:pt x="9798" y="7218"/>
                </a:lnTo>
                <a:lnTo>
                  <a:pt x="9798" y="7218"/>
                </a:lnTo>
                <a:lnTo>
                  <a:pt x="9798" y="7243"/>
                </a:lnTo>
                <a:lnTo>
                  <a:pt x="9823" y="7243"/>
                </a:lnTo>
                <a:lnTo>
                  <a:pt x="9823" y="7268"/>
                </a:lnTo>
                <a:lnTo>
                  <a:pt x="9823" y="7317"/>
                </a:lnTo>
                <a:lnTo>
                  <a:pt x="9823" y="7342"/>
                </a:lnTo>
                <a:lnTo>
                  <a:pt x="9823" y="7367"/>
                </a:lnTo>
                <a:lnTo>
                  <a:pt x="9823" y="7417"/>
                </a:lnTo>
                <a:lnTo>
                  <a:pt x="9823" y="7441"/>
                </a:lnTo>
                <a:lnTo>
                  <a:pt x="9823" y="7466"/>
                </a:lnTo>
                <a:lnTo>
                  <a:pt x="9823" y="7516"/>
                </a:lnTo>
                <a:lnTo>
                  <a:pt x="9823" y="7565"/>
                </a:lnTo>
                <a:lnTo>
                  <a:pt x="9823" y="7590"/>
                </a:lnTo>
                <a:lnTo>
                  <a:pt x="9823" y="7615"/>
                </a:lnTo>
                <a:lnTo>
                  <a:pt x="9798" y="7640"/>
                </a:lnTo>
                <a:lnTo>
                  <a:pt x="9773" y="7640"/>
                </a:lnTo>
                <a:lnTo>
                  <a:pt x="9748" y="7665"/>
                </a:lnTo>
                <a:lnTo>
                  <a:pt x="9748" y="7689"/>
                </a:lnTo>
                <a:lnTo>
                  <a:pt x="9699" y="7689"/>
                </a:lnTo>
                <a:lnTo>
                  <a:pt x="9699" y="7689"/>
                </a:lnTo>
                <a:lnTo>
                  <a:pt x="9649" y="7689"/>
                </a:lnTo>
                <a:lnTo>
                  <a:pt x="9649" y="7689"/>
                </a:lnTo>
                <a:lnTo>
                  <a:pt x="9624" y="7689"/>
                </a:lnTo>
                <a:lnTo>
                  <a:pt x="9599" y="7689"/>
                </a:lnTo>
                <a:lnTo>
                  <a:pt x="9599" y="7689"/>
                </a:lnTo>
                <a:lnTo>
                  <a:pt x="9550" y="7689"/>
                </a:lnTo>
                <a:lnTo>
                  <a:pt x="9550" y="7689"/>
                </a:lnTo>
                <a:lnTo>
                  <a:pt x="9525" y="7689"/>
                </a:lnTo>
                <a:lnTo>
                  <a:pt x="9500" y="7689"/>
                </a:lnTo>
                <a:lnTo>
                  <a:pt x="9475" y="7689"/>
                </a:lnTo>
                <a:lnTo>
                  <a:pt x="9426" y="7689"/>
                </a:lnTo>
                <a:lnTo>
                  <a:pt x="9426" y="7689"/>
                </a:lnTo>
                <a:lnTo>
                  <a:pt x="9401" y="7689"/>
                </a:lnTo>
                <a:lnTo>
                  <a:pt x="9401" y="7689"/>
                </a:lnTo>
                <a:lnTo>
                  <a:pt x="9376" y="7689"/>
                </a:lnTo>
                <a:lnTo>
                  <a:pt x="9376" y="7689"/>
                </a:lnTo>
                <a:lnTo>
                  <a:pt x="9351" y="7689"/>
                </a:lnTo>
                <a:lnTo>
                  <a:pt x="9351" y="7665"/>
                </a:lnTo>
                <a:lnTo>
                  <a:pt x="9351" y="7640"/>
                </a:lnTo>
              </a:path>
              <a:path w="1118" h="844">
                <a:moveTo>
                  <a:pt x="10244" y="6921"/>
                </a:moveTo>
                <a:cubicBezTo>
                  <a:pt x="10214" y="6921"/>
                  <a:pt x="10178" y="6929"/>
                  <a:pt x="10170" y="6945"/>
                </a:cubicBezTo>
                <a:cubicBezTo>
                  <a:pt x="10155" y="6974"/>
                  <a:pt x="10125" y="6974"/>
                  <a:pt x="10120" y="7020"/>
                </a:cubicBezTo>
                <a:cubicBezTo>
                  <a:pt x="10117" y="7048"/>
                  <a:pt x="10077" y="7080"/>
                  <a:pt x="10071" y="7094"/>
                </a:cubicBezTo>
                <a:cubicBezTo>
                  <a:pt x="10060" y="7121"/>
                  <a:pt x="10060" y="7169"/>
                  <a:pt x="10046" y="7193"/>
                </a:cubicBezTo>
                <a:cubicBezTo>
                  <a:pt x="10023" y="7234"/>
                  <a:pt x="10021" y="7242"/>
                  <a:pt x="10021" y="7293"/>
                </a:cubicBezTo>
                <a:cubicBezTo>
                  <a:pt x="10021" y="7332"/>
                  <a:pt x="9996" y="7347"/>
                  <a:pt x="9996" y="7392"/>
                </a:cubicBezTo>
                <a:cubicBezTo>
                  <a:pt x="9996" y="7447"/>
                  <a:pt x="9989" y="7467"/>
                  <a:pt x="10021" y="7491"/>
                </a:cubicBezTo>
                <a:cubicBezTo>
                  <a:pt x="10066" y="7525"/>
                  <a:pt x="10096" y="7536"/>
                  <a:pt x="10145" y="7541"/>
                </a:cubicBezTo>
                <a:cubicBezTo>
                  <a:pt x="10197" y="7546"/>
                  <a:pt x="10393" y="7566"/>
                  <a:pt x="10418" y="7516"/>
                </a:cubicBezTo>
                <a:cubicBezTo>
                  <a:pt x="10432" y="7489"/>
                  <a:pt x="10455" y="7481"/>
                  <a:pt x="10468" y="7441"/>
                </a:cubicBezTo>
                <a:cubicBezTo>
                  <a:pt x="10508" y="7322"/>
                  <a:pt x="10479" y="7050"/>
                  <a:pt x="10443" y="6945"/>
                </a:cubicBezTo>
                <a:cubicBezTo>
                  <a:pt x="10431" y="6911"/>
                  <a:pt x="10393" y="6915"/>
                  <a:pt x="10368" y="6896"/>
                </a:cubicBezTo>
                <a:cubicBezTo>
                  <a:pt x="10337" y="6872"/>
                  <a:pt x="10308" y="6850"/>
                  <a:pt x="10269" y="6846"/>
                </a:cubicBezTo>
                <a:cubicBezTo>
                  <a:pt x="10229" y="6842"/>
                  <a:pt x="10185" y="6846"/>
                  <a:pt x="10145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62120" y="4152960"/>
            <a:ext cx="938160" cy="561960"/>
          </a:xfrm>
          <a:custGeom>
            <a:avLst/>
            <a:gdLst/>
            <a:ahLst/>
            <a:rect l="l" t="t" r="r" b="b"/>
            <a:pathLst>
              <a:path w="2605" h="1564">
                <a:moveTo>
                  <a:pt x="7119" y="12452"/>
                </a:moveTo>
                <a:cubicBezTo>
                  <a:pt x="7202" y="12452"/>
                  <a:pt x="7284" y="12452"/>
                  <a:pt x="7367" y="12452"/>
                </a:cubicBezTo>
              </a:path>
              <a:path w="2605" h="1564">
                <a:moveTo>
                  <a:pt x="7714" y="12204"/>
                </a:moveTo>
                <a:cubicBezTo>
                  <a:pt x="7714" y="12173"/>
                  <a:pt x="7722" y="12137"/>
                  <a:pt x="7739" y="12129"/>
                </a:cubicBezTo>
                <a:cubicBezTo>
                  <a:pt x="7764" y="12117"/>
                  <a:pt x="7773" y="12088"/>
                  <a:pt x="7789" y="12080"/>
                </a:cubicBezTo>
                <a:cubicBezTo>
                  <a:pt x="7814" y="12067"/>
                  <a:pt x="7884" y="12080"/>
                  <a:pt x="7913" y="12080"/>
                </a:cubicBezTo>
                <a:cubicBezTo>
                  <a:pt x="7913" y="12173"/>
                  <a:pt x="7922" y="12223"/>
                  <a:pt x="7863" y="12303"/>
                </a:cubicBezTo>
                <a:cubicBezTo>
                  <a:pt x="7834" y="12342"/>
                  <a:pt x="7810" y="12387"/>
                  <a:pt x="7764" y="12402"/>
                </a:cubicBezTo>
                <a:cubicBezTo>
                  <a:pt x="7732" y="12412"/>
                  <a:pt x="7659" y="12412"/>
                  <a:pt x="7689" y="12427"/>
                </a:cubicBezTo>
                <a:cubicBezTo>
                  <a:pt x="7754" y="12460"/>
                  <a:pt x="7949" y="12374"/>
                  <a:pt x="7987" y="12452"/>
                </a:cubicBezTo>
                <a:cubicBezTo>
                  <a:pt x="8017" y="12514"/>
                  <a:pt x="8008" y="12795"/>
                  <a:pt x="7962" y="12849"/>
                </a:cubicBezTo>
                <a:cubicBezTo>
                  <a:pt x="7949" y="12864"/>
                  <a:pt x="7861" y="12916"/>
                  <a:pt x="7838" y="12923"/>
                </a:cubicBezTo>
                <a:cubicBezTo>
                  <a:pt x="7784" y="12938"/>
                  <a:pt x="7795" y="12948"/>
                  <a:pt x="7739" y="12948"/>
                </a:cubicBezTo>
                <a:cubicBezTo>
                  <a:pt x="7665" y="12948"/>
                  <a:pt x="7590" y="12948"/>
                  <a:pt x="7516" y="12948"/>
                </a:cubicBezTo>
              </a:path>
              <a:path w="2605" h="1564">
                <a:moveTo>
                  <a:pt x="8384" y="11906"/>
                </a:moveTo>
                <a:cubicBezTo>
                  <a:pt x="8334" y="11918"/>
                  <a:pt x="8334" y="11930"/>
                  <a:pt x="8334" y="11981"/>
                </a:cubicBezTo>
                <a:cubicBezTo>
                  <a:pt x="8334" y="12036"/>
                  <a:pt x="8310" y="12051"/>
                  <a:pt x="8310" y="12105"/>
                </a:cubicBezTo>
                <a:cubicBezTo>
                  <a:pt x="8278" y="12126"/>
                  <a:pt x="8264" y="12175"/>
                  <a:pt x="8260" y="12229"/>
                </a:cubicBezTo>
                <a:cubicBezTo>
                  <a:pt x="8256" y="12279"/>
                  <a:pt x="8235" y="12316"/>
                  <a:pt x="8235" y="12378"/>
                </a:cubicBezTo>
                <a:cubicBezTo>
                  <a:pt x="8235" y="12560"/>
                  <a:pt x="8235" y="12741"/>
                  <a:pt x="8235" y="12923"/>
                </a:cubicBezTo>
                <a:cubicBezTo>
                  <a:pt x="8275" y="12936"/>
                  <a:pt x="8260" y="12942"/>
                  <a:pt x="8260" y="12998"/>
                </a:cubicBezTo>
                <a:cubicBezTo>
                  <a:pt x="8294" y="13009"/>
                  <a:pt x="8289" y="13036"/>
                  <a:pt x="8310" y="13047"/>
                </a:cubicBezTo>
                <a:cubicBezTo>
                  <a:pt x="8334" y="13047"/>
                  <a:pt x="8342" y="13047"/>
                  <a:pt x="8334" y="13072"/>
                </a:cubicBezTo>
                <a:cubicBezTo>
                  <a:pt x="8377" y="13072"/>
                  <a:pt x="8372" y="13062"/>
                  <a:pt x="8384" y="13097"/>
                </a:cubicBezTo>
              </a:path>
              <a:path w="2605" h="1564">
                <a:moveTo>
                  <a:pt x="8384" y="12353"/>
                </a:moveTo>
                <a:cubicBezTo>
                  <a:pt x="8384" y="12345"/>
                  <a:pt x="8384" y="12336"/>
                  <a:pt x="8384" y="12328"/>
                </a:cubicBezTo>
                <a:cubicBezTo>
                  <a:pt x="8413" y="12321"/>
                  <a:pt x="8429" y="12311"/>
                  <a:pt x="8458" y="12303"/>
                </a:cubicBezTo>
                <a:cubicBezTo>
                  <a:pt x="8482" y="12267"/>
                  <a:pt x="8525" y="12278"/>
                  <a:pt x="8582" y="12278"/>
                </a:cubicBezTo>
                <a:cubicBezTo>
                  <a:pt x="8607" y="12278"/>
                  <a:pt x="8615" y="12278"/>
                  <a:pt x="8632" y="12278"/>
                </a:cubicBezTo>
              </a:path>
              <a:path w="2605" h="1564">
                <a:moveTo>
                  <a:pt x="8880" y="12179"/>
                </a:moveTo>
                <a:cubicBezTo>
                  <a:pt x="8880" y="12292"/>
                  <a:pt x="8885" y="12404"/>
                  <a:pt x="8855" y="12502"/>
                </a:cubicBezTo>
                <a:cubicBezTo>
                  <a:pt x="8841" y="12546"/>
                  <a:pt x="8842" y="12541"/>
                  <a:pt x="8830" y="12576"/>
                </a:cubicBezTo>
                <a:cubicBezTo>
                  <a:pt x="8896" y="12576"/>
                  <a:pt x="8963" y="12576"/>
                  <a:pt x="9029" y="12576"/>
                </a:cubicBezTo>
                <a:cubicBezTo>
                  <a:pt x="9029" y="12461"/>
                  <a:pt x="9029" y="12032"/>
                  <a:pt x="9029" y="12080"/>
                </a:cubicBezTo>
                <a:cubicBezTo>
                  <a:pt x="9029" y="12378"/>
                  <a:pt x="9029" y="12675"/>
                  <a:pt x="9029" y="12973"/>
                </a:cubicBezTo>
              </a:path>
              <a:path w="2605" h="1564">
                <a:moveTo>
                  <a:pt x="9252" y="11857"/>
                </a:moveTo>
                <a:cubicBezTo>
                  <a:pt x="9244" y="11857"/>
                  <a:pt x="9235" y="11857"/>
                  <a:pt x="9227" y="11857"/>
                </a:cubicBezTo>
                <a:cubicBezTo>
                  <a:pt x="9257" y="11896"/>
                  <a:pt x="9269" y="11938"/>
                  <a:pt x="9302" y="11981"/>
                </a:cubicBezTo>
                <a:cubicBezTo>
                  <a:pt x="9350" y="12044"/>
                  <a:pt x="9347" y="12115"/>
                  <a:pt x="9376" y="12179"/>
                </a:cubicBezTo>
                <a:cubicBezTo>
                  <a:pt x="9398" y="12226"/>
                  <a:pt x="9401" y="12243"/>
                  <a:pt x="9401" y="12303"/>
                </a:cubicBezTo>
                <a:cubicBezTo>
                  <a:pt x="9401" y="12477"/>
                  <a:pt x="9401" y="12650"/>
                  <a:pt x="9401" y="12824"/>
                </a:cubicBezTo>
                <a:cubicBezTo>
                  <a:pt x="9361" y="12837"/>
                  <a:pt x="9391" y="12836"/>
                  <a:pt x="9351" y="12849"/>
                </a:cubicBezTo>
                <a:cubicBezTo>
                  <a:pt x="9339" y="12887"/>
                  <a:pt x="9327" y="12870"/>
                  <a:pt x="9327" y="12923"/>
                </a:cubicBezTo>
                <a:cubicBezTo>
                  <a:pt x="9289" y="12936"/>
                  <a:pt x="9306" y="12948"/>
                  <a:pt x="9252" y="12948"/>
                </a:cubicBezTo>
              </a:path>
              <a:path w="2605" h="1564">
                <a:moveTo>
                  <a:pt x="9451" y="11683"/>
                </a:moveTo>
                <a:cubicBezTo>
                  <a:pt x="9451" y="11633"/>
                  <a:pt x="9465" y="11629"/>
                  <a:pt x="9475" y="11609"/>
                </a:cubicBezTo>
                <a:cubicBezTo>
                  <a:pt x="9495" y="11568"/>
                  <a:pt x="9458" y="11541"/>
                  <a:pt x="9525" y="11534"/>
                </a:cubicBezTo>
                <a:cubicBezTo>
                  <a:pt x="9550" y="11534"/>
                  <a:pt x="9558" y="11534"/>
                  <a:pt x="9575" y="11534"/>
                </a:cubicBezTo>
                <a:cubicBezTo>
                  <a:pt x="9575" y="11625"/>
                  <a:pt x="9577" y="11727"/>
                  <a:pt x="9550" y="11782"/>
                </a:cubicBezTo>
                <a:cubicBezTo>
                  <a:pt x="9532" y="11818"/>
                  <a:pt x="9530" y="11810"/>
                  <a:pt x="9500" y="11832"/>
                </a:cubicBezTo>
                <a:cubicBezTo>
                  <a:pt x="9473" y="11852"/>
                  <a:pt x="9440" y="11922"/>
                  <a:pt x="9426" y="11931"/>
                </a:cubicBezTo>
                <a:cubicBezTo>
                  <a:pt x="9401" y="11931"/>
                  <a:pt x="9393" y="11931"/>
                  <a:pt x="9401" y="11956"/>
                </a:cubicBezTo>
                <a:cubicBezTo>
                  <a:pt x="9508" y="11956"/>
                  <a:pt x="9616" y="11956"/>
                  <a:pt x="9723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6120" y="3946680"/>
            <a:ext cx="901800" cy="438120"/>
          </a:xfrm>
          <a:custGeom>
            <a:avLst/>
            <a:gdLst/>
            <a:ahLst/>
            <a:rect l="l" t="t" r="r" b="b"/>
            <a:pathLst>
              <a:path w="2506" h="1216">
                <a:moveTo>
                  <a:pt x="10840" y="11410"/>
                </a:moveTo>
                <a:cubicBezTo>
                  <a:pt x="10947" y="11410"/>
                  <a:pt x="11055" y="11410"/>
                  <a:pt x="11162" y="11410"/>
                </a:cubicBezTo>
              </a:path>
              <a:path w="2506" h="1216">
                <a:moveTo>
                  <a:pt x="11311" y="11385"/>
                </a:moveTo>
                <a:cubicBezTo>
                  <a:pt x="11285" y="11449"/>
                  <a:pt x="11219" y="11559"/>
                  <a:pt x="11212" y="11633"/>
                </a:cubicBezTo>
                <a:cubicBezTo>
                  <a:pt x="11210" y="11657"/>
                  <a:pt x="11212" y="11684"/>
                  <a:pt x="11212" y="11708"/>
                </a:cubicBezTo>
                <a:cubicBezTo>
                  <a:pt x="11303" y="11708"/>
                  <a:pt x="11394" y="11708"/>
                  <a:pt x="11485" y="11708"/>
                </a:cubicBezTo>
                <a:cubicBezTo>
                  <a:pt x="11485" y="11649"/>
                  <a:pt x="11504" y="11655"/>
                  <a:pt x="11534" y="11609"/>
                </a:cubicBezTo>
                <a:cubicBezTo>
                  <a:pt x="11563" y="11564"/>
                  <a:pt x="11559" y="11535"/>
                  <a:pt x="11559" y="11485"/>
                </a:cubicBezTo>
                <a:cubicBezTo>
                  <a:pt x="11559" y="11456"/>
                  <a:pt x="11559" y="11309"/>
                  <a:pt x="11559" y="11361"/>
                </a:cubicBezTo>
                <a:cubicBezTo>
                  <a:pt x="11559" y="11543"/>
                  <a:pt x="11559" y="11724"/>
                  <a:pt x="11559" y="11906"/>
                </a:cubicBezTo>
              </a:path>
              <a:path w="2506" h="1216">
                <a:moveTo>
                  <a:pt x="11733" y="10964"/>
                </a:moveTo>
                <a:cubicBezTo>
                  <a:pt x="11769" y="11037"/>
                  <a:pt x="11757" y="11124"/>
                  <a:pt x="11757" y="11212"/>
                </a:cubicBezTo>
                <a:cubicBezTo>
                  <a:pt x="11757" y="11303"/>
                  <a:pt x="11802" y="11361"/>
                  <a:pt x="11807" y="11435"/>
                </a:cubicBezTo>
                <a:cubicBezTo>
                  <a:pt x="11817" y="11579"/>
                  <a:pt x="11811" y="11714"/>
                  <a:pt x="11757" y="11832"/>
                </a:cubicBezTo>
                <a:cubicBezTo>
                  <a:pt x="11713" y="11929"/>
                  <a:pt x="11688" y="11932"/>
                  <a:pt x="11609" y="12005"/>
                </a:cubicBezTo>
                <a:cubicBezTo>
                  <a:pt x="11570" y="12041"/>
                  <a:pt x="11600" y="12041"/>
                  <a:pt x="11559" y="12055"/>
                </a:cubicBezTo>
              </a:path>
              <a:path w="2506" h="1216">
                <a:moveTo>
                  <a:pt x="10567" y="11063"/>
                </a:moveTo>
                <a:cubicBezTo>
                  <a:pt x="10567" y="11151"/>
                  <a:pt x="10549" y="11228"/>
                  <a:pt x="10542" y="11311"/>
                </a:cubicBezTo>
                <a:cubicBezTo>
                  <a:pt x="10533" y="11417"/>
                  <a:pt x="10517" y="11503"/>
                  <a:pt x="10517" y="11609"/>
                </a:cubicBezTo>
                <a:cubicBezTo>
                  <a:pt x="10517" y="11690"/>
                  <a:pt x="10493" y="11810"/>
                  <a:pt x="10542" y="11881"/>
                </a:cubicBezTo>
                <a:cubicBezTo>
                  <a:pt x="10612" y="11983"/>
                  <a:pt x="10754" y="12057"/>
                  <a:pt x="10864" y="12105"/>
                </a:cubicBezTo>
                <a:cubicBezTo>
                  <a:pt x="10936" y="12128"/>
                  <a:pt x="10959" y="12134"/>
                  <a:pt x="10988" y="12179"/>
                </a:cubicBezTo>
              </a:path>
              <a:path w="2506" h="1216">
                <a:moveTo>
                  <a:pt x="12229" y="11112"/>
                </a:moveTo>
                <a:cubicBezTo>
                  <a:pt x="12141" y="11112"/>
                  <a:pt x="12173" y="11132"/>
                  <a:pt x="12154" y="11212"/>
                </a:cubicBezTo>
                <a:cubicBezTo>
                  <a:pt x="12134" y="11295"/>
                  <a:pt x="12101" y="11378"/>
                  <a:pt x="12080" y="11460"/>
                </a:cubicBezTo>
                <a:cubicBezTo>
                  <a:pt x="12053" y="11567"/>
                  <a:pt x="12000" y="11674"/>
                  <a:pt x="11981" y="11782"/>
                </a:cubicBezTo>
                <a:cubicBezTo>
                  <a:pt x="11973" y="11829"/>
                  <a:pt x="11970" y="11919"/>
                  <a:pt x="12005" y="11931"/>
                </a:cubicBezTo>
              </a:path>
              <a:path w="2506" h="1216">
                <a:moveTo>
                  <a:pt x="12080" y="11609"/>
                </a:moveTo>
                <a:cubicBezTo>
                  <a:pt x="12080" y="11601"/>
                  <a:pt x="12080" y="11592"/>
                  <a:pt x="12080" y="11584"/>
                </a:cubicBezTo>
                <a:cubicBezTo>
                  <a:pt x="12122" y="11584"/>
                  <a:pt x="12118" y="11594"/>
                  <a:pt x="12129" y="11559"/>
                </a:cubicBezTo>
                <a:cubicBezTo>
                  <a:pt x="12172" y="11559"/>
                  <a:pt x="12167" y="11569"/>
                  <a:pt x="12179" y="11534"/>
                </a:cubicBezTo>
                <a:cubicBezTo>
                  <a:pt x="12204" y="11534"/>
                  <a:pt x="12229" y="11534"/>
                  <a:pt x="12254" y="11534"/>
                </a:cubicBezTo>
              </a:path>
              <a:path w="2506" h="1216">
                <a:moveTo>
                  <a:pt x="12427" y="11311"/>
                </a:moveTo>
                <a:cubicBezTo>
                  <a:pt x="12427" y="11384"/>
                  <a:pt x="12422" y="11446"/>
                  <a:pt x="12402" y="11485"/>
                </a:cubicBezTo>
                <a:cubicBezTo>
                  <a:pt x="12386" y="11516"/>
                  <a:pt x="12391" y="11690"/>
                  <a:pt x="12427" y="11708"/>
                </a:cubicBezTo>
                <a:cubicBezTo>
                  <a:pt x="12488" y="11738"/>
                  <a:pt x="12537" y="11733"/>
                  <a:pt x="12601" y="11733"/>
                </a:cubicBezTo>
                <a:cubicBezTo>
                  <a:pt x="12626" y="11733"/>
                  <a:pt x="12650" y="11733"/>
                  <a:pt x="12675" y="11733"/>
                </a:cubicBezTo>
                <a:cubicBezTo>
                  <a:pt x="12675" y="11609"/>
                  <a:pt x="12675" y="11286"/>
                  <a:pt x="12675" y="11410"/>
                </a:cubicBezTo>
                <a:cubicBezTo>
                  <a:pt x="12675" y="11559"/>
                  <a:pt x="12675" y="11708"/>
                  <a:pt x="12675" y="11857"/>
                </a:cubicBezTo>
              </a:path>
              <a:path w="2506" h="1216">
                <a:moveTo>
                  <a:pt x="12898" y="11088"/>
                </a:moveTo>
                <a:cubicBezTo>
                  <a:pt x="12898" y="11137"/>
                  <a:pt x="12893" y="11167"/>
                  <a:pt x="12923" y="11212"/>
                </a:cubicBezTo>
                <a:cubicBezTo>
                  <a:pt x="12946" y="11247"/>
                  <a:pt x="12982" y="11296"/>
                  <a:pt x="12998" y="11336"/>
                </a:cubicBezTo>
                <a:cubicBezTo>
                  <a:pt x="13013" y="11374"/>
                  <a:pt x="13022" y="11417"/>
                  <a:pt x="13022" y="11460"/>
                </a:cubicBezTo>
                <a:cubicBezTo>
                  <a:pt x="13022" y="11557"/>
                  <a:pt x="13059" y="11781"/>
                  <a:pt x="12998" y="11857"/>
                </a:cubicBezTo>
                <a:cubicBezTo>
                  <a:pt x="12975" y="11879"/>
                  <a:pt x="12967" y="11884"/>
                  <a:pt x="12973" y="11906"/>
                </a:cubicBezTo>
                <a:cubicBezTo>
                  <a:pt x="12938" y="11918"/>
                  <a:pt x="12944" y="11960"/>
                  <a:pt x="12898" y="11981"/>
                </a:cubicBezTo>
                <a:cubicBezTo>
                  <a:pt x="12890" y="11981"/>
                  <a:pt x="12882" y="11981"/>
                  <a:pt x="12874" y="11981"/>
                </a:cubicBezTo>
                <a:cubicBezTo>
                  <a:pt x="12864" y="12010"/>
                  <a:pt x="12831" y="12023"/>
                  <a:pt x="12799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67200" y="4000680"/>
            <a:ext cx="1857600" cy="598320"/>
          </a:xfrm>
          <a:custGeom>
            <a:avLst/>
            <a:gdLst/>
            <a:ahLst/>
            <a:rect l="l" t="t" r="r" b="b"/>
            <a:pathLst>
              <a:path w="5160" h="1663">
                <a:moveTo>
                  <a:pt x="13519" y="12502"/>
                </a:moveTo>
                <a:cubicBezTo>
                  <a:pt x="13519" y="12477"/>
                  <a:pt x="13519" y="12452"/>
                  <a:pt x="13519" y="12427"/>
                </a:cubicBezTo>
                <a:cubicBezTo>
                  <a:pt x="13614" y="12427"/>
                  <a:pt x="13700" y="12412"/>
                  <a:pt x="13791" y="12402"/>
                </a:cubicBezTo>
                <a:cubicBezTo>
                  <a:pt x="13867" y="12394"/>
                  <a:pt x="13941" y="12382"/>
                  <a:pt x="14015" y="12378"/>
                </a:cubicBezTo>
                <a:cubicBezTo>
                  <a:pt x="14048" y="12376"/>
                  <a:pt x="14081" y="12378"/>
                  <a:pt x="14114" y="12378"/>
                </a:cubicBezTo>
              </a:path>
              <a:path w="5160" h="1663">
                <a:moveTo>
                  <a:pt x="14213" y="11881"/>
                </a:moveTo>
                <a:cubicBezTo>
                  <a:pt x="14345" y="11881"/>
                  <a:pt x="14478" y="11881"/>
                  <a:pt x="14610" y="11881"/>
                </a:cubicBezTo>
                <a:cubicBezTo>
                  <a:pt x="14610" y="11939"/>
                  <a:pt x="14632" y="12061"/>
                  <a:pt x="14585" y="12105"/>
                </a:cubicBezTo>
                <a:cubicBezTo>
                  <a:pt x="14535" y="12151"/>
                  <a:pt x="14417" y="12136"/>
                  <a:pt x="14412" y="12204"/>
                </a:cubicBezTo>
                <a:cubicBezTo>
                  <a:pt x="14411" y="12223"/>
                  <a:pt x="14527" y="12180"/>
                  <a:pt x="14536" y="12179"/>
                </a:cubicBezTo>
                <a:cubicBezTo>
                  <a:pt x="14602" y="12172"/>
                  <a:pt x="14653" y="12188"/>
                  <a:pt x="14684" y="12204"/>
                </a:cubicBezTo>
                <a:cubicBezTo>
                  <a:pt x="14725" y="12225"/>
                  <a:pt x="14709" y="12270"/>
                  <a:pt x="14709" y="12328"/>
                </a:cubicBezTo>
                <a:cubicBezTo>
                  <a:pt x="14709" y="12431"/>
                  <a:pt x="14706" y="12457"/>
                  <a:pt x="14660" y="12526"/>
                </a:cubicBezTo>
                <a:cubicBezTo>
                  <a:pt x="14646" y="12547"/>
                  <a:pt x="14601" y="12573"/>
                  <a:pt x="14560" y="12576"/>
                </a:cubicBezTo>
                <a:cubicBezTo>
                  <a:pt x="14495" y="12581"/>
                  <a:pt x="14427" y="12576"/>
                  <a:pt x="14362" y="12576"/>
                </a:cubicBezTo>
              </a:path>
              <a:path w="5160" h="1663">
                <a:moveTo>
                  <a:pt x="15180" y="11708"/>
                </a:moveTo>
                <a:cubicBezTo>
                  <a:pt x="15180" y="11813"/>
                  <a:pt x="15139" y="11881"/>
                  <a:pt x="15106" y="11981"/>
                </a:cubicBezTo>
                <a:cubicBezTo>
                  <a:pt x="15075" y="12073"/>
                  <a:pt x="15081" y="12157"/>
                  <a:pt x="15081" y="12254"/>
                </a:cubicBezTo>
                <a:cubicBezTo>
                  <a:pt x="15081" y="12395"/>
                  <a:pt x="15065" y="12551"/>
                  <a:pt x="15106" y="12675"/>
                </a:cubicBezTo>
                <a:cubicBezTo>
                  <a:pt x="15119" y="12713"/>
                  <a:pt x="15131" y="12696"/>
                  <a:pt x="15131" y="12750"/>
                </a:cubicBezTo>
                <a:cubicBezTo>
                  <a:pt x="15131" y="12758"/>
                  <a:pt x="15131" y="12766"/>
                  <a:pt x="15131" y="12774"/>
                </a:cubicBezTo>
              </a:path>
              <a:path w="5160" h="1663">
                <a:moveTo>
                  <a:pt x="15329" y="12080"/>
                </a:moveTo>
                <a:cubicBezTo>
                  <a:pt x="15329" y="12254"/>
                  <a:pt x="15329" y="12427"/>
                  <a:pt x="15329" y="12601"/>
                </a:cubicBezTo>
              </a:path>
              <a:path w="5160" h="1663">
                <a:moveTo>
                  <a:pt x="15652" y="12055"/>
                </a:moveTo>
                <a:cubicBezTo>
                  <a:pt x="15652" y="11992"/>
                  <a:pt x="15652" y="12109"/>
                  <a:pt x="15652" y="12129"/>
                </a:cubicBezTo>
                <a:cubicBezTo>
                  <a:pt x="15652" y="12278"/>
                  <a:pt x="15652" y="12427"/>
                  <a:pt x="15652" y="12576"/>
                </a:cubicBezTo>
                <a:cubicBezTo>
                  <a:pt x="15709" y="12576"/>
                  <a:pt x="15922" y="12606"/>
                  <a:pt x="15949" y="12551"/>
                </a:cubicBezTo>
                <a:cubicBezTo>
                  <a:pt x="15972" y="12503"/>
                  <a:pt x="15946" y="12394"/>
                  <a:pt x="15925" y="12378"/>
                </a:cubicBezTo>
                <a:cubicBezTo>
                  <a:pt x="15903" y="12361"/>
                  <a:pt x="15858" y="12334"/>
                  <a:pt x="15825" y="12353"/>
                </a:cubicBezTo>
                <a:cubicBezTo>
                  <a:pt x="15786" y="12375"/>
                  <a:pt x="15788" y="12409"/>
                  <a:pt x="15776" y="12452"/>
                </a:cubicBezTo>
                <a:cubicBezTo>
                  <a:pt x="15765" y="12493"/>
                  <a:pt x="15776" y="12558"/>
                  <a:pt x="15776" y="12601"/>
                </a:cubicBezTo>
              </a:path>
              <a:path w="5160" h="1663">
                <a:moveTo>
                  <a:pt x="15776" y="11633"/>
                </a:moveTo>
                <a:cubicBezTo>
                  <a:pt x="15776" y="11625"/>
                  <a:pt x="15776" y="11617"/>
                  <a:pt x="15776" y="11609"/>
                </a:cubicBezTo>
                <a:cubicBezTo>
                  <a:pt x="15809" y="11609"/>
                  <a:pt x="15856" y="11596"/>
                  <a:pt x="15875" y="11633"/>
                </a:cubicBezTo>
                <a:cubicBezTo>
                  <a:pt x="15894" y="11671"/>
                  <a:pt x="15914" y="11698"/>
                  <a:pt x="15949" y="11733"/>
                </a:cubicBezTo>
                <a:cubicBezTo>
                  <a:pt x="15978" y="11762"/>
                  <a:pt x="15990" y="11770"/>
                  <a:pt x="15999" y="11807"/>
                </a:cubicBezTo>
                <a:cubicBezTo>
                  <a:pt x="16088" y="11822"/>
                  <a:pt x="16022" y="11834"/>
                  <a:pt x="16073" y="11881"/>
                </a:cubicBezTo>
                <a:cubicBezTo>
                  <a:pt x="16131" y="11934"/>
                  <a:pt x="16151" y="11994"/>
                  <a:pt x="16197" y="12055"/>
                </a:cubicBezTo>
                <a:cubicBezTo>
                  <a:pt x="16241" y="12114"/>
                  <a:pt x="16272" y="12129"/>
                  <a:pt x="16272" y="12204"/>
                </a:cubicBezTo>
                <a:cubicBezTo>
                  <a:pt x="16272" y="12221"/>
                  <a:pt x="16272" y="12237"/>
                  <a:pt x="16272" y="12254"/>
                </a:cubicBezTo>
                <a:cubicBezTo>
                  <a:pt x="16304" y="12275"/>
                  <a:pt x="16297" y="12277"/>
                  <a:pt x="16297" y="12328"/>
                </a:cubicBezTo>
                <a:cubicBezTo>
                  <a:pt x="16297" y="12460"/>
                  <a:pt x="16297" y="12593"/>
                  <a:pt x="16297" y="12725"/>
                </a:cubicBezTo>
              </a:path>
              <a:path w="5160" h="1663">
                <a:moveTo>
                  <a:pt x="17363" y="11584"/>
                </a:moveTo>
                <a:cubicBezTo>
                  <a:pt x="17363" y="11705"/>
                  <a:pt x="17348" y="11875"/>
                  <a:pt x="17388" y="11956"/>
                </a:cubicBezTo>
                <a:cubicBezTo>
                  <a:pt x="17409" y="11998"/>
                  <a:pt x="17450" y="11981"/>
                  <a:pt x="17512" y="11981"/>
                </a:cubicBezTo>
                <a:cubicBezTo>
                  <a:pt x="17595" y="11981"/>
                  <a:pt x="17677" y="11981"/>
                  <a:pt x="17760" y="11981"/>
                </a:cubicBezTo>
                <a:cubicBezTo>
                  <a:pt x="17760" y="11832"/>
                  <a:pt x="17760" y="11435"/>
                  <a:pt x="17760" y="11584"/>
                </a:cubicBezTo>
                <a:cubicBezTo>
                  <a:pt x="17760" y="11840"/>
                  <a:pt x="17760" y="12097"/>
                  <a:pt x="17760" y="12353"/>
                </a:cubicBezTo>
              </a:path>
              <a:path w="5160" h="1663">
                <a:moveTo>
                  <a:pt x="18355" y="11609"/>
                </a:moveTo>
                <a:cubicBezTo>
                  <a:pt x="18355" y="11584"/>
                  <a:pt x="18355" y="11576"/>
                  <a:pt x="18355" y="11559"/>
                </a:cubicBezTo>
                <a:cubicBezTo>
                  <a:pt x="18271" y="11559"/>
                  <a:pt x="18203" y="11560"/>
                  <a:pt x="18132" y="11584"/>
                </a:cubicBezTo>
                <a:cubicBezTo>
                  <a:pt x="18103" y="11594"/>
                  <a:pt x="18091" y="11604"/>
                  <a:pt x="18058" y="11633"/>
                </a:cubicBezTo>
                <a:cubicBezTo>
                  <a:pt x="18024" y="11663"/>
                  <a:pt x="18033" y="11690"/>
                  <a:pt x="18033" y="11733"/>
                </a:cubicBezTo>
                <a:cubicBezTo>
                  <a:pt x="18033" y="11791"/>
                  <a:pt x="18022" y="11837"/>
                  <a:pt x="18058" y="11881"/>
                </a:cubicBezTo>
                <a:cubicBezTo>
                  <a:pt x="18089" y="11919"/>
                  <a:pt x="18125" y="11934"/>
                  <a:pt x="18157" y="11956"/>
                </a:cubicBezTo>
                <a:cubicBezTo>
                  <a:pt x="18172" y="11966"/>
                  <a:pt x="18251" y="11997"/>
                  <a:pt x="18256" y="12005"/>
                </a:cubicBezTo>
                <a:cubicBezTo>
                  <a:pt x="18269" y="12025"/>
                  <a:pt x="18295" y="12046"/>
                  <a:pt x="18306" y="12080"/>
                </a:cubicBezTo>
                <a:cubicBezTo>
                  <a:pt x="18327" y="12142"/>
                  <a:pt x="18321" y="12334"/>
                  <a:pt x="18281" y="12378"/>
                </a:cubicBezTo>
                <a:cubicBezTo>
                  <a:pt x="18268" y="12392"/>
                  <a:pt x="18207" y="12427"/>
                  <a:pt x="18207" y="12427"/>
                </a:cubicBezTo>
                <a:cubicBezTo>
                  <a:pt x="18160" y="12451"/>
                  <a:pt x="18037" y="12427"/>
                  <a:pt x="17983" y="12427"/>
                </a:cubicBezTo>
                <a:cubicBezTo>
                  <a:pt x="17983" y="12367"/>
                  <a:pt x="17968" y="12298"/>
                  <a:pt x="18008" y="12254"/>
                </a:cubicBezTo>
                <a:cubicBezTo>
                  <a:pt x="18026" y="12234"/>
                  <a:pt x="18077" y="12182"/>
                  <a:pt x="18083" y="12179"/>
                </a:cubicBezTo>
                <a:cubicBezTo>
                  <a:pt x="18094" y="12174"/>
                  <a:pt x="18146" y="12126"/>
                  <a:pt x="18157" y="12105"/>
                </a:cubicBezTo>
                <a:cubicBezTo>
                  <a:pt x="18170" y="12078"/>
                  <a:pt x="18194" y="12069"/>
                  <a:pt x="18207" y="12030"/>
                </a:cubicBezTo>
                <a:cubicBezTo>
                  <a:pt x="18221" y="11989"/>
                  <a:pt x="18251" y="11954"/>
                  <a:pt x="18256" y="11906"/>
                </a:cubicBezTo>
                <a:cubicBezTo>
                  <a:pt x="18261" y="11853"/>
                  <a:pt x="18276" y="11871"/>
                  <a:pt x="18281" y="11832"/>
                </a:cubicBezTo>
                <a:cubicBezTo>
                  <a:pt x="18294" y="11728"/>
                  <a:pt x="18281" y="11614"/>
                  <a:pt x="18281" y="11509"/>
                </a:cubicBezTo>
              </a:path>
              <a:path w="5160" h="1663">
                <a:moveTo>
                  <a:pt x="18281" y="11509"/>
                </a:moveTo>
                <a:lnTo>
                  <a:pt x="18281" y="11509"/>
                </a:lnTo>
              </a:path>
              <a:path w="5160" h="1663">
                <a:moveTo>
                  <a:pt x="16867" y="11782"/>
                </a:moveTo>
                <a:cubicBezTo>
                  <a:pt x="16941" y="11782"/>
                  <a:pt x="17016" y="11782"/>
                  <a:pt x="17090" y="11782"/>
                </a:cubicBezTo>
              </a:path>
              <a:path w="5160" h="1663">
                <a:moveTo>
                  <a:pt x="18033" y="11212"/>
                </a:moveTo>
                <a:cubicBezTo>
                  <a:pt x="17957" y="11212"/>
                  <a:pt x="17847" y="11191"/>
                  <a:pt x="17810" y="11187"/>
                </a:cubicBezTo>
                <a:cubicBezTo>
                  <a:pt x="17750" y="11180"/>
                  <a:pt x="17692" y="11180"/>
                  <a:pt x="17636" y="11162"/>
                </a:cubicBezTo>
                <a:cubicBezTo>
                  <a:pt x="17604" y="11151"/>
                  <a:pt x="17574" y="11147"/>
                  <a:pt x="17537" y="11137"/>
                </a:cubicBezTo>
                <a:cubicBezTo>
                  <a:pt x="17476" y="11120"/>
                  <a:pt x="17469" y="11115"/>
                  <a:pt x="17388" y="11112"/>
                </a:cubicBezTo>
                <a:cubicBezTo>
                  <a:pt x="17285" y="11108"/>
                  <a:pt x="17177" y="11128"/>
                  <a:pt x="17090" y="11137"/>
                </a:cubicBezTo>
                <a:cubicBezTo>
                  <a:pt x="17040" y="11142"/>
                  <a:pt x="17034" y="11141"/>
                  <a:pt x="16991" y="11162"/>
                </a:cubicBezTo>
                <a:cubicBezTo>
                  <a:pt x="16938" y="11188"/>
                  <a:pt x="16912" y="11225"/>
                  <a:pt x="16867" y="11261"/>
                </a:cubicBezTo>
                <a:cubicBezTo>
                  <a:pt x="16816" y="11302"/>
                  <a:pt x="16801" y="11319"/>
                  <a:pt x="16768" y="11385"/>
                </a:cubicBezTo>
                <a:cubicBezTo>
                  <a:pt x="16734" y="11453"/>
                  <a:pt x="16724" y="11553"/>
                  <a:pt x="16694" y="11609"/>
                </a:cubicBezTo>
                <a:cubicBezTo>
                  <a:pt x="16664" y="11666"/>
                  <a:pt x="16650" y="11660"/>
                  <a:pt x="16644" y="11733"/>
                </a:cubicBezTo>
                <a:cubicBezTo>
                  <a:pt x="16635" y="11853"/>
                  <a:pt x="16632" y="11995"/>
                  <a:pt x="16669" y="12105"/>
                </a:cubicBezTo>
                <a:cubicBezTo>
                  <a:pt x="16685" y="12151"/>
                  <a:pt x="16715" y="12198"/>
                  <a:pt x="16743" y="12229"/>
                </a:cubicBezTo>
                <a:cubicBezTo>
                  <a:pt x="16776" y="12266"/>
                  <a:pt x="16806" y="12277"/>
                  <a:pt x="16842" y="12303"/>
                </a:cubicBezTo>
                <a:cubicBezTo>
                  <a:pt x="16902" y="12346"/>
                  <a:pt x="16967" y="12399"/>
                  <a:pt x="17016" y="12427"/>
                </a:cubicBezTo>
                <a:cubicBezTo>
                  <a:pt x="17065" y="12455"/>
                  <a:pt x="17090" y="12457"/>
                  <a:pt x="17140" y="12502"/>
                </a:cubicBezTo>
                <a:cubicBezTo>
                  <a:pt x="17184" y="12541"/>
                  <a:pt x="17219" y="12576"/>
                  <a:pt x="17264" y="12601"/>
                </a:cubicBezTo>
                <a:cubicBezTo>
                  <a:pt x="17280" y="12610"/>
                  <a:pt x="17322" y="12643"/>
                  <a:pt x="17363" y="12650"/>
                </a:cubicBezTo>
                <a:cubicBezTo>
                  <a:pt x="17671" y="12702"/>
                  <a:pt x="18062" y="12661"/>
                  <a:pt x="18355" y="12626"/>
                </a:cubicBezTo>
                <a:cubicBezTo>
                  <a:pt x="18433" y="12617"/>
                  <a:pt x="18508" y="12620"/>
                  <a:pt x="18554" y="12601"/>
                </a:cubicBezTo>
                <a:cubicBezTo>
                  <a:pt x="18597" y="12583"/>
                  <a:pt x="18607" y="12578"/>
                  <a:pt x="18628" y="12551"/>
                </a:cubicBezTo>
                <a:cubicBezTo>
                  <a:pt x="18649" y="12524"/>
                  <a:pt x="18637" y="12523"/>
                  <a:pt x="18653" y="12477"/>
                </a:cubicBezTo>
                <a:cubicBezTo>
                  <a:pt x="18658" y="12463"/>
                  <a:pt x="18677" y="12447"/>
                  <a:pt x="18678" y="12402"/>
                </a:cubicBezTo>
                <a:cubicBezTo>
                  <a:pt x="18687" y="12116"/>
                  <a:pt x="18762" y="11618"/>
                  <a:pt x="18653" y="11361"/>
                </a:cubicBezTo>
                <a:cubicBezTo>
                  <a:pt x="18641" y="11333"/>
                  <a:pt x="18619" y="11298"/>
                  <a:pt x="18604" y="11286"/>
                </a:cubicBezTo>
                <a:cubicBezTo>
                  <a:pt x="18576" y="11264"/>
                  <a:pt x="18516" y="11233"/>
                  <a:pt x="18479" y="11212"/>
                </a:cubicBezTo>
                <a:cubicBezTo>
                  <a:pt x="18433" y="11186"/>
                  <a:pt x="18415" y="11189"/>
                  <a:pt x="18355" y="11187"/>
                </a:cubicBezTo>
                <a:cubicBezTo>
                  <a:pt x="18215" y="11182"/>
                  <a:pt x="18074" y="11187"/>
                  <a:pt x="17934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03680" y="4848120"/>
            <a:ext cx="1920600" cy="536760"/>
          </a:xfrm>
          <a:custGeom>
            <a:avLst/>
            <a:gdLst/>
            <a:ahLst/>
            <a:rect l="l" t="t" r="r" b="b"/>
            <a:pathLst>
              <a:path w="5334" h="1489">
                <a:moveTo>
                  <a:pt x="8260" y="14213"/>
                </a:moveTo>
                <a:cubicBezTo>
                  <a:pt x="8270" y="14174"/>
                  <a:pt x="8302" y="14154"/>
                  <a:pt x="8310" y="14139"/>
                </a:cubicBezTo>
                <a:cubicBezTo>
                  <a:pt x="8324" y="14112"/>
                  <a:pt x="8310" y="14076"/>
                  <a:pt x="8334" y="14064"/>
                </a:cubicBezTo>
                <a:cubicBezTo>
                  <a:pt x="8342" y="14064"/>
                  <a:pt x="8351" y="14064"/>
                  <a:pt x="8359" y="14064"/>
                </a:cubicBezTo>
                <a:cubicBezTo>
                  <a:pt x="8350" y="14066"/>
                  <a:pt x="8254" y="14097"/>
                  <a:pt x="8260" y="14114"/>
                </a:cubicBezTo>
                <a:cubicBezTo>
                  <a:pt x="8264" y="14125"/>
                  <a:pt x="8285" y="14121"/>
                  <a:pt x="8285" y="14163"/>
                </a:cubicBezTo>
              </a:path>
              <a:path w="5334" h="1489">
                <a:moveTo>
                  <a:pt x="7789" y="14585"/>
                </a:moveTo>
                <a:cubicBezTo>
                  <a:pt x="7896" y="14585"/>
                  <a:pt x="8004" y="14585"/>
                  <a:pt x="8111" y="14585"/>
                </a:cubicBezTo>
              </a:path>
              <a:path w="5334" h="1489">
                <a:moveTo>
                  <a:pt x="8607" y="14238"/>
                </a:moveTo>
                <a:cubicBezTo>
                  <a:pt x="8607" y="14171"/>
                  <a:pt x="8599" y="14123"/>
                  <a:pt x="8582" y="14089"/>
                </a:cubicBezTo>
                <a:cubicBezTo>
                  <a:pt x="8565" y="14054"/>
                  <a:pt x="8557" y="14064"/>
                  <a:pt x="8508" y="14064"/>
                </a:cubicBezTo>
                <a:cubicBezTo>
                  <a:pt x="8441" y="14064"/>
                  <a:pt x="8393" y="14072"/>
                  <a:pt x="8359" y="14089"/>
                </a:cubicBezTo>
                <a:cubicBezTo>
                  <a:pt x="8331" y="14103"/>
                  <a:pt x="8297" y="14090"/>
                  <a:pt x="8285" y="14114"/>
                </a:cubicBezTo>
                <a:cubicBezTo>
                  <a:pt x="8269" y="14147"/>
                  <a:pt x="8260" y="14139"/>
                  <a:pt x="8260" y="14188"/>
                </a:cubicBezTo>
                <a:cubicBezTo>
                  <a:pt x="8260" y="14246"/>
                  <a:pt x="8260" y="14304"/>
                  <a:pt x="8260" y="14362"/>
                </a:cubicBezTo>
                <a:cubicBezTo>
                  <a:pt x="8345" y="14362"/>
                  <a:pt x="8434" y="14362"/>
                  <a:pt x="8483" y="14337"/>
                </a:cubicBezTo>
                <a:cubicBezTo>
                  <a:pt x="8500" y="14328"/>
                  <a:pt x="8544" y="14295"/>
                  <a:pt x="8558" y="14263"/>
                </a:cubicBezTo>
                <a:cubicBezTo>
                  <a:pt x="8558" y="14238"/>
                  <a:pt x="8558" y="14230"/>
                  <a:pt x="8582" y="14238"/>
                </a:cubicBezTo>
                <a:cubicBezTo>
                  <a:pt x="8582" y="14420"/>
                  <a:pt x="8582" y="14602"/>
                  <a:pt x="8582" y="14784"/>
                </a:cubicBezTo>
              </a:path>
              <a:path w="5334" h="1489">
                <a:moveTo>
                  <a:pt x="8979" y="13965"/>
                </a:moveTo>
                <a:cubicBezTo>
                  <a:pt x="8979" y="13957"/>
                  <a:pt x="8979" y="13948"/>
                  <a:pt x="8979" y="13940"/>
                </a:cubicBezTo>
                <a:cubicBezTo>
                  <a:pt x="8930" y="13952"/>
                  <a:pt x="8919" y="13994"/>
                  <a:pt x="8905" y="14039"/>
                </a:cubicBezTo>
                <a:cubicBezTo>
                  <a:pt x="8894" y="14077"/>
                  <a:pt x="8867" y="14103"/>
                  <a:pt x="8855" y="14139"/>
                </a:cubicBezTo>
                <a:cubicBezTo>
                  <a:pt x="8843" y="14173"/>
                  <a:pt x="8844" y="14205"/>
                  <a:pt x="8830" y="14238"/>
                </a:cubicBezTo>
                <a:cubicBezTo>
                  <a:pt x="8807" y="14295"/>
                  <a:pt x="8785" y="14328"/>
                  <a:pt x="8781" y="14387"/>
                </a:cubicBezTo>
                <a:cubicBezTo>
                  <a:pt x="8770" y="14576"/>
                  <a:pt x="8781" y="14768"/>
                  <a:pt x="8781" y="14957"/>
                </a:cubicBezTo>
              </a:path>
              <a:path w="5334" h="1489">
                <a:moveTo>
                  <a:pt x="9029" y="14585"/>
                </a:moveTo>
                <a:cubicBezTo>
                  <a:pt x="9029" y="14577"/>
                  <a:pt x="9029" y="14568"/>
                  <a:pt x="9029" y="14560"/>
                </a:cubicBezTo>
                <a:cubicBezTo>
                  <a:pt x="9071" y="14560"/>
                  <a:pt x="9067" y="14570"/>
                  <a:pt x="9079" y="14536"/>
                </a:cubicBezTo>
                <a:cubicBezTo>
                  <a:pt x="9120" y="14536"/>
                  <a:pt x="9128" y="14536"/>
                  <a:pt x="9153" y="14536"/>
                </a:cubicBezTo>
              </a:path>
              <a:path w="5334" h="1489">
                <a:moveTo>
                  <a:pt x="9426" y="14312"/>
                </a:moveTo>
                <a:cubicBezTo>
                  <a:pt x="9389" y="14321"/>
                  <a:pt x="9364" y="14349"/>
                  <a:pt x="9351" y="14387"/>
                </a:cubicBezTo>
                <a:cubicBezTo>
                  <a:pt x="9339" y="14424"/>
                  <a:pt x="9327" y="14443"/>
                  <a:pt x="9327" y="14486"/>
                </a:cubicBezTo>
                <a:cubicBezTo>
                  <a:pt x="9327" y="14519"/>
                  <a:pt x="9327" y="14552"/>
                  <a:pt x="9327" y="14585"/>
                </a:cubicBezTo>
                <a:cubicBezTo>
                  <a:pt x="9401" y="14585"/>
                  <a:pt x="9476" y="14585"/>
                  <a:pt x="9550" y="14585"/>
                </a:cubicBezTo>
                <a:cubicBezTo>
                  <a:pt x="9550" y="14500"/>
                  <a:pt x="9550" y="14411"/>
                  <a:pt x="9575" y="14362"/>
                </a:cubicBezTo>
                <a:cubicBezTo>
                  <a:pt x="9575" y="14337"/>
                  <a:pt x="9575" y="14329"/>
                  <a:pt x="9575" y="14312"/>
                </a:cubicBezTo>
                <a:cubicBezTo>
                  <a:pt x="9575" y="14453"/>
                  <a:pt x="9575" y="14593"/>
                  <a:pt x="9575" y="14734"/>
                </a:cubicBezTo>
              </a:path>
              <a:path w="5334" h="1489">
                <a:moveTo>
                  <a:pt x="9575" y="13965"/>
                </a:moveTo>
                <a:cubicBezTo>
                  <a:pt x="9637" y="14007"/>
                  <a:pt x="9691" y="14032"/>
                  <a:pt x="9748" y="14089"/>
                </a:cubicBezTo>
                <a:cubicBezTo>
                  <a:pt x="9804" y="14145"/>
                  <a:pt x="9842" y="14188"/>
                  <a:pt x="9872" y="14263"/>
                </a:cubicBezTo>
                <a:cubicBezTo>
                  <a:pt x="9915" y="14373"/>
                  <a:pt x="9897" y="14494"/>
                  <a:pt x="9897" y="14610"/>
                </a:cubicBezTo>
                <a:cubicBezTo>
                  <a:pt x="9897" y="14643"/>
                  <a:pt x="9897" y="14676"/>
                  <a:pt x="9897" y="14709"/>
                </a:cubicBezTo>
              </a:path>
              <a:path w="5334" h="1489">
                <a:moveTo>
                  <a:pt x="9971" y="13841"/>
                </a:moveTo>
                <a:cubicBezTo>
                  <a:pt x="9984" y="13803"/>
                  <a:pt x="10001" y="13816"/>
                  <a:pt x="10046" y="13816"/>
                </a:cubicBezTo>
                <a:cubicBezTo>
                  <a:pt x="10054" y="13816"/>
                  <a:pt x="10063" y="13816"/>
                  <a:pt x="10071" y="13816"/>
                </a:cubicBezTo>
                <a:cubicBezTo>
                  <a:pt x="10071" y="13875"/>
                  <a:pt x="10080" y="13914"/>
                  <a:pt x="10046" y="13940"/>
                </a:cubicBezTo>
                <a:cubicBezTo>
                  <a:pt x="10008" y="13968"/>
                  <a:pt x="9995" y="13965"/>
                  <a:pt x="9947" y="13965"/>
                </a:cubicBezTo>
                <a:cubicBezTo>
                  <a:pt x="9959" y="14003"/>
                  <a:pt x="9976" y="13990"/>
                  <a:pt x="10021" y="13990"/>
                </a:cubicBezTo>
                <a:cubicBezTo>
                  <a:pt x="10095" y="13990"/>
                  <a:pt x="10170" y="13990"/>
                  <a:pt x="10244" y="13990"/>
                </a:cubicBezTo>
              </a:path>
              <a:path w="5334" h="1489">
                <a:moveTo>
                  <a:pt x="10567" y="14436"/>
                </a:moveTo>
                <a:cubicBezTo>
                  <a:pt x="10610" y="14480"/>
                  <a:pt x="10670" y="14441"/>
                  <a:pt x="10740" y="14461"/>
                </a:cubicBezTo>
                <a:cubicBezTo>
                  <a:pt x="10804" y="14479"/>
                  <a:pt x="10845" y="14486"/>
                  <a:pt x="10914" y="14486"/>
                </a:cubicBezTo>
                <a:cubicBezTo>
                  <a:pt x="10939" y="14486"/>
                  <a:pt x="10947" y="14486"/>
                  <a:pt x="10964" y="14486"/>
                </a:cubicBezTo>
              </a:path>
              <a:path w="5334" h="1489">
                <a:moveTo>
                  <a:pt x="11633" y="14461"/>
                </a:moveTo>
                <a:cubicBezTo>
                  <a:pt x="11658" y="14461"/>
                  <a:pt x="11666" y="14461"/>
                  <a:pt x="11683" y="14461"/>
                </a:cubicBezTo>
                <a:cubicBezTo>
                  <a:pt x="11696" y="14421"/>
                  <a:pt x="11731" y="14436"/>
                  <a:pt x="11782" y="14436"/>
                </a:cubicBezTo>
                <a:cubicBezTo>
                  <a:pt x="11829" y="14436"/>
                  <a:pt x="11873" y="14412"/>
                  <a:pt x="11931" y="14412"/>
                </a:cubicBezTo>
                <a:cubicBezTo>
                  <a:pt x="11987" y="14412"/>
                  <a:pt x="12000" y="14387"/>
                  <a:pt x="12055" y="14387"/>
                </a:cubicBezTo>
                <a:cubicBezTo>
                  <a:pt x="12063" y="14387"/>
                  <a:pt x="12072" y="14387"/>
                  <a:pt x="12080" y="14387"/>
                </a:cubicBezTo>
              </a:path>
              <a:path w="5334" h="1489">
                <a:moveTo>
                  <a:pt x="12080" y="13915"/>
                </a:moveTo>
                <a:cubicBezTo>
                  <a:pt x="12094" y="13873"/>
                  <a:pt x="12150" y="13891"/>
                  <a:pt x="12204" y="13891"/>
                </a:cubicBezTo>
                <a:cubicBezTo>
                  <a:pt x="12290" y="13891"/>
                  <a:pt x="12367" y="13915"/>
                  <a:pt x="12452" y="13915"/>
                </a:cubicBezTo>
                <a:cubicBezTo>
                  <a:pt x="12502" y="13915"/>
                  <a:pt x="12551" y="13915"/>
                  <a:pt x="12601" y="13915"/>
                </a:cubicBezTo>
                <a:cubicBezTo>
                  <a:pt x="12601" y="14065"/>
                  <a:pt x="12630" y="14246"/>
                  <a:pt x="12576" y="14387"/>
                </a:cubicBezTo>
                <a:cubicBezTo>
                  <a:pt x="12550" y="14455"/>
                  <a:pt x="12519" y="14522"/>
                  <a:pt x="12502" y="14585"/>
                </a:cubicBezTo>
                <a:cubicBezTo>
                  <a:pt x="12502" y="14593"/>
                  <a:pt x="12502" y="14602"/>
                  <a:pt x="12502" y="14610"/>
                </a:cubicBezTo>
              </a:path>
              <a:path w="5334" h="1489">
                <a:moveTo>
                  <a:pt x="11509" y="13940"/>
                </a:moveTo>
                <a:cubicBezTo>
                  <a:pt x="11472" y="13927"/>
                  <a:pt x="11488" y="13915"/>
                  <a:pt x="11435" y="13915"/>
                </a:cubicBezTo>
                <a:cubicBezTo>
                  <a:pt x="11408" y="13915"/>
                  <a:pt x="11322" y="14114"/>
                  <a:pt x="11311" y="14163"/>
                </a:cubicBezTo>
                <a:cubicBezTo>
                  <a:pt x="11273" y="14328"/>
                  <a:pt x="11302" y="14535"/>
                  <a:pt x="11385" y="14660"/>
                </a:cubicBezTo>
                <a:cubicBezTo>
                  <a:pt x="11437" y="14738"/>
                  <a:pt x="11479" y="14763"/>
                  <a:pt x="11559" y="14808"/>
                </a:cubicBezTo>
                <a:cubicBezTo>
                  <a:pt x="11591" y="14826"/>
                  <a:pt x="11720" y="14845"/>
                  <a:pt x="11733" y="14858"/>
                </a:cubicBezTo>
                <a:cubicBezTo>
                  <a:pt x="11733" y="14866"/>
                  <a:pt x="11733" y="14875"/>
                  <a:pt x="11733" y="14883"/>
                </a:cubicBezTo>
              </a:path>
              <a:path w="5334" h="1489">
                <a:moveTo>
                  <a:pt x="12750" y="13767"/>
                </a:moveTo>
                <a:cubicBezTo>
                  <a:pt x="12750" y="13824"/>
                  <a:pt x="12739" y="13871"/>
                  <a:pt x="12774" y="13915"/>
                </a:cubicBezTo>
                <a:cubicBezTo>
                  <a:pt x="12813" y="13964"/>
                  <a:pt x="12799" y="14026"/>
                  <a:pt x="12799" y="14089"/>
                </a:cubicBezTo>
                <a:cubicBezTo>
                  <a:pt x="12799" y="14221"/>
                  <a:pt x="12799" y="14354"/>
                  <a:pt x="12799" y="14486"/>
                </a:cubicBezTo>
              </a:path>
              <a:path w="5334" h="1489">
                <a:moveTo>
                  <a:pt x="12948" y="13469"/>
                </a:moveTo>
                <a:cubicBezTo>
                  <a:pt x="12973" y="13469"/>
                  <a:pt x="12997" y="13469"/>
                  <a:pt x="13022" y="13469"/>
                </a:cubicBezTo>
                <a:cubicBezTo>
                  <a:pt x="13022" y="13546"/>
                  <a:pt x="13019" y="13623"/>
                  <a:pt x="12998" y="13667"/>
                </a:cubicBezTo>
                <a:cubicBezTo>
                  <a:pt x="12981" y="13702"/>
                  <a:pt x="12971" y="13692"/>
                  <a:pt x="12923" y="13692"/>
                </a:cubicBezTo>
                <a:cubicBezTo>
                  <a:pt x="12869" y="13692"/>
                  <a:pt x="12869" y="13692"/>
                  <a:pt x="12923" y="13692"/>
                </a:cubicBezTo>
                <a:cubicBezTo>
                  <a:pt x="12989" y="13692"/>
                  <a:pt x="13056" y="13692"/>
                  <a:pt x="13122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91040" y="4732200"/>
            <a:ext cx="2492280" cy="733680"/>
          </a:xfrm>
          <a:custGeom>
            <a:avLst/>
            <a:gdLst/>
            <a:ahLst/>
            <a:rect l="l" t="t" r="r" b="b"/>
            <a:pathLst>
              <a:path w="6921" h="2035">
                <a:moveTo>
                  <a:pt x="15180" y="14089"/>
                </a:moveTo>
                <a:cubicBezTo>
                  <a:pt x="15180" y="14246"/>
                  <a:pt x="15180" y="14403"/>
                  <a:pt x="15180" y="14560"/>
                </a:cubicBezTo>
              </a:path>
              <a:path w="6921" h="2035">
                <a:moveTo>
                  <a:pt x="15503" y="14015"/>
                </a:moveTo>
                <a:cubicBezTo>
                  <a:pt x="15503" y="14062"/>
                  <a:pt x="15481" y="14094"/>
                  <a:pt x="15478" y="14139"/>
                </a:cubicBezTo>
                <a:cubicBezTo>
                  <a:pt x="15474" y="14200"/>
                  <a:pt x="15453" y="14191"/>
                  <a:pt x="15453" y="14263"/>
                </a:cubicBezTo>
                <a:cubicBezTo>
                  <a:pt x="15453" y="14387"/>
                  <a:pt x="15453" y="14511"/>
                  <a:pt x="15453" y="14635"/>
                </a:cubicBezTo>
                <a:cubicBezTo>
                  <a:pt x="15561" y="14635"/>
                  <a:pt x="15668" y="14635"/>
                  <a:pt x="15776" y="14635"/>
                </a:cubicBezTo>
                <a:cubicBezTo>
                  <a:pt x="15776" y="14579"/>
                  <a:pt x="15796" y="14601"/>
                  <a:pt x="15801" y="14560"/>
                </a:cubicBezTo>
                <a:cubicBezTo>
                  <a:pt x="15806" y="14525"/>
                  <a:pt x="15813" y="14455"/>
                  <a:pt x="15776" y="14436"/>
                </a:cubicBezTo>
                <a:cubicBezTo>
                  <a:pt x="15755" y="14426"/>
                  <a:pt x="15701" y="14436"/>
                  <a:pt x="15677" y="14436"/>
                </a:cubicBezTo>
                <a:cubicBezTo>
                  <a:pt x="15677" y="14469"/>
                  <a:pt x="15677" y="14503"/>
                  <a:pt x="15677" y="14536"/>
                </a:cubicBezTo>
              </a:path>
              <a:path w="6921" h="2035">
                <a:moveTo>
                  <a:pt x="15032" y="13940"/>
                </a:moveTo>
                <a:cubicBezTo>
                  <a:pt x="14970" y="13940"/>
                  <a:pt x="14986" y="13953"/>
                  <a:pt x="14957" y="13990"/>
                </a:cubicBezTo>
                <a:cubicBezTo>
                  <a:pt x="14894" y="14070"/>
                  <a:pt x="14875" y="14203"/>
                  <a:pt x="14858" y="14312"/>
                </a:cubicBezTo>
                <a:cubicBezTo>
                  <a:pt x="14845" y="14397"/>
                  <a:pt x="14833" y="14472"/>
                  <a:pt x="14833" y="14560"/>
                </a:cubicBezTo>
                <a:cubicBezTo>
                  <a:pt x="14833" y="14698"/>
                  <a:pt x="14819" y="14807"/>
                  <a:pt x="14883" y="14932"/>
                </a:cubicBezTo>
                <a:cubicBezTo>
                  <a:pt x="14924" y="15012"/>
                  <a:pt x="14985" y="15060"/>
                  <a:pt x="15032" y="15131"/>
                </a:cubicBezTo>
                <a:cubicBezTo>
                  <a:pt x="15040" y="15147"/>
                  <a:pt x="15048" y="15164"/>
                  <a:pt x="15056" y="15180"/>
                </a:cubicBezTo>
              </a:path>
              <a:path w="6921" h="2035">
                <a:moveTo>
                  <a:pt x="15900" y="13816"/>
                </a:moveTo>
                <a:cubicBezTo>
                  <a:pt x="15945" y="13889"/>
                  <a:pt x="16033" y="13907"/>
                  <a:pt x="16073" y="13965"/>
                </a:cubicBezTo>
                <a:cubicBezTo>
                  <a:pt x="16114" y="14025"/>
                  <a:pt x="16162" y="14112"/>
                  <a:pt x="16173" y="14188"/>
                </a:cubicBezTo>
                <a:cubicBezTo>
                  <a:pt x="16192" y="14314"/>
                  <a:pt x="16173" y="14457"/>
                  <a:pt x="16173" y="14585"/>
                </a:cubicBezTo>
              </a:path>
              <a:path w="6921" h="2035">
                <a:moveTo>
                  <a:pt x="13866" y="14263"/>
                </a:moveTo>
                <a:cubicBezTo>
                  <a:pt x="13982" y="14263"/>
                  <a:pt x="14097" y="14263"/>
                  <a:pt x="14213" y="14263"/>
                </a:cubicBezTo>
              </a:path>
              <a:path w="6921" h="2035">
                <a:moveTo>
                  <a:pt x="14660" y="14089"/>
                </a:moveTo>
                <a:cubicBezTo>
                  <a:pt x="14660" y="14057"/>
                  <a:pt x="14652" y="14023"/>
                  <a:pt x="14635" y="14015"/>
                </a:cubicBezTo>
                <a:cubicBezTo>
                  <a:pt x="14608" y="14002"/>
                  <a:pt x="14580" y="13993"/>
                  <a:pt x="14560" y="13990"/>
                </a:cubicBezTo>
                <a:cubicBezTo>
                  <a:pt x="14502" y="13983"/>
                  <a:pt x="14460" y="14003"/>
                  <a:pt x="14436" y="14015"/>
                </a:cubicBezTo>
                <a:cubicBezTo>
                  <a:pt x="14399" y="14034"/>
                  <a:pt x="14412" y="14060"/>
                  <a:pt x="14412" y="14114"/>
                </a:cubicBezTo>
                <a:cubicBezTo>
                  <a:pt x="14412" y="14188"/>
                  <a:pt x="14412" y="14263"/>
                  <a:pt x="14412" y="14337"/>
                </a:cubicBezTo>
                <a:cubicBezTo>
                  <a:pt x="14474" y="14337"/>
                  <a:pt x="14532" y="14348"/>
                  <a:pt x="14560" y="14312"/>
                </a:cubicBezTo>
                <a:cubicBezTo>
                  <a:pt x="14589" y="14274"/>
                  <a:pt x="14585" y="14261"/>
                  <a:pt x="14585" y="14213"/>
                </a:cubicBezTo>
                <a:cubicBezTo>
                  <a:pt x="14585" y="14197"/>
                  <a:pt x="14585" y="14075"/>
                  <a:pt x="14585" y="14139"/>
                </a:cubicBezTo>
                <a:cubicBezTo>
                  <a:pt x="14585" y="14304"/>
                  <a:pt x="14585" y="14470"/>
                  <a:pt x="14585" y="14635"/>
                </a:cubicBezTo>
              </a:path>
              <a:path w="6921" h="2035">
                <a:moveTo>
                  <a:pt x="16570" y="14188"/>
                </a:moveTo>
                <a:cubicBezTo>
                  <a:pt x="16669" y="14188"/>
                  <a:pt x="16768" y="14188"/>
                  <a:pt x="16867" y="14188"/>
                </a:cubicBezTo>
              </a:path>
              <a:path w="6921" h="2035">
                <a:moveTo>
                  <a:pt x="17115" y="14015"/>
                </a:moveTo>
                <a:cubicBezTo>
                  <a:pt x="17115" y="14147"/>
                  <a:pt x="17115" y="14280"/>
                  <a:pt x="17115" y="14412"/>
                </a:cubicBezTo>
                <a:cubicBezTo>
                  <a:pt x="17177" y="14412"/>
                  <a:pt x="17235" y="14423"/>
                  <a:pt x="17289" y="14387"/>
                </a:cubicBezTo>
                <a:cubicBezTo>
                  <a:pt x="17317" y="14368"/>
                  <a:pt x="17348" y="14322"/>
                  <a:pt x="17363" y="14312"/>
                </a:cubicBezTo>
                <a:cubicBezTo>
                  <a:pt x="17387" y="14296"/>
                  <a:pt x="17426" y="14313"/>
                  <a:pt x="17438" y="14288"/>
                </a:cubicBezTo>
                <a:cubicBezTo>
                  <a:pt x="17473" y="14219"/>
                  <a:pt x="17438" y="13910"/>
                  <a:pt x="17438" y="13915"/>
                </a:cubicBezTo>
                <a:cubicBezTo>
                  <a:pt x="17438" y="14147"/>
                  <a:pt x="17438" y="14378"/>
                  <a:pt x="17438" y="14610"/>
                </a:cubicBezTo>
              </a:path>
              <a:path w="6921" h="2035">
                <a:moveTo>
                  <a:pt x="17934" y="14015"/>
                </a:moveTo>
                <a:cubicBezTo>
                  <a:pt x="17934" y="13981"/>
                  <a:pt x="17947" y="13934"/>
                  <a:pt x="17909" y="13915"/>
                </a:cubicBezTo>
                <a:cubicBezTo>
                  <a:pt x="17883" y="13902"/>
                  <a:pt x="17866" y="13908"/>
                  <a:pt x="17835" y="13891"/>
                </a:cubicBezTo>
                <a:cubicBezTo>
                  <a:pt x="17784" y="13862"/>
                  <a:pt x="17748" y="13866"/>
                  <a:pt x="17686" y="13866"/>
                </a:cubicBezTo>
                <a:cubicBezTo>
                  <a:pt x="17639" y="13866"/>
                  <a:pt x="17622" y="13860"/>
                  <a:pt x="17587" y="13891"/>
                </a:cubicBezTo>
                <a:cubicBezTo>
                  <a:pt x="17557" y="13917"/>
                  <a:pt x="17523" y="13956"/>
                  <a:pt x="17512" y="13990"/>
                </a:cubicBezTo>
                <a:cubicBezTo>
                  <a:pt x="17491" y="14052"/>
                  <a:pt x="17497" y="14245"/>
                  <a:pt x="17537" y="14288"/>
                </a:cubicBezTo>
                <a:cubicBezTo>
                  <a:pt x="17567" y="14321"/>
                  <a:pt x="17594" y="14312"/>
                  <a:pt x="17636" y="14312"/>
                </a:cubicBezTo>
                <a:cubicBezTo>
                  <a:pt x="17694" y="14312"/>
                  <a:pt x="17752" y="14312"/>
                  <a:pt x="17810" y="14312"/>
                </a:cubicBezTo>
                <a:cubicBezTo>
                  <a:pt x="17810" y="14261"/>
                  <a:pt x="17825" y="14259"/>
                  <a:pt x="17835" y="14238"/>
                </a:cubicBezTo>
                <a:cubicBezTo>
                  <a:pt x="17854" y="14199"/>
                  <a:pt x="17866" y="14163"/>
                  <a:pt x="17884" y="14139"/>
                </a:cubicBezTo>
                <a:cubicBezTo>
                  <a:pt x="17904" y="14112"/>
                  <a:pt x="17909" y="14044"/>
                  <a:pt x="17909" y="14089"/>
                </a:cubicBezTo>
                <a:cubicBezTo>
                  <a:pt x="17909" y="14271"/>
                  <a:pt x="17909" y="14453"/>
                  <a:pt x="17909" y="14635"/>
                </a:cubicBezTo>
              </a:path>
              <a:path w="6921" h="2035">
                <a:moveTo>
                  <a:pt x="14784" y="13221"/>
                </a:moveTo>
                <a:cubicBezTo>
                  <a:pt x="14776" y="13221"/>
                  <a:pt x="14767" y="13221"/>
                  <a:pt x="14759" y="13221"/>
                </a:cubicBezTo>
                <a:cubicBezTo>
                  <a:pt x="14759" y="13362"/>
                  <a:pt x="14759" y="13502"/>
                  <a:pt x="14759" y="13643"/>
                </a:cubicBezTo>
              </a:path>
              <a:path w="6921" h="2035">
                <a:moveTo>
                  <a:pt x="14957" y="13221"/>
                </a:moveTo>
                <a:cubicBezTo>
                  <a:pt x="14957" y="13271"/>
                  <a:pt x="14957" y="13320"/>
                  <a:pt x="14957" y="13370"/>
                </a:cubicBezTo>
                <a:cubicBezTo>
                  <a:pt x="15003" y="13385"/>
                  <a:pt x="14981" y="13395"/>
                  <a:pt x="15056" y="13395"/>
                </a:cubicBezTo>
                <a:cubicBezTo>
                  <a:pt x="15122" y="13395"/>
                  <a:pt x="15189" y="13395"/>
                  <a:pt x="15255" y="13395"/>
                </a:cubicBezTo>
              </a:path>
              <a:path w="6921" h="2035">
                <a:moveTo>
                  <a:pt x="15280" y="13146"/>
                </a:moveTo>
                <a:cubicBezTo>
                  <a:pt x="15280" y="13328"/>
                  <a:pt x="15280" y="13510"/>
                  <a:pt x="15280" y="13692"/>
                </a:cubicBezTo>
              </a:path>
              <a:path w="6921" h="2035">
                <a:moveTo>
                  <a:pt x="15478" y="13221"/>
                </a:moveTo>
                <a:cubicBezTo>
                  <a:pt x="15478" y="13287"/>
                  <a:pt x="15478" y="13353"/>
                  <a:pt x="15478" y="13419"/>
                </a:cubicBezTo>
                <a:cubicBezTo>
                  <a:pt x="15561" y="13419"/>
                  <a:pt x="15652" y="13419"/>
                  <a:pt x="15701" y="13395"/>
                </a:cubicBezTo>
                <a:cubicBezTo>
                  <a:pt x="15736" y="13378"/>
                  <a:pt x="15726" y="13368"/>
                  <a:pt x="15726" y="13320"/>
                </a:cubicBezTo>
                <a:cubicBezTo>
                  <a:pt x="15726" y="13295"/>
                  <a:pt x="15726" y="13271"/>
                  <a:pt x="15726" y="13246"/>
                </a:cubicBezTo>
                <a:cubicBezTo>
                  <a:pt x="15726" y="13386"/>
                  <a:pt x="15726" y="13527"/>
                  <a:pt x="15726" y="13667"/>
                </a:cubicBezTo>
              </a:path>
              <a:path w="6921" h="2035">
                <a:moveTo>
                  <a:pt x="14436" y="13395"/>
                </a:moveTo>
                <a:cubicBezTo>
                  <a:pt x="14494" y="13395"/>
                  <a:pt x="14552" y="13395"/>
                  <a:pt x="14610" y="13395"/>
                </a:cubicBezTo>
              </a:path>
              <a:path w="6921" h="2035">
                <a:moveTo>
                  <a:pt x="16743" y="13990"/>
                </a:moveTo>
                <a:cubicBezTo>
                  <a:pt x="16743" y="14139"/>
                  <a:pt x="16743" y="14287"/>
                  <a:pt x="16743" y="14436"/>
                </a:cubicBezTo>
              </a:path>
              <a:path w="6921" h="2035">
                <a:moveTo>
                  <a:pt x="16942" y="13791"/>
                </a:moveTo>
                <a:cubicBezTo>
                  <a:pt x="17008" y="13791"/>
                  <a:pt x="17074" y="13791"/>
                  <a:pt x="17140" y="13791"/>
                </a:cubicBezTo>
              </a:path>
              <a:path w="6921" h="2035">
                <a:moveTo>
                  <a:pt x="18405" y="14163"/>
                </a:moveTo>
                <a:cubicBezTo>
                  <a:pt x="18405" y="14155"/>
                  <a:pt x="18405" y="14147"/>
                  <a:pt x="18405" y="14139"/>
                </a:cubicBezTo>
                <a:cubicBezTo>
                  <a:pt x="18451" y="14139"/>
                  <a:pt x="18463" y="14119"/>
                  <a:pt x="18504" y="14114"/>
                </a:cubicBezTo>
                <a:cubicBezTo>
                  <a:pt x="18560" y="14108"/>
                  <a:pt x="18621" y="14114"/>
                  <a:pt x="18678" y="14114"/>
                </a:cubicBezTo>
              </a:path>
              <a:path w="6921" h="2035">
                <a:moveTo>
                  <a:pt x="18430" y="14387"/>
                </a:moveTo>
                <a:cubicBezTo>
                  <a:pt x="18529" y="14387"/>
                  <a:pt x="18629" y="14387"/>
                  <a:pt x="18728" y="14387"/>
                </a:cubicBezTo>
              </a:path>
              <a:path w="6921" h="2035">
                <a:moveTo>
                  <a:pt x="19248" y="13866"/>
                </a:moveTo>
                <a:cubicBezTo>
                  <a:pt x="19248" y="14106"/>
                  <a:pt x="19248" y="14345"/>
                  <a:pt x="19248" y="14585"/>
                </a:cubicBezTo>
              </a:path>
              <a:path w="6921" h="2035">
                <a:moveTo>
                  <a:pt x="19918" y="14015"/>
                </a:moveTo>
                <a:cubicBezTo>
                  <a:pt x="19918" y="13982"/>
                  <a:pt x="19918" y="13948"/>
                  <a:pt x="19918" y="13915"/>
                </a:cubicBezTo>
                <a:cubicBezTo>
                  <a:pt x="19888" y="13915"/>
                  <a:pt x="19852" y="13907"/>
                  <a:pt x="19844" y="13891"/>
                </a:cubicBezTo>
                <a:cubicBezTo>
                  <a:pt x="19824" y="13851"/>
                  <a:pt x="19830" y="13847"/>
                  <a:pt x="19769" y="13841"/>
                </a:cubicBezTo>
                <a:cubicBezTo>
                  <a:pt x="19733" y="13838"/>
                  <a:pt x="19664" y="13828"/>
                  <a:pt x="19645" y="13866"/>
                </a:cubicBezTo>
                <a:cubicBezTo>
                  <a:pt x="19631" y="13894"/>
                  <a:pt x="19607" y="13957"/>
                  <a:pt x="19596" y="13990"/>
                </a:cubicBezTo>
                <a:cubicBezTo>
                  <a:pt x="19575" y="14055"/>
                  <a:pt x="19596" y="14168"/>
                  <a:pt x="19596" y="14238"/>
                </a:cubicBezTo>
                <a:cubicBezTo>
                  <a:pt x="19647" y="14238"/>
                  <a:pt x="19793" y="14265"/>
                  <a:pt x="19819" y="14213"/>
                </a:cubicBezTo>
                <a:cubicBezTo>
                  <a:pt x="19835" y="14181"/>
                  <a:pt x="19844" y="14188"/>
                  <a:pt x="19844" y="14139"/>
                </a:cubicBezTo>
                <a:cubicBezTo>
                  <a:pt x="19844" y="14106"/>
                  <a:pt x="19844" y="14072"/>
                  <a:pt x="19844" y="14039"/>
                </a:cubicBezTo>
                <a:cubicBezTo>
                  <a:pt x="19886" y="14053"/>
                  <a:pt x="19869" y="14088"/>
                  <a:pt x="19869" y="14139"/>
                </a:cubicBezTo>
                <a:cubicBezTo>
                  <a:pt x="19869" y="14263"/>
                  <a:pt x="19869" y="14387"/>
                  <a:pt x="19869" y="14511"/>
                </a:cubicBezTo>
              </a:path>
              <a:path w="6921" h="2035">
                <a:moveTo>
                  <a:pt x="20216" y="13990"/>
                </a:moveTo>
                <a:cubicBezTo>
                  <a:pt x="20203" y="13950"/>
                  <a:pt x="20204" y="13980"/>
                  <a:pt x="20191" y="13940"/>
                </a:cubicBezTo>
                <a:cubicBezTo>
                  <a:pt x="20199" y="13917"/>
                  <a:pt x="20242" y="13894"/>
                  <a:pt x="20265" y="13891"/>
                </a:cubicBezTo>
                <a:cubicBezTo>
                  <a:pt x="20313" y="13885"/>
                  <a:pt x="20366" y="13891"/>
                  <a:pt x="20414" y="13891"/>
                </a:cubicBezTo>
                <a:cubicBezTo>
                  <a:pt x="20414" y="13960"/>
                  <a:pt x="20430" y="14058"/>
                  <a:pt x="20389" y="14089"/>
                </a:cubicBezTo>
                <a:cubicBezTo>
                  <a:pt x="20349" y="14120"/>
                  <a:pt x="20327" y="14093"/>
                  <a:pt x="20290" y="14114"/>
                </a:cubicBezTo>
                <a:cubicBezTo>
                  <a:pt x="20251" y="14136"/>
                  <a:pt x="20262" y="14139"/>
                  <a:pt x="20216" y="14139"/>
                </a:cubicBezTo>
                <a:cubicBezTo>
                  <a:pt x="20229" y="14175"/>
                  <a:pt x="20246" y="14163"/>
                  <a:pt x="20290" y="14163"/>
                </a:cubicBezTo>
                <a:cubicBezTo>
                  <a:pt x="20354" y="14163"/>
                  <a:pt x="20333" y="14191"/>
                  <a:pt x="20365" y="14213"/>
                </a:cubicBezTo>
                <a:cubicBezTo>
                  <a:pt x="20389" y="14229"/>
                  <a:pt x="20409" y="14243"/>
                  <a:pt x="20414" y="14288"/>
                </a:cubicBezTo>
                <a:cubicBezTo>
                  <a:pt x="20422" y="14359"/>
                  <a:pt x="20429" y="14506"/>
                  <a:pt x="20389" y="14536"/>
                </a:cubicBezTo>
                <a:cubicBezTo>
                  <a:pt x="20355" y="14561"/>
                  <a:pt x="20317" y="14582"/>
                  <a:pt x="20290" y="14585"/>
                </a:cubicBezTo>
                <a:cubicBezTo>
                  <a:pt x="20210" y="14595"/>
                  <a:pt x="20123" y="14585"/>
                  <a:pt x="20042" y="14585"/>
                </a:cubicBezTo>
              </a:path>
              <a:path w="6921" h="2035">
                <a:moveTo>
                  <a:pt x="18728" y="13965"/>
                </a:moveTo>
                <a:cubicBezTo>
                  <a:pt x="18728" y="13957"/>
                  <a:pt x="18728" y="13948"/>
                  <a:pt x="18728" y="13940"/>
                </a:cubicBezTo>
                <a:cubicBezTo>
                  <a:pt x="18819" y="13940"/>
                  <a:pt x="18909" y="13940"/>
                  <a:pt x="19000" y="13940"/>
                </a:cubicBezTo>
              </a:path>
              <a:path w="6921" h="2035">
                <a:moveTo>
                  <a:pt x="18678" y="13643"/>
                </a:moveTo>
                <a:cubicBezTo>
                  <a:pt x="18678" y="13908"/>
                  <a:pt x="18676" y="14187"/>
                  <a:pt x="18703" y="14436"/>
                </a:cubicBezTo>
                <a:cubicBezTo>
                  <a:pt x="18710" y="14497"/>
                  <a:pt x="18741" y="14536"/>
                  <a:pt x="18752" y="14585"/>
                </a:cubicBezTo>
                <a:cubicBezTo>
                  <a:pt x="18764" y="14640"/>
                  <a:pt x="18759" y="14684"/>
                  <a:pt x="18777" y="14734"/>
                </a:cubicBezTo>
                <a:cubicBezTo>
                  <a:pt x="18781" y="14744"/>
                  <a:pt x="18820" y="14809"/>
                  <a:pt x="18852" y="14833"/>
                </a:cubicBezTo>
                <a:cubicBezTo>
                  <a:pt x="18892" y="14864"/>
                  <a:pt x="18950" y="14883"/>
                  <a:pt x="19000" y="14908"/>
                </a:cubicBezTo>
                <a:cubicBezTo>
                  <a:pt x="19040" y="14928"/>
                  <a:pt x="19058" y="14919"/>
                  <a:pt x="19100" y="14932"/>
                </a:cubicBezTo>
                <a:cubicBezTo>
                  <a:pt x="19178" y="14957"/>
                  <a:pt x="19154" y="14972"/>
                  <a:pt x="19224" y="14982"/>
                </a:cubicBezTo>
                <a:cubicBezTo>
                  <a:pt x="19468" y="15016"/>
                  <a:pt x="19862" y="15021"/>
                  <a:pt x="20092" y="14957"/>
                </a:cubicBezTo>
                <a:cubicBezTo>
                  <a:pt x="20139" y="14944"/>
                  <a:pt x="20192" y="14938"/>
                  <a:pt x="20241" y="14932"/>
                </a:cubicBezTo>
                <a:cubicBezTo>
                  <a:pt x="20277" y="14927"/>
                  <a:pt x="20362" y="14908"/>
                  <a:pt x="20365" y="14908"/>
                </a:cubicBezTo>
                <a:cubicBezTo>
                  <a:pt x="20445" y="14898"/>
                  <a:pt x="20424" y="14896"/>
                  <a:pt x="20489" y="14858"/>
                </a:cubicBezTo>
                <a:cubicBezTo>
                  <a:pt x="20531" y="14833"/>
                  <a:pt x="20565" y="14835"/>
                  <a:pt x="20613" y="14784"/>
                </a:cubicBezTo>
                <a:cubicBezTo>
                  <a:pt x="20646" y="14750"/>
                  <a:pt x="20658" y="14745"/>
                  <a:pt x="20687" y="14709"/>
                </a:cubicBezTo>
                <a:cubicBezTo>
                  <a:pt x="20702" y="14691"/>
                  <a:pt x="20725" y="14635"/>
                  <a:pt x="20737" y="14610"/>
                </a:cubicBezTo>
                <a:cubicBezTo>
                  <a:pt x="20747" y="14590"/>
                  <a:pt x="20782" y="14532"/>
                  <a:pt x="20786" y="14511"/>
                </a:cubicBezTo>
                <a:cubicBezTo>
                  <a:pt x="20806" y="14392"/>
                  <a:pt x="20805" y="14192"/>
                  <a:pt x="20762" y="14089"/>
                </a:cubicBezTo>
                <a:cubicBezTo>
                  <a:pt x="20748" y="14055"/>
                  <a:pt x="20736" y="14057"/>
                  <a:pt x="20712" y="14015"/>
                </a:cubicBezTo>
                <a:cubicBezTo>
                  <a:pt x="20704" y="14001"/>
                  <a:pt x="20676" y="13959"/>
                  <a:pt x="20662" y="13940"/>
                </a:cubicBezTo>
                <a:cubicBezTo>
                  <a:pt x="20641" y="13911"/>
                  <a:pt x="20597" y="13879"/>
                  <a:pt x="20588" y="13866"/>
                </a:cubicBezTo>
                <a:cubicBezTo>
                  <a:pt x="20571" y="13840"/>
                  <a:pt x="20554" y="13836"/>
                  <a:pt x="20538" y="13816"/>
                </a:cubicBezTo>
                <a:cubicBezTo>
                  <a:pt x="20508" y="13779"/>
                  <a:pt x="20546" y="13776"/>
                  <a:pt x="20489" y="13742"/>
                </a:cubicBezTo>
                <a:cubicBezTo>
                  <a:pt x="20463" y="13727"/>
                  <a:pt x="20426" y="13708"/>
                  <a:pt x="20414" y="13692"/>
                </a:cubicBezTo>
                <a:cubicBezTo>
                  <a:pt x="20392" y="13664"/>
                  <a:pt x="20381" y="13631"/>
                  <a:pt x="20365" y="13618"/>
                </a:cubicBezTo>
                <a:cubicBezTo>
                  <a:pt x="20347" y="13603"/>
                  <a:pt x="20303" y="13554"/>
                  <a:pt x="20290" y="13543"/>
                </a:cubicBezTo>
                <a:cubicBezTo>
                  <a:pt x="20280" y="13535"/>
                  <a:pt x="20239" y="13499"/>
                  <a:pt x="20216" y="13494"/>
                </a:cubicBezTo>
                <a:cubicBezTo>
                  <a:pt x="20173" y="13484"/>
                  <a:pt x="20131" y="13474"/>
                  <a:pt x="20092" y="13469"/>
                </a:cubicBezTo>
                <a:cubicBezTo>
                  <a:pt x="19814" y="13434"/>
                  <a:pt x="19253" y="13392"/>
                  <a:pt x="19000" y="13494"/>
                </a:cubicBezTo>
                <a:cubicBezTo>
                  <a:pt x="18958" y="13511"/>
                  <a:pt x="18951" y="13515"/>
                  <a:pt x="18901" y="13519"/>
                </a:cubicBezTo>
                <a:cubicBezTo>
                  <a:pt x="18836" y="13524"/>
                  <a:pt x="18752" y="13498"/>
                  <a:pt x="18703" y="13543"/>
                </a:cubicBezTo>
                <a:cubicBezTo>
                  <a:pt x="18675" y="13569"/>
                  <a:pt x="18682" y="13564"/>
                  <a:pt x="18678" y="13618"/>
                </a:cubicBezTo>
                <a:cubicBezTo>
                  <a:pt x="18676" y="13642"/>
                  <a:pt x="18678" y="13668"/>
                  <a:pt x="18678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90880" y="5653080"/>
            <a:ext cx="2197080" cy="544680"/>
          </a:xfrm>
          <a:custGeom>
            <a:avLst/>
            <a:gdLst/>
            <a:ahLst/>
            <a:rect l="l" t="t" r="r" b="b"/>
            <a:pathLst>
              <a:path w="6103" h="1514">
                <a:moveTo>
                  <a:pt x="8409" y="15999"/>
                </a:moveTo>
                <a:cubicBezTo>
                  <a:pt x="8418" y="15996"/>
                  <a:pt x="8477" y="15958"/>
                  <a:pt x="8483" y="15949"/>
                </a:cubicBezTo>
                <a:cubicBezTo>
                  <a:pt x="8504" y="15919"/>
                  <a:pt x="8508" y="15925"/>
                  <a:pt x="8558" y="15925"/>
                </a:cubicBezTo>
                <a:cubicBezTo>
                  <a:pt x="8607" y="15925"/>
                  <a:pt x="8657" y="15925"/>
                  <a:pt x="8706" y="15925"/>
                </a:cubicBezTo>
                <a:cubicBezTo>
                  <a:pt x="8706" y="15990"/>
                  <a:pt x="8742" y="16267"/>
                  <a:pt x="8682" y="16297"/>
                </a:cubicBezTo>
                <a:cubicBezTo>
                  <a:pt x="8658" y="16309"/>
                  <a:pt x="8625" y="16319"/>
                  <a:pt x="8607" y="16321"/>
                </a:cubicBezTo>
                <a:cubicBezTo>
                  <a:pt x="8583" y="16324"/>
                  <a:pt x="8557" y="16321"/>
                  <a:pt x="8533" y="16321"/>
                </a:cubicBezTo>
                <a:cubicBezTo>
                  <a:pt x="8608" y="16321"/>
                  <a:pt x="8747" y="16301"/>
                  <a:pt x="8781" y="16346"/>
                </a:cubicBezTo>
                <a:cubicBezTo>
                  <a:pt x="8806" y="16380"/>
                  <a:pt x="8845" y="16398"/>
                  <a:pt x="8855" y="16421"/>
                </a:cubicBezTo>
                <a:cubicBezTo>
                  <a:pt x="8869" y="16453"/>
                  <a:pt x="8867" y="16600"/>
                  <a:pt x="8830" y="16619"/>
                </a:cubicBezTo>
                <a:cubicBezTo>
                  <a:pt x="8822" y="16623"/>
                  <a:pt x="8761" y="16661"/>
                  <a:pt x="8756" y="16669"/>
                </a:cubicBezTo>
                <a:cubicBezTo>
                  <a:pt x="8735" y="16700"/>
                  <a:pt x="8733" y="16694"/>
                  <a:pt x="8682" y="16694"/>
                </a:cubicBezTo>
                <a:cubicBezTo>
                  <a:pt x="8624" y="16694"/>
                  <a:pt x="8363" y="16728"/>
                  <a:pt x="8334" y="16669"/>
                </a:cubicBezTo>
                <a:cubicBezTo>
                  <a:pt x="8323" y="16647"/>
                  <a:pt x="8316" y="16619"/>
                  <a:pt x="8310" y="16594"/>
                </a:cubicBezTo>
              </a:path>
              <a:path w="6103" h="1514">
                <a:moveTo>
                  <a:pt x="9103" y="15726"/>
                </a:moveTo>
                <a:cubicBezTo>
                  <a:pt x="9103" y="15792"/>
                  <a:pt x="9108" y="15845"/>
                  <a:pt x="9079" y="15900"/>
                </a:cubicBezTo>
                <a:cubicBezTo>
                  <a:pt x="9057" y="15941"/>
                  <a:pt x="9017" y="15984"/>
                  <a:pt x="9004" y="16024"/>
                </a:cubicBezTo>
                <a:cubicBezTo>
                  <a:pt x="8992" y="16061"/>
                  <a:pt x="8979" y="16079"/>
                  <a:pt x="8979" y="16123"/>
                </a:cubicBezTo>
                <a:cubicBezTo>
                  <a:pt x="8979" y="16168"/>
                  <a:pt x="8954" y="16200"/>
                  <a:pt x="8954" y="16247"/>
                </a:cubicBezTo>
                <a:cubicBezTo>
                  <a:pt x="8954" y="16353"/>
                  <a:pt x="8929" y="16508"/>
                  <a:pt x="8979" y="16594"/>
                </a:cubicBezTo>
                <a:cubicBezTo>
                  <a:pt x="9014" y="16655"/>
                  <a:pt x="9045" y="16704"/>
                  <a:pt x="9054" y="16768"/>
                </a:cubicBezTo>
                <a:cubicBezTo>
                  <a:pt x="9103" y="16780"/>
                  <a:pt x="9103" y="16792"/>
                  <a:pt x="9103" y="16842"/>
                </a:cubicBezTo>
                <a:cubicBezTo>
                  <a:pt x="9103" y="16850"/>
                  <a:pt x="9103" y="16859"/>
                  <a:pt x="9103" y="16867"/>
                </a:cubicBezTo>
                <a:cubicBezTo>
                  <a:pt x="9135" y="16878"/>
                  <a:pt x="9143" y="16901"/>
                  <a:pt x="9153" y="16942"/>
                </a:cubicBezTo>
                <a:cubicBezTo>
                  <a:pt x="9178" y="16942"/>
                  <a:pt x="9186" y="16942"/>
                  <a:pt x="9203" y="16942"/>
                </a:cubicBezTo>
              </a:path>
              <a:path w="6103" h="1514">
                <a:moveTo>
                  <a:pt x="9227" y="16321"/>
                </a:moveTo>
                <a:cubicBezTo>
                  <a:pt x="9302" y="16321"/>
                  <a:pt x="9376" y="16321"/>
                  <a:pt x="9451" y="16321"/>
                </a:cubicBezTo>
              </a:path>
              <a:path w="6103" h="1514">
                <a:moveTo>
                  <a:pt x="9872" y="16098"/>
                </a:moveTo>
                <a:cubicBezTo>
                  <a:pt x="9880" y="16098"/>
                  <a:pt x="9889" y="16098"/>
                  <a:pt x="9897" y="16098"/>
                </a:cubicBezTo>
                <a:cubicBezTo>
                  <a:pt x="9882" y="16038"/>
                  <a:pt x="9858" y="16049"/>
                  <a:pt x="9798" y="16049"/>
                </a:cubicBezTo>
                <a:cubicBezTo>
                  <a:pt x="9741" y="16049"/>
                  <a:pt x="9619" y="16029"/>
                  <a:pt x="9599" y="16073"/>
                </a:cubicBezTo>
                <a:cubicBezTo>
                  <a:pt x="9574" y="16130"/>
                  <a:pt x="9575" y="16160"/>
                  <a:pt x="9575" y="16222"/>
                </a:cubicBezTo>
                <a:cubicBezTo>
                  <a:pt x="9575" y="16255"/>
                  <a:pt x="9575" y="16288"/>
                  <a:pt x="9575" y="16321"/>
                </a:cubicBezTo>
                <a:cubicBezTo>
                  <a:pt x="9624" y="16321"/>
                  <a:pt x="9820" y="16351"/>
                  <a:pt x="9847" y="16297"/>
                </a:cubicBezTo>
                <a:cubicBezTo>
                  <a:pt x="9865" y="16260"/>
                  <a:pt x="9847" y="16165"/>
                  <a:pt x="9847" y="16123"/>
                </a:cubicBezTo>
                <a:cubicBezTo>
                  <a:pt x="9885" y="16136"/>
                  <a:pt x="9872" y="16152"/>
                  <a:pt x="9872" y="16197"/>
                </a:cubicBezTo>
                <a:cubicBezTo>
                  <a:pt x="9872" y="16371"/>
                  <a:pt x="9872" y="16544"/>
                  <a:pt x="9872" y="16718"/>
                </a:cubicBezTo>
              </a:path>
              <a:path w="6103" h="1514">
                <a:moveTo>
                  <a:pt x="9922" y="15701"/>
                </a:moveTo>
                <a:cubicBezTo>
                  <a:pt x="9959" y="15713"/>
                  <a:pt x="9953" y="15721"/>
                  <a:pt x="9971" y="15751"/>
                </a:cubicBezTo>
                <a:cubicBezTo>
                  <a:pt x="10018" y="15827"/>
                  <a:pt x="10073" y="15862"/>
                  <a:pt x="10096" y="15949"/>
                </a:cubicBezTo>
                <a:cubicBezTo>
                  <a:pt x="10106" y="15987"/>
                  <a:pt x="10120" y="16005"/>
                  <a:pt x="10120" y="16049"/>
                </a:cubicBezTo>
                <a:cubicBezTo>
                  <a:pt x="10120" y="16242"/>
                  <a:pt x="10136" y="16492"/>
                  <a:pt x="10096" y="16644"/>
                </a:cubicBezTo>
                <a:cubicBezTo>
                  <a:pt x="10084" y="16692"/>
                  <a:pt x="10098" y="16728"/>
                  <a:pt x="10071" y="16768"/>
                </a:cubicBezTo>
                <a:cubicBezTo>
                  <a:pt x="10047" y="16804"/>
                  <a:pt x="10025" y="16838"/>
                  <a:pt x="10021" y="16867"/>
                </a:cubicBezTo>
                <a:cubicBezTo>
                  <a:pt x="10018" y="16887"/>
                  <a:pt x="10006" y="16947"/>
                  <a:pt x="9996" y="16966"/>
                </a:cubicBezTo>
                <a:cubicBezTo>
                  <a:pt x="9973" y="16989"/>
                  <a:pt x="9965" y="16993"/>
                  <a:pt x="9971" y="17016"/>
                </a:cubicBezTo>
              </a:path>
              <a:path w="6103" h="1514">
                <a:moveTo>
                  <a:pt x="10294" y="15801"/>
                </a:moveTo>
                <a:cubicBezTo>
                  <a:pt x="10294" y="15793"/>
                  <a:pt x="10294" y="15784"/>
                  <a:pt x="10294" y="15776"/>
                </a:cubicBezTo>
                <a:cubicBezTo>
                  <a:pt x="10285" y="15820"/>
                  <a:pt x="10269" y="15853"/>
                  <a:pt x="10269" y="15900"/>
                </a:cubicBezTo>
                <a:cubicBezTo>
                  <a:pt x="10269" y="16126"/>
                  <a:pt x="10240" y="16379"/>
                  <a:pt x="10294" y="16594"/>
                </a:cubicBezTo>
                <a:cubicBezTo>
                  <a:pt x="10294" y="16602"/>
                  <a:pt x="10294" y="16611"/>
                  <a:pt x="10294" y="16619"/>
                </a:cubicBezTo>
                <a:cubicBezTo>
                  <a:pt x="10329" y="16631"/>
                  <a:pt x="10319" y="16626"/>
                  <a:pt x="10319" y="16669"/>
                </a:cubicBezTo>
                <a:cubicBezTo>
                  <a:pt x="10344" y="16669"/>
                  <a:pt x="10352" y="16669"/>
                  <a:pt x="10368" y="16669"/>
                </a:cubicBezTo>
              </a:path>
              <a:path w="6103" h="1514">
                <a:moveTo>
                  <a:pt x="10418" y="16197"/>
                </a:moveTo>
                <a:cubicBezTo>
                  <a:pt x="10476" y="16197"/>
                  <a:pt x="10534" y="16197"/>
                  <a:pt x="10592" y="16197"/>
                </a:cubicBezTo>
              </a:path>
              <a:path w="6103" h="1514">
                <a:moveTo>
                  <a:pt x="10666" y="16024"/>
                </a:moveTo>
                <a:cubicBezTo>
                  <a:pt x="10790" y="16024"/>
                  <a:pt x="10914" y="16024"/>
                  <a:pt x="11038" y="16024"/>
                </a:cubicBezTo>
                <a:cubicBezTo>
                  <a:pt x="11038" y="16121"/>
                  <a:pt x="11034" y="16157"/>
                  <a:pt x="10988" y="16247"/>
                </a:cubicBezTo>
                <a:cubicBezTo>
                  <a:pt x="10961" y="16300"/>
                  <a:pt x="10928" y="16388"/>
                  <a:pt x="10914" y="16446"/>
                </a:cubicBezTo>
                <a:cubicBezTo>
                  <a:pt x="10895" y="16524"/>
                  <a:pt x="10907" y="16467"/>
                  <a:pt x="10889" y="16520"/>
                </a:cubicBezTo>
              </a:path>
              <a:path w="6103" h="1514">
                <a:moveTo>
                  <a:pt x="11112" y="15776"/>
                </a:moveTo>
                <a:cubicBezTo>
                  <a:pt x="11205" y="15813"/>
                  <a:pt x="11185" y="15850"/>
                  <a:pt x="11237" y="15925"/>
                </a:cubicBezTo>
                <a:cubicBezTo>
                  <a:pt x="11292" y="16004"/>
                  <a:pt x="11323" y="16057"/>
                  <a:pt x="11361" y="16148"/>
                </a:cubicBezTo>
                <a:cubicBezTo>
                  <a:pt x="11390" y="16216"/>
                  <a:pt x="11385" y="16272"/>
                  <a:pt x="11385" y="16346"/>
                </a:cubicBezTo>
                <a:cubicBezTo>
                  <a:pt x="11385" y="16464"/>
                  <a:pt x="11423" y="16666"/>
                  <a:pt x="11361" y="16768"/>
                </a:cubicBezTo>
                <a:cubicBezTo>
                  <a:pt x="11336" y="16809"/>
                  <a:pt x="11316" y="16858"/>
                  <a:pt x="11286" y="16892"/>
                </a:cubicBezTo>
                <a:cubicBezTo>
                  <a:pt x="11254" y="16928"/>
                  <a:pt x="11272" y="16930"/>
                  <a:pt x="11237" y="16942"/>
                </a:cubicBezTo>
              </a:path>
              <a:path w="6103" h="1514">
                <a:moveTo>
                  <a:pt x="11658" y="16520"/>
                </a:moveTo>
                <a:cubicBezTo>
                  <a:pt x="11790" y="16520"/>
                  <a:pt x="11923" y="16520"/>
                  <a:pt x="12055" y="16520"/>
                </a:cubicBezTo>
              </a:path>
              <a:path w="6103" h="1514">
                <a:moveTo>
                  <a:pt x="12526" y="15875"/>
                </a:moveTo>
                <a:cubicBezTo>
                  <a:pt x="12448" y="15875"/>
                  <a:pt x="12452" y="15928"/>
                  <a:pt x="12427" y="15999"/>
                </a:cubicBezTo>
                <a:cubicBezTo>
                  <a:pt x="12404" y="16065"/>
                  <a:pt x="12368" y="16161"/>
                  <a:pt x="12353" y="16222"/>
                </a:cubicBezTo>
                <a:cubicBezTo>
                  <a:pt x="12341" y="16269"/>
                  <a:pt x="12334" y="16351"/>
                  <a:pt x="12328" y="16396"/>
                </a:cubicBezTo>
                <a:cubicBezTo>
                  <a:pt x="12312" y="16514"/>
                  <a:pt x="12282" y="16787"/>
                  <a:pt x="12353" y="16892"/>
                </a:cubicBezTo>
                <a:cubicBezTo>
                  <a:pt x="12388" y="16944"/>
                  <a:pt x="12378" y="16958"/>
                  <a:pt x="12427" y="16991"/>
                </a:cubicBezTo>
                <a:cubicBezTo>
                  <a:pt x="12450" y="17014"/>
                  <a:pt x="12454" y="17022"/>
                  <a:pt x="12477" y="17016"/>
                </a:cubicBezTo>
              </a:path>
              <a:path w="6103" h="1514">
                <a:moveTo>
                  <a:pt x="12576" y="16371"/>
                </a:moveTo>
                <a:cubicBezTo>
                  <a:pt x="12660" y="16371"/>
                  <a:pt x="12722" y="16359"/>
                  <a:pt x="12799" y="16346"/>
                </a:cubicBezTo>
                <a:cubicBezTo>
                  <a:pt x="12816" y="16346"/>
                  <a:pt x="12832" y="16346"/>
                  <a:pt x="12849" y="16346"/>
                </a:cubicBezTo>
              </a:path>
              <a:path w="6103" h="1514">
                <a:moveTo>
                  <a:pt x="12874" y="16148"/>
                </a:moveTo>
                <a:cubicBezTo>
                  <a:pt x="12888" y="16103"/>
                  <a:pt x="12945" y="16123"/>
                  <a:pt x="12998" y="16123"/>
                </a:cubicBezTo>
                <a:cubicBezTo>
                  <a:pt x="13056" y="16123"/>
                  <a:pt x="13113" y="16123"/>
                  <a:pt x="13171" y="16123"/>
                </a:cubicBezTo>
                <a:cubicBezTo>
                  <a:pt x="13171" y="16243"/>
                  <a:pt x="13195" y="16395"/>
                  <a:pt x="13146" y="16495"/>
                </a:cubicBezTo>
                <a:cubicBezTo>
                  <a:pt x="13119" y="16550"/>
                  <a:pt x="13094" y="16615"/>
                  <a:pt x="13072" y="16669"/>
                </a:cubicBezTo>
                <a:cubicBezTo>
                  <a:pt x="13056" y="16710"/>
                  <a:pt x="13078" y="16702"/>
                  <a:pt x="13047" y="16743"/>
                </a:cubicBezTo>
              </a:path>
              <a:path w="6103" h="1514">
                <a:moveTo>
                  <a:pt x="13072" y="15850"/>
                </a:moveTo>
                <a:cubicBezTo>
                  <a:pt x="13118" y="15850"/>
                  <a:pt x="13143" y="15857"/>
                  <a:pt x="13171" y="15900"/>
                </a:cubicBezTo>
                <a:cubicBezTo>
                  <a:pt x="13204" y="15951"/>
                  <a:pt x="13249" y="16017"/>
                  <a:pt x="13271" y="16073"/>
                </a:cubicBezTo>
                <a:cubicBezTo>
                  <a:pt x="13317" y="16187"/>
                  <a:pt x="13295" y="16326"/>
                  <a:pt x="13295" y="16446"/>
                </a:cubicBezTo>
                <a:cubicBezTo>
                  <a:pt x="13295" y="16563"/>
                  <a:pt x="13345" y="16831"/>
                  <a:pt x="13271" y="16942"/>
                </a:cubicBezTo>
                <a:cubicBezTo>
                  <a:pt x="13252" y="16970"/>
                  <a:pt x="13204" y="17027"/>
                  <a:pt x="13196" y="17041"/>
                </a:cubicBezTo>
                <a:cubicBezTo>
                  <a:pt x="13180" y="17069"/>
                  <a:pt x="13149" y="17157"/>
                  <a:pt x="13146" y="17165"/>
                </a:cubicBezTo>
                <a:cubicBezTo>
                  <a:pt x="13128" y="17207"/>
                  <a:pt x="13169" y="17198"/>
                  <a:pt x="13122" y="17214"/>
                </a:cubicBezTo>
              </a:path>
              <a:path w="6103" h="1514">
                <a:moveTo>
                  <a:pt x="13543" y="15949"/>
                </a:moveTo>
                <a:cubicBezTo>
                  <a:pt x="13543" y="15925"/>
                  <a:pt x="13543" y="15916"/>
                  <a:pt x="13543" y="15900"/>
                </a:cubicBezTo>
                <a:cubicBezTo>
                  <a:pt x="13515" y="15929"/>
                  <a:pt x="13481" y="15964"/>
                  <a:pt x="13469" y="15999"/>
                </a:cubicBezTo>
                <a:cubicBezTo>
                  <a:pt x="13463" y="16018"/>
                  <a:pt x="13469" y="16053"/>
                  <a:pt x="13469" y="16073"/>
                </a:cubicBezTo>
                <a:cubicBezTo>
                  <a:pt x="13427" y="16087"/>
                  <a:pt x="13444" y="16122"/>
                  <a:pt x="13444" y="16173"/>
                </a:cubicBezTo>
                <a:cubicBezTo>
                  <a:pt x="13444" y="16404"/>
                  <a:pt x="13444" y="16636"/>
                  <a:pt x="13444" y="16867"/>
                </a:cubicBezTo>
                <a:cubicBezTo>
                  <a:pt x="13469" y="16867"/>
                  <a:pt x="13477" y="16867"/>
                  <a:pt x="13469" y="16892"/>
                </a:cubicBezTo>
              </a:path>
              <a:path w="6103" h="1514">
                <a:moveTo>
                  <a:pt x="13667" y="16396"/>
                </a:moveTo>
                <a:cubicBezTo>
                  <a:pt x="13705" y="16367"/>
                  <a:pt x="13718" y="16371"/>
                  <a:pt x="13767" y="16371"/>
                </a:cubicBezTo>
                <a:cubicBezTo>
                  <a:pt x="13775" y="16371"/>
                  <a:pt x="13783" y="16371"/>
                  <a:pt x="13791" y="16371"/>
                </a:cubicBezTo>
              </a:path>
              <a:path w="6103" h="1514">
                <a:moveTo>
                  <a:pt x="13940" y="16148"/>
                </a:moveTo>
                <a:cubicBezTo>
                  <a:pt x="13940" y="16201"/>
                  <a:pt x="13907" y="16477"/>
                  <a:pt x="13965" y="16495"/>
                </a:cubicBezTo>
                <a:cubicBezTo>
                  <a:pt x="14045" y="16520"/>
                  <a:pt x="14177" y="16495"/>
                  <a:pt x="14263" y="16495"/>
                </a:cubicBezTo>
                <a:cubicBezTo>
                  <a:pt x="14263" y="16418"/>
                  <a:pt x="14260" y="16361"/>
                  <a:pt x="14238" y="16297"/>
                </a:cubicBezTo>
                <a:cubicBezTo>
                  <a:pt x="14219" y="16240"/>
                  <a:pt x="14238" y="16418"/>
                  <a:pt x="14238" y="16446"/>
                </a:cubicBezTo>
                <a:cubicBezTo>
                  <a:pt x="14238" y="16532"/>
                  <a:pt x="14216" y="16871"/>
                  <a:pt x="14263" y="16793"/>
                </a:cubicBezTo>
              </a:path>
              <a:path w="6103" h="1514">
                <a:moveTo>
                  <a:pt x="14312" y="15900"/>
                </a:moveTo>
                <a:cubicBezTo>
                  <a:pt x="14312" y="15953"/>
                  <a:pt x="14336" y="15966"/>
                  <a:pt x="14362" y="15999"/>
                </a:cubicBezTo>
                <a:cubicBezTo>
                  <a:pt x="14402" y="16051"/>
                  <a:pt x="14412" y="16052"/>
                  <a:pt x="14412" y="16123"/>
                </a:cubicBezTo>
                <a:cubicBezTo>
                  <a:pt x="14412" y="16274"/>
                  <a:pt x="14467" y="16566"/>
                  <a:pt x="14387" y="16694"/>
                </a:cubicBezTo>
                <a:cubicBezTo>
                  <a:pt x="14353" y="16749"/>
                  <a:pt x="14337" y="16744"/>
                  <a:pt x="14337" y="16818"/>
                </a:cubicBezTo>
                <a:cubicBezTo>
                  <a:pt x="14299" y="16830"/>
                  <a:pt x="14312" y="16847"/>
                  <a:pt x="14312" y="16892"/>
                </a:cubicBezTo>
                <a:cubicBezTo>
                  <a:pt x="14312" y="16917"/>
                  <a:pt x="14312" y="16941"/>
                  <a:pt x="14312" y="16966"/>
                </a:cubicBezTo>
                <a:cubicBezTo>
                  <a:pt x="14273" y="16976"/>
                  <a:pt x="14249" y="17004"/>
                  <a:pt x="14213" y="17016"/>
                </a:cubicBezTo>
                <a:cubicBezTo>
                  <a:pt x="14173" y="17029"/>
                  <a:pt x="14203" y="17028"/>
                  <a:pt x="14163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75000" y="6232680"/>
            <a:ext cx="911160" cy="260280"/>
          </a:xfrm>
          <a:custGeom>
            <a:avLst/>
            <a:gdLst/>
            <a:ahLst/>
            <a:rect l="l" t="t" r="r" b="b"/>
            <a:pathLst>
              <a:path w="2531" h="720">
                <a:moveTo>
                  <a:pt x="9376" y="17438"/>
                </a:moveTo>
                <a:cubicBezTo>
                  <a:pt x="9376" y="17570"/>
                  <a:pt x="9376" y="17703"/>
                  <a:pt x="9376" y="17835"/>
                </a:cubicBezTo>
              </a:path>
              <a:path w="2531" h="720">
                <a:moveTo>
                  <a:pt x="9823" y="17438"/>
                </a:moveTo>
                <a:cubicBezTo>
                  <a:pt x="9810" y="17387"/>
                  <a:pt x="9765" y="17389"/>
                  <a:pt x="9748" y="17363"/>
                </a:cubicBezTo>
                <a:cubicBezTo>
                  <a:pt x="9722" y="17323"/>
                  <a:pt x="9734" y="17314"/>
                  <a:pt x="9674" y="17314"/>
                </a:cubicBezTo>
                <a:cubicBezTo>
                  <a:pt x="9623" y="17314"/>
                  <a:pt x="9620" y="17309"/>
                  <a:pt x="9599" y="17338"/>
                </a:cubicBezTo>
                <a:cubicBezTo>
                  <a:pt x="9571" y="17376"/>
                  <a:pt x="9575" y="17391"/>
                  <a:pt x="9575" y="17438"/>
                </a:cubicBezTo>
                <a:cubicBezTo>
                  <a:pt x="9630" y="17438"/>
                  <a:pt x="9673" y="17432"/>
                  <a:pt x="9723" y="17462"/>
                </a:cubicBezTo>
                <a:cubicBezTo>
                  <a:pt x="9751" y="17490"/>
                  <a:pt x="9765" y="17499"/>
                  <a:pt x="9798" y="17487"/>
                </a:cubicBezTo>
                <a:cubicBezTo>
                  <a:pt x="9816" y="17543"/>
                  <a:pt x="9828" y="17556"/>
                  <a:pt x="9872" y="17611"/>
                </a:cubicBezTo>
                <a:cubicBezTo>
                  <a:pt x="9902" y="17648"/>
                  <a:pt x="9897" y="17663"/>
                  <a:pt x="9897" y="17711"/>
                </a:cubicBezTo>
                <a:cubicBezTo>
                  <a:pt x="9897" y="17805"/>
                  <a:pt x="9891" y="17794"/>
                  <a:pt x="9847" y="17859"/>
                </a:cubicBezTo>
                <a:cubicBezTo>
                  <a:pt x="9826" y="17890"/>
                  <a:pt x="9825" y="17884"/>
                  <a:pt x="9773" y="17884"/>
                </a:cubicBezTo>
                <a:cubicBezTo>
                  <a:pt x="9748" y="17884"/>
                  <a:pt x="9740" y="17884"/>
                  <a:pt x="9723" y="17884"/>
                </a:cubicBezTo>
                <a:cubicBezTo>
                  <a:pt x="9723" y="17824"/>
                  <a:pt x="9708" y="17755"/>
                  <a:pt x="9748" y="17711"/>
                </a:cubicBezTo>
                <a:cubicBezTo>
                  <a:pt x="9774" y="17682"/>
                  <a:pt x="9813" y="17647"/>
                  <a:pt x="9847" y="17636"/>
                </a:cubicBezTo>
                <a:cubicBezTo>
                  <a:pt x="9879" y="17625"/>
                  <a:pt x="9877" y="17596"/>
                  <a:pt x="9897" y="17587"/>
                </a:cubicBezTo>
                <a:cubicBezTo>
                  <a:pt x="9932" y="17570"/>
                  <a:pt x="9922" y="17560"/>
                  <a:pt x="9922" y="17512"/>
                </a:cubicBezTo>
                <a:cubicBezTo>
                  <a:pt x="9922" y="17457"/>
                  <a:pt x="9929" y="17437"/>
                  <a:pt x="9897" y="17413"/>
                </a:cubicBezTo>
                <a:cubicBezTo>
                  <a:pt x="9873" y="17395"/>
                  <a:pt x="9831" y="17342"/>
                  <a:pt x="9823" y="17338"/>
                </a:cubicBezTo>
                <a:cubicBezTo>
                  <a:pt x="9815" y="17338"/>
                  <a:pt x="9806" y="17338"/>
                  <a:pt x="9798" y="17338"/>
                </a:cubicBezTo>
              </a:path>
              <a:path w="2531" h="720">
                <a:moveTo>
                  <a:pt x="10344" y="17338"/>
                </a:moveTo>
                <a:cubicBezTo>
                  <a:pt x="10259" y="17338"/>
                  <a:pt x="10171" y="17340"/>
                  <a:pt x="10120" y="17363"/>
                </a:cubicBezTo>
                <a:cubicBezTo>
                  <a:pt x="10104" y="17370"/>
                  <a:pt x="10060" y="17385"/>
                  <a:pt x="10046" y="17413"/>
                </a:cubicBezTo>
                <a:cubicBezTo>
                  <a:pt x="10030" y="17446"/>
                  <a:pt x="10021" y="17438"/>
                  <a:pt x="10021" y="17487"/>
                </a:cubicBezTo>
                <a:cubicBezTo>
                  <a:pt x="10021" y="17520"/>
                  <a:pt x="10021" y="17554"/>
                  <a:pt x="10021" y="17587"/>
                </a:cubicBezTo>
                <a:cubicBezTo>
                  <a:pt x="10073" y="17587"/>
                  <a:pt x="10243" y="17614"/>
                  <a:pt x="10269" y="17562"/>
                </a:cubicBezTo>
                <a:cubicBezTo>
                  <a:pt x="10279" y="17542"/>
                  <a:pt x="10287" y="17482"/>
                  <a:pt x="10294" y="17462"/>
                </a:cubicBezTo>
                <a:cubicBezTo>
                  <a:pt x="10300" y="17444"/>
                  <a:pt x="10294" y="17301"/>
                  <a:pt x="10294" y="17363"/>
                </a:cubicBezTo>
                <a:cubicBezTo>
                  <a:pt x="10294" y="17562"/>
                  <a:pt x="10294" y="17760"/>
                  <a:pt x="10294" y="17959"/>
                </a:cubicBezTo>
              </a:path>
              <a:path w="2531" h="720">
                <a:moveTo>
                  <a:pt x="10616" y="17711"/>
                </a:moveTo>
                <a:cubicBezTo>
                  <a:pt x="10657" y="17711"/>
                  <a:pt x="10699" y="17711"/>
                  <a:pt x="10740" y="17711"/>
                </a:cubicBezTo>
                <a:cubicBezTo>
                  <a:pt x="10753" y="17673"/>
                  <a:pt x="10770" y="17686"/>
                  <a:pt x="10815" y="17686"/>
                </a:cubicBezTo>
                <a:cubicBezTo>
                  <a:pt x="10873" y="17686"/>
                  <a:pt x="10930" y="17686"/>
                  <a:pt x="10988" y="17686"/>
                </a:cubicBezTo>
              </a:path>
              <a:path w="2531" h="720">
                <a:moveTo>
                  <a:pt x="11311" y="17512"/>
                </a:moveTo>
                <a:cubicBezTo>
                  <a:pt x="11269" y="17498"/>
                  <a:pt x="11280" y="17472"/>
                  <a:pt x="11311" y="17438"/>
                </a:cubicBezTo>
                <a:cubicBezTo>
                  <a:pt x="11340" y="17406"/>
                  <a:pt x="11368" y="17368"/>
                  <a:pt x="11410" y="17363"/>
                </a:cubicBezTo>
                <a:cubicBezTo>
                  <a:pt x="11434" y="17360"/>
                  <a:pt x="11461" y="17363"/>
                  <a:pt x="11485" y="17363"/>
                </a:cubicBezTo>
                <a:cubicBezTo>
                  <a:pt x="11485" y="17456"/>
                  <a:pt x="11497" y="17581"/>
                  <a:pt x="11460" y="17636"/>
                </a:cubicBezTo>
                <a:cubicBezTo>
                  <a:pt x="11421" y="17694"/>
                  <a:pt x="11422" y="17683"/>
                  <a:pt x="11385" y="17711"/>
                </a:cubicBezTo>
                <a:cubicBezTo>
                  <a:pt x="11360" y="17730"/>
                  <a:pt x="11298" y="17792"/>
                  <a:pt x="11286" y="17810"/>
                </a:cubicBezTo>
                <a:cubicBezTo>
                  <a:pt x="11270" y="17834"/>
                  <a:pt x="11222" y="17839"/>
                  <a:pt x="11212" y="17859"/>
                </a:cubicBezTo>
                <a:cubicBezTo>
                  <a:pt x="11195" y="17892"/>
                  <a:pt x="11145" y="17943"/>
                  <a:pt x="11137" y="17959"/>
                </a:cubicBezTo>
                <a:cubicBezTo>
                  <a:pt x="11126" y="17981"/>
                  <a:pt x="11118" y="18008"/>
                  <a:pt x="11112" y="18033"/>
                </a:cubicBezTo>
                <a:cubicBezTo>
                  <a:pt x="11159" y="18001"/>
                  <a:pt x="11213" y="17980"/>
                  <a:pt x="11261" y="17959"/>
                </a:cubicBezTo>
                <a:cubicBezTo>
                  <a:pt x="11316" y="17935"/>
                  <a:pt x="11327" y="17909"/>
                  <a:pt x="11385" y="17909"/>
                </a:cubicBezTo>
                <a:cubicBezTo>
                  <a:pt x="11435" y="17909"/>
                  <a:pt x="11484" y="17909"/>
                  <a:pt x="11534" y="17909"/>
                </a:cubicBezTo>
              </a:path>
              <a:path w="2531" h="720">
                <a:moveTo>
                  <a:pt x="11906" y="17438"/>
                </a:moveTo>
                <a:cubicBezTo>
                  <a:pt x="11906" y="17395"/>
                  <a:pt x="11901" y="17378"/>
                  <a:pt x="11857" y="17363"/>
                </a:cubicBezTo>
                <a:cubicBezTo>
                  <a:pt x="11819" y="17350"/>
                  <a:pt x="11836" y="17338"/>
                  <a:pt x="11782" y="17338"/>
                </a:cubicBezTo>
                <a:cubicBezTo>
                  <a:pt x="11717" y="17338"/>
                  <a:pt x="11638" y="17324"/>
                  <a:pt x="11609" y="17363"/>
                </a:cubicBezTo>
                <a:cubicBezTo>
                  <a:pt x="11581" y="17401"/>
                  <a:pt x="11584" y="17414"/>
                  <a:pt x="11584" y="17462"/>
                </a:cubicBezTo>
                <a:cubicBezTo>
                  <a:pt x="11584" y="17495"/>
                  <a:pt x="11584" y="17512"/>
                  <a:pt x="11584" y="17537"/>
                </a:cubicBezTo>
                <a:cubicBezTo>
                  <a:pt x="11648" y="17553"/>
                  <a:pt x="11699" y="17593"/>
                  <a:pt x="11757" y="17636"/>
                </a:cubicBezTo>
                <a:cubicBezTo>
                  <a:pt x="11792" y="17662"/>
                  <a:pt x="11842" y="17670"/>
                  <a:pt x="11857" y="17711"/>
                </a:cubicBezTo>
                <a:cubicBezTo>
                  <a:pt x="11874" y="17756"/>
                  <a:pt x="11881" y="17760"/>
                  <a:pt x="11881" y="17810"/>
                </a:cubicBezTo>
                <a:cubicBezTo>
                  <a:pt x="11881" y="17862"/>
                  <a:pt x="11901" y="17970"/>
                  <a:pt x="11857" y="18008"/>
                </a:cubicBezTo>
                <a:cubicBezTo>
                  <a:pt x="11835" y="18027"/>
                  <a:pt x="11824" y="18033"/>
                  <a:pt x="11782" y="18033"/>
                </a:cubicBezTo>
                <a:cubicBezTo>
                  <a:pt x="11757" y="18033"/>
                  <a:pt x="11749" y="18033"/>
                  <a:pt x="11733" y="18033"/>
                </a:cubicBezTo>
                <a:cubicBezTo>
                  <a:pt x="11733" y="17926"/>
                  <a:pt x="11733" y="17885"/>
                  <a:pt x="11782" y="17810"/>
                </a:cubicBezTo>
                <a:cubicBezTo>
                  <a:pt x="11797" y="17787"/>
                  <a:pt x="11848" y="17749"/>
                  <a:pt x="11857" y="17735"/>
                </a:cubicBezTo>
                <a:cubicBezTo>
                  <a:pt x="11875" y="17709"/>
                  <a:pt x="11881" y="17705"/>
                  <a:pt x="11881" y="17661"/>
                </a:cubicBezTo>
                <a:cubicBezTo>
                  <a:pt x="11881" y="17603"/>
                  <a:pt x="11881" y="17545"/>
                  <a:pt x="11881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37080" y="6384960"/>
            <a:ext cx="133200" cy="6192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12601" y="17735"/>
                </a:moveTo>
                <a:cubicBezTo>
                  <a:pt x="12725" y="17735"/>
                  <a:pt x="12849" y="17735"/>
                  <a:pt x="12973" y="17735"/>
                </a:cubicBezTo>
              </a:path>
              <a:path w="373" h="175">
                <a:moveTo>
                  <a:pt x="12626" y="17909"/>
                </a:moveTo>
                <a:cubicBezTo>
                  <a:pt x="12725" y="17909"/>
                  <a:pt x="12824" y="17909"/>
                  <a:pt x="12923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57840" y="6276960"/>
            <a:ext cx="3222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13494" y="17462"/>
                </a:moveTo>
                <a:cubicBezTo>
                  <a:pt x="13494" y="17702"/>
                  <a:pt x="13494" y="17942"/>
                  <a:pt x="13494" y="18182"/>
                </a:cubicBezTo>
              </a:path>
              <a:path w="894" h="745">
                <a:moveTo>
                  <a:pt x="13841" y="17438"/>
                </a:moveTo>
                <a:cubicBezTo>
                  <a:pt x="13829" y="17496"/>
                  <a:pt x="13787" y="17536"/>
                  <a:pt x="13767" y="17587"/>
                </a:cubicBezTo>
                <a:cubicBezTo>
                  <a:pt x="13752" y="17624"/>
                  <a:pt x="13721" y="17673"/>
                  <a:pt x="13717" y="17711"/>
                </a:cubicBezTo>
                <a:cubicBezTo>
                  <a:pt x="13709" y="17778"/>
                  <a:pt x="13698" y="17911"/>
                  <a:pt x="13742" y="17959"/>
                </a:cubicBezTo>
                <a:cubicBezTo>
                  <a:pt x="13758" y="17977"/>
                  <a:pt x="13808" y="18053"/>
                  <a:pt x="13816" y="18058"/>
                </a:cubicBezTo>
                <a:cubicBezTo>
                  <a:pt x="13897" y="18112"/>
                  <a:pt x="14094" y="18039"/>
                  <a:pt x="14139" y="18008"/>
                </a:cubicBezTo>
                <a:cubicBezTo>
                  <a:pt x="14172" y="17985"/>
                  <a:pt x="14207" y="17988"/>
                  <a:pt x="14213" y="17934"/>
                </a:cubicBezTo>
                <a:cubicBezTo>
                  <a:pt x="14219" y="17878"/>
                  <a:pt x="14218" y="17833"/>
                  <a:pt x="14188" y="17810"/>
                </a:cubicBezTo>
                <a:cubicBezTo>
                  <a:pt x="14128" y="17765"/>
                  <a:pt x="14186" y="17760"/>
                  <a:pt x="14089" y="17760"/>
                </a:cubicBezTo>
                <a:cubicBezTo>
                  <a:pt x="14048" y="17760"/>
                  <a:pt x="13962" y="17742"/>
                  <a:pt x="13940" y="17785"/>
                </a:cubicBezTo>
                <a:cubicBezTo>
                  <a:pt x="13906" y="17853"/>
                  <a:pt x="13940" y="18025"/>
                  <a:pt x="13940" y="18107"/>
                </a:cubicBezTo>
              </a:path>
              <a:path w="894" h="745">
                <a:moveTo>
                  <a:pt x="14387" y="17512"/>
                </a:moveTo>
                <a:cubicBezTo>
                  <a:pt x="14387" y="17710"/>
                  <a:pt x="14387" y="17909"/>
                  <a:pt x="14387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73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7:56:50Z</dcterms:created>
  <dc:creator>ccps</dc:creator>
  <dc:description/>
  <dc:language>en-US</dc:language>
  <cp:lastModifiedBy>deanne elizabeth mcgrath</cp:lastModifiedBy>
  <dcterms:modified xsi:type="dcterms:W3CDTF">2011-01-10T17:45:19Z</dcterms:modified>
  <cp:revision>10</cp:revision>
  <dc:subject/>
  <dc:title>Obj 2.4: To multiply integers.</dc:title>
</cp:coreProperties>
</file>